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8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11.png" ContentType="image/png"/>
  <Override PartName="/ppt/media/image19.jpeg" ContentType="image/jpe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15238413" cy="9525000"/>
  <p:notesSz cx="6792913" cy="99218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0"/>
            <a:ext cx="6793200" cy="992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51280" cy="4618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ko-KR" sz="1200" spc="-1" strike="noStrike">
                <a:solidFill>
                  <a:srgbClr val="ffffff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dt" idx="7"/>
          </p:nvPr>
        </p:nvSpPr>
        <p:spPr>
          <a:xfrm>
            <a:off x="3882960" y="-360"/>
            <a:ext cx="2874960" cy="4618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ctr">
            <a:noAutofit/>
          </a:bodyPr>
          <a:lstStyle>
            <a:lvl1pPr indent="0" algn="r">
              <a:lnSpc>
                <a:spcPct val="9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1" lang="ko-KR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9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ko-KR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sldImg"/>
          </p:nvPr>
        </p:nvSpPr>
        <p:spPr>
          <a:xfrm>
            <a:off x="460440" y="767880"/>
            <a:ext cx="5914800" cy="369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1414440"/>
                <a:tab algn="l" pos="2828880"/>
                <a:tab algn="l" pos="4243320"/>
                <a:tab algn="l" pos="5657760"/>
                <a:tab algn="l" pos="7072200"/>
                <a:tab algn="l" pos="8486640"/>
                <a:tab algn="l" pos="9901080"/>
              </a:tabLst>
            </a:pPr>
            <a:r>
              <a:rPr b="0" lang="en-US" sz="6800" spc="-1" strike="noStrike">
                <a:solidFill>
                  <a:srgbClr val="e3e3ff"/>
                </a:solidFill>
                <a:latin typeface="굴림"/>
              </a:rPr>
              <a:t>Click to move the slide</a:t>
            </a:r>
            <a:endParaRPr b="0" lang="en-US" sz="6800" spc="-1" strike="noStrike">
              <a:solidFill>
                <a:srgbClr val="e3e3ff"/>
              </a:solidFill>
              <a:latin typeface="굴림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0" y="9392760"/>
            <a:ext cx="2951280" cy="5382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1" lang="ko-KR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ko-KR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34200" cy="446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068480" y="307800"/>
            <a:ext cx="4686120" cy="2930760"/>
          </a:xfrm>
          <a:prstGeom prst="rect">
            <a:avLst/>
          </a:prstGeom>
          <a:ln w="0">
            <a:noFill/>
          </a:ln>
        </p:spPr>
      </p:sp>
      <p:sp>
        <p:nvSpPr>
          <p:cNvPr id="242" name=""/>
          <p:cNvSpPr/>
          <p:nvPr/>
        </p:nvSpPr>
        <p:spPr>
          <a:xfrm>
            <a:off x="157320" y="3492360"/>
            <a:ext cx="6724440" cy="642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t">
            <a:noAutofit/>
          </a:bodyPr>
          <a:p>
            <a:pPr>
              <a:lnSpc>
                <a:spcPct val="100000"/>
              </a:lnSpc>
              <a:spcBef>
                <a:spcPts val="938"/>
              </a:spcBef>
              <a:buClr>
                <a:srgbClr val="000000"/>
              </a:buClr>
              <a:buFont typeface="Wingdings 2" charset="2"/>
              <a:buChar char=""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zh-CN" sz="2500" spc="-1" strike="noStrike">
                <a:solidFill>
                  <a:srgbClr val="ffffff"/>
                </a:solidFill>
                <a:latin typeface="굴림"/>
              </a:rPr>
              <a:t>다음은 부대관리입니다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▲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학교 및 학군단 장병을 관리함에 있어서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규정과 방침에 의한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업무수행 풍토를 조성하고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불필요한 관행을 타파하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낭비요소를 최소화 하고 있으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▲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학군사관 후보생의 건전문화 정착을 위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불합리한 관행이 재연될 소지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사전에 차단 할 수 있도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주기적인 확인점검을 실시하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▲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후보생 대토론회를 개최하여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공감대를  형성하는 등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38"/>
              </a:spcBef>
              <a:buClr>
                <a:srgbClr val="000000"/>
              </a:buClr>
              <a:buFont typeface="Wingdings 2" charset="2"/>
              <a:buChar char=""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zh-CN" sz="2500" spc="-1" strike="noStrike">
                <a:solidFill>
                  <a:srgbClr val="ffffff"/>
                </a:solidFill>
                <a:latin typeface="굴림"/>
              </a:rPr>
              <a:t>기초와 기본에 충실한 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38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zh-CN" sz="2500" spc="-1" strike="noStrike">
                <a:solidFill>
                  <a:srgbClr val="ffffff"/>
                </a:solidFill>
                <a:latin typeface="굴림"/>
              </a:rPr>
              <a:t>올바른 업무수행 문화를 정착시키고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38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zh-CN" sz="2500" spc="-1" strike="noStrike">
                <a:solidFill>
                  <a:srgbClr val="ffffff"/>
                </a:solidFill>
                <a:latin typeface="굴림"/>
              </a:rPr>
              <a:t>있습니다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38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068480" y="307800"/>
            <a:ext cx="4686120" cy="2930760"/>
          </a:xfrm>
          <a:prstGeom prst="rect">
            <a:avLst/>
          </a:prstGeom>
          <a:ln w="0">
            <a:noFill/>
          </a:ln>
        </p:spPr>
      </p:sp>
      <p:sp>
        <p:nvSpPr>
          <p:cNvPr id="244" name=""/>
          <p:cNvSpPr/>
          <p:nvPr/>
        </p:nvSpPr>
        <p:spPr>
          <a:xfrm>
            <a:off x="157320" y="3492360"/>
            <a:ext cx="6724440" cy="642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t">
            <a:noAutofit/>
          </a:bodyPr>
          <a:p>
            <a:pPr>
              <a:lnSpc>
                <a:spcPct val="100000"/>
              </a:lnSpc>
              <a:spcBef>
                <a:spcPts val="938"/>
              </a:spcBef>
              <a:buClr>
                <a:srgbClr val="000000"/>
              </a:buClr>
              <a:buFont typeface="Wingdings 2" charset="2"/>
              <a:buChar char=""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zh-CN" sz="2500" spc="-1" strike="noStrike">
                <a:solidFill>
                  <a:srgbClr val="ffffff"/>
                </a:solidFill>
                <a:latin typeface="굴림"/>
              </a:rPr>
              <a:t>다음은 부대관리입니다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▲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학교 및 학군단 장병을 관리함에 있어서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규정과 방침에 의한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업무수행 풍토를 조성하고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불필요한 관행을 타파하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낭비요소를 최소화 하고 있으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▲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학군사관 후보생의 건전문화 정착을 위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불합리한 관행이 재연될 소지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사전에 차단 할 수 있도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주기적인 확인점검을 실시하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▲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후보생 대토론회를 개최하여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공감대를  형성하는 등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38"/>
              </a:spcBef>
              <a:buClr>
                <a:srgbClr val="000000"/>
              </a:buClr>
              <a:buFont typeface="Wingdings 2" charset="2"/>
              <a:buChar char=""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zh-CN" sz="2500" spc="-1" strike="noStrike">
                <a:solidFill>
                  <a:srgbClr val="ffffff"/>
                </a:solidFill>
                <a:latin typeface="굴림"/>
              </a:rPr>
              <a:t>기초와 기본에 충실한 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38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zh-CN" sz="2500" spc="-1" strike="noStrike">
                <a:solidFill>
                  <a:srgbClr val="ffffff"/>
                </a:solidFill>
                <a:latin typeface="굴림"/>
              </a:rPr>
              <a:t>올바른 업무수행 문화를 정착시키고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38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zh-CN" sz="2500" spc="-1" strike="noStrike">
                <a:solidFill>
                  <a:srgbClr val="ffffff"/>
                </a:solidFill>
                <a:latin typeface="굴림"/>
              </a:rPr>
              <a:t>있습니다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38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068480" y="307800"/>
            <a:ext cx="4686120" cy="2930760"/>
          </a:xfrm>
          <a:prstGeom prst="rect">
            <a:avLst/>
          </a:prstGeom>
          <a:ln w="0">
            <a:noFill/>
          </a:ln>
        </p:spPr>
      </p:sp>
      <p:sp>
        <p:nvSpPr>
          <p:cNvPr id="246" name=""/>
          <p:cNvSpPr/>
          <p:nvPr/>
        </p:nvSpPr>
        <p:spPr>
          <a:xfrm>
            <a:off x="157320" y="3492360"/>
            <a:ext cx="6724440" cy="642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t">
            <a:noAutofit/>
          </a:bodyPr>
          <a:p>
            <a:pPr>
              <a:lnSpc>
                <a:spcPct val="100000"/>
              </a:lnSpc>
              <a:spcBef>
                <a:spcPts val="938"/>
              </a:spcBef>
              <a:buClr>
                <a:srgbClr val="000000"/>
              </a:buClr>
              <a:buFont typeface="Wingdings 2" charset="2"/>
              <a:buChar char=""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zh-CN" sz="2500" spc="-1" strike="noStrike">
                <a:solidFill>
                  <a:srgbClr val="ffffff"/>
                </a:solidFill>
                <a:latin typeface="굴림"/>
              </a:rPr>
              <a:t>다음은 부대관리입니다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▲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학교 및 학군단 장병을 관리함에 있어서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규정과 방침에 의한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업무수행 풍토를 조성하고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불필요한 관행을 타파하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낭비요소를 최소화 하고 있으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▲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학군사관 후보생의 건전문화 정착을 위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불합리한 관행이 재연될 소지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사전에 차단 할 수 있도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주기적인 확인점검을 실시하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▲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후보생 대토론회를 개최하여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공감대를  형성하는 등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38"/>
              </a:spcBef>
              <a:buClr>
                <a:srgbClr val="000000"/>
              </a:buClr>
              <a:buFont typeface="Wingdings 2" charset="2"/>
              <a:buChar char=""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zh-CN" sz="2500" spc="-1" strike="noStrike">
                <a:solidFill>
                  <a:srgbClr val="ffffff"/>
                </a:solidFill>
                <a:latin typeface="굴림"/>
              </a:rPr>
              <a:t>기초와 기본에 충실한 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38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zh-CN" sz="2500" spc="-1" strike="noStrike">
                <a:solidFill>
                  <a:srgbClr val="ffffff"/>
                </a:solidFill>
                <a:latin typeface="굴림"/>
              </a:rPr>
              <a:t>올바른 업무수행 문화를 정착시키고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38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zh-CN" sz="2500" spc="-1" strike="noStrike">
                <a:solidFill>
                  <a:srgbClr val="ffffff"/>
                </a:solidFill>
                <a:latin typeface="굴림"/>
              </a:rPr>
              <a:t>있습니다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38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068480" y="307800"/>
            <a:ext cx="4686120" cy="2930760"/>
          </a:xfrm>
          <a:prstGeom prst="rect">
            <a:avLst/>
          </a:prstGeom>
          <a:ln w="0">
            <a:noFill/>
          </a:ln>
        </p:spPr>
      </p:sp>
      <p:sp>
        <p:nvSpPr>
          <p:cNvPr id="248" name=""/>
          <p:cNvSpPr/>
          <p:nvPr/>
        </p:nvSpPr>
        <p:spPr>
          <a:xfrm>
            <a:off x="157320" y="3492360"/>
            <a:ext cx="6724440" cy="642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t">
            <a:noAutofit/>
          </a:bodyPr>
          <a:p>
            <a:pPr>
              <a:lnSpc>
                <a:spcPct val="100000"/>
              </a:lnSpc>
              <a:spcBef>
                <a:spcPts val="938"/>
              </a:spcBef>
              <a:buClr>
                <a:srgbClr val="000000"/>
              </a:buClr>
              <a:buFont typeface="Wingdings 2" charset="2"/>
              <a:buChar char=""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zh-CN" sz="2500" spc="-1" strike="noStrike">
                <a:solidFill>
                  <a:srgbClr val="ffffff"/>
                </a:solidFill>
                <a:latin typeface="굴림"/>
              </a:rPr>
              <a:t>다음은 부대관리입니다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▲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학교 및 학군단 장병을 관리함에 있어서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규정과 방침에 의한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업무수행 풍토를 조성하고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불필요한 관행을 타파하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낭비요소를 최소화 하고 있으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▲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학군사관 후보생의 건전문화 정착을 위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불합리한 관행이 재연될 소지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사전에 차단 할 수 있도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주기적인 확인점검을 실시하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▲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후보생 대토론회를 개최하여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공감대를  형성하는 등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38"/>
              </a:spcBef>
              <a:buClr>
                <a:srgbClr val="000000"/>
              </a:buClr>
              <a:buFont typeface="Wingdings 2" charset="2"/>
              <a:buChar char=""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zh-CN" sz="2500" spc="-1" strike="noStrike">
                <a:solidFill>
                  <a:srgbClr val="ffffff"/>
                </a:solidFill>
                <a:latin typeface="굴림"/>
              </a:rPr>
              <a:t>기초와 기본에 충실한 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38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zh-CN" sz="2500" spc="-1" strike="noStrike">
                <a:solidFill>
                  <a:srgbClr val="ffffff"/>
                </a:solidFill>
                <a:latin typeface="굴림"/>
              </a:rPr>
              <a:t>올바른 업무수행 문화를 정착시키고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38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zh-CN" sz="2500" spc="-1" strike="noStrike">
                <a:solidFill>
                  <a:srgbClr val="ffffff"/>
                </a:solidFill>
                <a:latin typeface="굴림"/>
              </a:rPr>
              <a:t>있습니다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38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068480" y="307800"/>
            <a:ext cx="4686120" cy="2930760"/>
          </a:xfrm>
          <a:prstGeom prst="rect">
            <a:avLst/>
          </a:prstGeom>
          <a:ln w="0">
            <a:noFill/>
          </a:ln>
        </p:spPr>
      </p:sp>
      <p:sp>
        <p:nvSpPr>
          <p:cNvPr id="250" name=""/>
          <p:cNvSpPr/>
          <p:nvPr/>
        </p:nvSpPr>
        <p:spPr>
          <a:xfrm>
            <a:off x="157320" y="3492360"/>
            <a:ext cx="6724440" cy="642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t">
            <a:noAutofit/>
          </a:bodyPr>
          <a:p>
            <a:pPr>
              <a:lnSpc>
                <a:spcPct val="100000"/>
              </a:lnSpc>
              <a:spcBef>
                <a:spcPts val="938"/>
              </a:spcBef>
              <a:buClr>
                <a:srgbClr val="000000"/>
              </a:buClr>
              <a:buFont typeface="Wingdings 2" charset="2"/>
              <a:buChar char=""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zh-CN" sz="2500" spc="-1" strike="noStrike">
                <a:solidFill>
                  <a:srgbClr val="ffffff"/>
                </a:solidFill>
                <a:latin typeface="굴림"/>
              </a:rPr>
              <a:t>다음은 부대관리입니다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▲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학교 및 학군단 장병을 관리함에 있어서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규정과 방침에 의한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업무수행 풍토를 조성하고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불필요한 관행을 타파하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낭비요소를 최소화 하고 있으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▲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학군사관 후보생의 건전문화 정착을 위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불합리한 관행이 재연될 소지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사전에 차단 할 수 있도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주기적인 확인점검을 실시하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▲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후보생 대토론회를 개최하여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공감대를  형성하는 등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38"/>
              </a:spcBef>
              <a:buClr>
                <a:srgbClr val="000000"/>
              </a:buClr>
              <a:buFont typeface="Wingdings 2" charset="2"/>
              <a:buChar char=""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zh-CN" sz="2500" spc="-1" strike="noStrike">
                <a:solidFill>
                  <a:srgbClr val="ffffff"/>
                </a:solidFill>
                <a:latin typeface="굴림"/>
              </a:rPr>
              <a:t>기초와 기본에 충실한 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38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zh-CN" sz="2500" spc="-1" strike="noStrike">
                <a:solidFill>
                  <a:srgbClr val="ffffff"/>
                </a:solidFill>
                <a:latin typeface="굴림"/>
              </a:rPr>
              <a:t>올바른 업무수행 문화를 정착시키고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38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zh-CN" sz="2500" spc="-1" strike="noStrike">
                <a:solidFill>
                  <a:srgbClr val="ffffff"/>
                </a:solidFill>
                <a:latin typeface="굴림"/>
              </a:rPr>
              <a:t>있습니다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38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068480" y="307800"/>
            <a:ext cx="4686120" cy="2930760"/>
          </a:xfrm>
          <a:prstGeom prst="rect">
            <a:avLst/>
          </a:prstGeom>
          <a:ln w="0">
            <a:noFill/>
          </a:ln>
        </p:spPr>
      </p:sp>
      <p:sp>
        <p:nvSpPr>
          <p:cNvPr id="252" name=""/>
          <p:cNvSpPr/>
          <p:nvPr/>
        </p:nvSpPr>
        <p:spPr>
          <a:xfrm>
            <a:off x="157320" y="3492360"/>
            <a:ext cx="6724440" cy="642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t">
            <a:noAutofit/>
          </a:bodyPr>
          <a:p>
            <a:pPr>
              <a:lnSpc>
                <a:spcPct val="100000"/>
              </a:lnSpc>
              <a:spcBef>
                <a:spcPts val="938"/>
              </a:spcBef>
              <a:buClr>
                <a:srgbClr val="000000"/>
              </a:buClr>
              <a:buFont typeface="Wingdings 2" charset="2"/>
              <a:buChar char=""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zh-CN" sz="2500" spc="-1" strike="noStrike">
                <a:solidFill>
                  <a:srgbClr val="ffffff"/>
                </a:solidFill>
                <a:latin typeface="굴림"/>
              </a:rPr>
              <a:t>다음은 부대관리입니다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▲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학교 및 학군단 장병을 관리함에 있어서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규정과 방침에 의한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업무수행 풍토를 조성하고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불필요한 관행을 타파하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낭비요소를 최소화 하고 있으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▲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학군사관 후보생의 건전문화 정착을 위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불합리한 관행이 재연될 소지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사전에 차단 할 수 있도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주기적인 확인점검을 실시하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▲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후보생 대토론회를 개최하여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공감대를  형성하는 등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38"/>
              </a:spcBef>
              <a:buClr>
                <a:srgbClr val="000000"/>
              </a:buClr>
              <a:buFont typeface="Wingdings 2" charset="2"/>
              <a:buChar char=""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zh-CN" sz="2500" spc="-1" strike="noStrike">
                <a:solidFill>
                  <a:srgbClr val="ffffff"/>
                </a:solidFill>
                <a:latin typeface="굴림"/>
              </a:rPr>
              <a:t>기초와 기본에 충실한 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38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zh-CN" sz="2500" spc="-1" strike="noStrike">
                <a:solidFill>
                  <a:srgbClr val="ffffff"/>
                </a:solidFill>
                <a:latin typeface="굴림"/>
              </a:rPr>
              <a:t>올바른 업무수행 문화를 정착시키고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38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zh-CN" sz="2500" spc="-1" strike="noStrike">
                <a:solidFill>
                  <a:srgbClr val="ffffff"/>
                </a:solidFill>
                <a:latin typeface="굴림"/>
              </a:rPr>
              <a:t>있습니다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38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068480" y="307800"/>
            <a:ext cx="4686120" cy="2930760"/>
          </a:xfrm>
          <a:prstGeom prst="rect">
            <a:avLst/>
          </a:prstGeom>
          <a:ln w="0">
            <a:noFill/>
          </a:ln>
        </p:spPr>
      </p:sp>
      <p:sp>
        <p:nvSpPr>
          <p:cNvPr id="254" name=""/>
          <p:cNvSpPr/>
          <p:nvPr/>
        </p:nvSpPr>
        <p:spPr>
          <a:xfrm>
            <a:off x="157320" y="3492360"/>
            <a:ext cx="6724440" cy="642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t">
            <a:noAutofit/>
          </a:bodyPr>
          <a:p>
            <a:pPr>
              <a:lnSpc>
                <a:spcPct val="100000"/>
              </a:lnSpc>
              <a:spcBef>
                <a:spcPts val="938"/>
              </a:spcBef>
              <a:buClr>
                <a:srgbClr val="000000"/>
              </a:buClr>
              <a:buFont typeface="Wingdings 2" charset="2"/>
              <a:buChar char=""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zh-CN" sz="2500" spc="-1" strike="noStrike">
                <a:solidFill>
                  <a:srgbClr val="ffffff"/>
                </a:solidFill>
                <a:latin typeface="굴림"/>
              </a:rPr>
              <a:t>다음은 부대관리입니다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▲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학교 및 학군단 장병을 관리함에 있어서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규정과 방침에 의한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업무수행 풍토를 조성하고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불필요한 관행을 타파하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낭비요소를 최소화 하고 있으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▲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학군사관 후보생의 건전문화 정착을 위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불합리한 관행이 재연될 소지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사전에 차단 할 수 있도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주기적인 확인점검을 실시하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▲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후보생 대토론회를 개최하여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공감대를  형성하는 등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38"/>
              </a:spcBef>
              <a:buClr>
                <a:srgbClr val="000000"/>
              </a:buClr>
              <a:buFont typeface="Wingdings 2" charset="2"/>
              <a:buChar char=""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zh-CN" sz="2500" spc="-1" strike="noStrike">
                <a:solidFill>
                  <a:srgbClr val="ffffff"/>
                </a:solidFill>
                <a:latin typeface="굴림"/>
              </a:rPr>
              <a:t>기초와 기본에 충실한 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38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zh-CN" sz="2500" spc="-1" strike="noStrike">
                <a:solidFill>
                  <a:srgbClr val="ffffff"/>
                </a:solidFill>
                <a:latin typeface="굴림"/>
              </a:rPr>
              <a:t>올바른 업무수행 문화를 정착시키고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38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zh-CN" sz="2500" spc="-1" strike="noStrike">
                <a:solidFill>
                  <a:srgbClr val="ffffff"/>
                </a:solidFill>
                <a:latin typeface="굴림"/>
              </a:rPr>
              <a:t>있습니다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38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068480" y="307800"/>
            <a:ext cx="4686120" cy="2930760"/>
          </a:xfrm>
          <a:prstGeom prst="rect">
            <a:avLst/>
          </a:prstGeom>
          <a:ln w="0">
            <a:noFill/>
          </a:ln>
        </p:spPr>
      </p:sp>
      <p:sp>
        <p:nvSpPr>
          <p:cNvPr id="256" name=""/>
          <p:cNvSpPr/>
          <p:nvPr/>
        </p:nvSpPr>
        <p:spPr>
          <a:xfrm>
            <a:off x="157320" y="3492360"/>
            <a:ext cx="6724440" cy="642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t">
            <a:noAutofit/>
          </a:bodyPr>
          <a:p>
            <a:pPr>
              <a:lnSpc>
                <a:spcPct val="100000"/>
              </a:lnSpc>
              <a:spcBef>
                <a:spcPts val="938"/>
              </a:spcBef>
              <a:buClr>
                <a:srgbClr val="000000"/>
              </a:buClr>
              <a:buFont typeface="Wingdings 2" charset="2"/>
              <a:buChar char=""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zh-CN" sz="2500" spc="-1" strike="noStrike">
                <a:solidFill>
                  <a:srgbClr val="ffffff"/>
                </a:solidFill>
                <a:latin typeface="굴림"/>
              </a:rPr>
              <a:t>다음은 부대관리입니다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▲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학교 및 학군단 장병을 관리함에 있어서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규정과 방침에 의한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업무수행 풍토를 조성하고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불필요한 관행을 타파하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낭비요소를 최소화 하고 있으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▲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학군사관 후보생의 건전문화 정착을 위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불합리한 관행이 재연될 소지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사전에 차단 할 수 있도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주기적인 확인점검을 실시하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▲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후보생 대토론회를 개최하여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공감대를  형성하는 등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38"/>
              </a:spcBef>
              <a:buClr>
                <a:srgbClr val="000000"/>
              </a:buClr>
              <a:buFont typeface="Wingdings 2" charset="2"/>
              <a:buChar char=""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zh-CN" sz="2500" spc="-1" strike="noStrike">
                <a:solidFill>
                  <a:srgbClr val="ffffff"/>
                </a:solidFill>
                <a:latin typeface="굴림"/>
              </a:rPr>
              <a:t>기초와 기본에 충실한 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38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zh-CN" sz="2500" spc="-1" strike="noStrike">
                <a:solidFill>
                  <a:srgbClr val="ffffff"/>
                </a:solidFill>
                <a:latin typeface="굴림"/>
              </a:rPr>
              <a:t>올바른 업무수행 문화를 정착시키고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38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zh-CN" sz="2500" spc="-1" strike="noStrike">
                <a:solidFill>
                  <a:srgbClr val="ffffff"/>
                </a:solidFill>
                <a:latin typeface="굴림"/>
              </a:rPr>
              <a:t>있습니다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38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068480" y="307800"/>
            <a:ext cx="4686120" cy="2930760"/>
          </a:xfrm>
          <a:prstGeom prst="rect">
            <a:avLst/>
          </a:prstGeom>
          <a:ln w="0">
            <a:noFill/>
          </a:ln>
        </p:spPr>
      </p:sp>
      <p:sp>
        <p:nvSpPr>
          <p:cNvPr id="258" name=""/>
          <p:cNvSpPr/>
          <p:nvPr/>
        </p:nvSpPr>
        <p:spPr>
          <a:xfrm>
            <a:off x="157320" y="3492360"/>
            <a:ext cx="6724440" cy="642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t">
            <a:noAutofit/>
          </a:bodyPr>
          <a:p>
            <a:pPr>
              <a:lnSpc>
                <a:spcPct val="100000"/>
              </a:lnSpc>
              <a:spcBef>
                <a:spcPts val="938"/>
              </a:spcBef>
              <a:buClr>
                <a:srgbClr val="000000"/>
              </a:buClr>
              <a:buFont typeface="Wingdings 2" charset="2"/>
              <a:buChar char=""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zh-CN" sz="2500" spc="-1" strike="noStrike">
                <a:solidFill>
                  <a:srgbClr val="ffffff"/>
                </a:solidFill>
                <a:latin typeface="굴림"/>
              </a:rPr>
              <a:t>다음은 부대관리입니다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▲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학교 및 학군단 장병을 관리함에 있어서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규정과 방침에 의한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업무수행 풍토를 조성하고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불필요한 관행을 타파하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낭비요소를 최소화 하고 있으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▲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학군사관 후보생의 건전문화 정착을 위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불합리한 관행이 재연될 소지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사전에 차단 할 수 있도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주기적인 확인점검을 실시하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▲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후보생 대토론회를 개최하여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공감대를  형성하는 등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38"/>
              </a:spcBef>
              <a:buClr>
                <a:srgbClr val="000000"/>
              </a:buClr>
              <a:buFont typeface="Wingdings 2" charset="2"/>
              <a:buChar char=""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zh-CN" sz="2500" spc="-1" strike="noStrike">
                <a:solidFill>
                  <a:srgbClr val="ffffff"/>
                </a:solidFill>
                <a:latin typeface="굴림"/>
              </a:rPr>
              <a:t>기초와 기본에 충실한 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38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zh-CN" sz="2500" spc="-1" strike="noStrike">
                <a:solidFill>
                  <a:srgbClr val="ffffff"/>
                </a:solidFill>
                <a:latin typeface="굴림"/>
              </a:rPr>
              <a:t>올바른 업무수행 문화를 정착시키고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38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zh-CN" sz="2500" spc="-1" strike="noStrike">
                <a:solidFill>
                  <a:srgbClr val="ffffff"/>
                </a:solidFill>
                <a:latin typeface="굴림"/>
              </a:rPr>
              <a:t>있습니다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38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068480" y="307800"/>
            <a:ext cx="4686120" cy="2930760"/>
          </a:xfrm>
          <a:prstGeom prst="rect">
            <a:avLst/>
          </a:prstGeom>
          <a:ln w="0">
            <a:noFill/>
          </a:ln>
        </p:spPr>
      </p:sp>
      <p:sp>
        <p:nvSpPr>
          <p:cNvPr id="228" name=""/>
          <p:cNvSpPr/>
          <p:nvPr/>
        </p:nvSpPr>
        <p:spPr>
          <a:xfrm>
            <a:off x="157320" y="3492360"/>
            <a:ext cx="6724440" cy="642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t">
            <a:noAutofit/>
          </a:bodyPr>
          <a:p>
            <a:pPr>
              <a:lnSpc>
                <a:spcPct val="100000"/>
              </a:lnSpc>
              <a:spcBef>
                <a:spcPts val="938"/>
              </a:spcBef>
              <a:buClr>
                <a:srgbClr val="000000"/>
              </a:buClr>
              <a:buFont typeface="Wingdings 2" charset="2"/>
              <a:buChar char=""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zh-CN" sz="2500" spc="-1" strike="noStrike">
                <a:solidFill>
                  <a:srgbClr val="ffffff"/>
                </a:solidFill>
                <a:latin typeface="굴림"/>
              </a:rPr>
              <a:t>다음은 부대관리입니다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▲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학교 및 학군단 장병을 관리함에 있어서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규정과 방침에 의한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업무수행 풍토를 조성하고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불필요한 관행을 타파하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낭비요소를 최소화 하고 있으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▲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학군사관 후보생의 건전문화 정착을 위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불합리한 관행이 재연될 소지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사전에 차단 할 수 있도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주기적인 확인점검을 실시하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▲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후보생 대토론회를 개최하여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공감대를  형성하는 등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38"/>
              </a:spcBef>
              <a:buClr>
                <a:srgbClr val="000000"/>
              </a:buClr>
              <a:buFont typeface="Wingdings 2" charset="2"/>
              <a:buChar char=""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zh-CN" sz="2500" spc="-1" strike="noStrike">
                <a:solidFill>
                  <a:srgbClr val="ffffff"/>
                </a:solidFill>
                <a:latin typeface="굴림"/>
              </a:rPr>
              <a:t>기초와 기본에 충실한 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38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zh-CN" sz="2500" spc="-1" strike="noStrike">
                <a:solidFill>
                  <a:srgbClr val="ffffff"/>
                </a:solidFill>
                <a:latin typeface="굴림"/>
              </a:rPr>
              <a:t>올바른 업무수행 문화를 정착시키고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38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zh-CN" sz="2500" spc="-1" strike="noStrike">
                <a:solidFill>
                  <a:srgbClr val="ffffff"/>
                </a:solidFill>
                <a:latin typeface="굴림"/>
              </a:rPr>
              <a:t>있습니다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38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068480" y="307800"/>
            <a:ext cx="4686120" cy="2930760"/>
          </a:xfrm>
          <a:prstGeom prst="rect">
            <a:avLst/>
          </a:prstGeom>
          <a:ln w="0">
            <a:noFill/>
          </a:ln>
        </p:spPr>
      </p:sp>
      <p:sp>
        <p:nvSpPr>
          <p:cNvPr id="230" name=""/>
          <p:cNvSpPr/>
          <p:nvPr/>
        </p:nvSpPr>
        <p:spPr>
          <a:xfrm>
            <a:off x="157320" y="3492360"/>
            <a:ext cx="6724440" cy="642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t">
            <a:noAutofit/>
          </a:bodyPr>
          <a:p>
            <a:pPr>
              <a:lnSpc>
                <a:spcPct val="100000"/>
              </a:lnSpc>
              <a:spcBef>
                <a:spcPts val="938"/>
              </a:spcBef>
              <a:buClr>
                <a:srgbClr val="000000"/>
              </a:buClr>
              <a:buFont typeface="Wingdings 2" charset="2"/>
              <a:buChar char=""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zh-CN" sz="2500" spc="-1" strike="noStrike">
                <a:solidFill>
                  <a:srgbClr val="ffffff"/>
                </a:solidFill>
                <a:latin typeface="굴림"/>
              </a:rPr>
              <a:t>다음은 부대관리입니다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▲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학교 및 학군단 장병을 관리함에 있어서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규정과 방침에 의한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업무수행 풍토를 조성하고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불필요한 관행을 타파하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낭비요소를 최소화 하고 있으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▲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학군사관 후보생의 건전문화 정착을 위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불합리한 관행이 재연될 소지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사전에 차단 할 수 있도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주기적인 확인점검을 실시하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▲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후보생 대토론회를 개최하여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공감대를  형성하는 등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38"/>
              </a:spcBef>
              <a:buClr>
                <a:srgbClr val="000000"/>
              </a:buClr>
              <a:buFont typeface="Wingdings 2" charset="2"/>
              <a:buChar char=""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zh-CN" sz="2500" spc="-1" strike="noStrike">
                <a:solidFill>
                  <a:srgbClr val="ffffff"/>
                </a:solidFill>
                <a:latin typeface="굴림"/>
              </a:rPr>
              <a:t>기초와 기본에 충실한 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38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zh-CN" sz="2500" spc="-1" strike="noStrike">
                <a:solidFill>
                  <a:srgbClr val="ffffff"/>
                </a:solidFill>
                <a:latin typeface="굴림"/>
              </a:rPr>
              <a:t>올바른 업무수행 문화를 정착시키고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38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zh-CN" sz="2500" spc="-1" strike="noStrike">
                <a:solidFill>
                  <a:srgbClr val="ffffff"/>
                </a:solidFill>
                <a:latin typeface="굴림"/>
              </a:rPr>
              <a:t>있습니다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38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068480" y="307800"/>
            <a:ext cx="4686120" cy="2930760"/>
          </a:xfrm>
          <a:prstGeom prst="rect">
            <a:avLst/>
          </a:prstGeom>
          <a:ln w="0">
            <a:noFill/>
          </a:ln>
        </p:spPr>
      </p:sp>
      <p:sp>
        <p:nvSpPr>
          <p:cNvPr id="232" name=""/>
          <p:cNvSpPr/>
          <p:nvPr/>
        </p:nvSpPr>
        <p:spPr>
          <a:xfrm>
            <a:off x="157320" y="3492360"/>
            <a:ext cx="6724440" cy="642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t">
            <a:noAutofit/>
          </a:bodyPr>
          <a:p>
            <a:pPr>
              <a:lnSpc>
                <a:spcPct val="100000"/>
              </a:lnSpc>
              <a:spcBef>
                <a:spcPts val="938"/>
              </a:spcBef>
              <a:buClr>
                <a:srgbClr val="000000"/>
              </a:buClr>
              <a:buFont typeface="Wingdings 2" charset="2"/>
              <a:buChar char=""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zh-CN" sz="2500" spc="-1" strike="noStrike">
                <a:solidFill>
                  <a:srgbClr val="ffffff"/>
                </a:solidFill>
                <a:latin typeface="굴림"/>
              </a:rPr>
              <a:t>다음은 부대관리입니다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▲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학교 및 학군단 장병을 관리함에 있어서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규정과 방침에 의한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업무수행 풍토를 조성하고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불필요한 관행을 타파하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낭비요소를 최소화 하고 있으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▲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학군사관 후보생의 건전문화 정착을 위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불합리한 관행이 재연될 소지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사전에 차단 할 수 있도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주기적인 확인점검을 실시하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▲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후보생 대토론회를 개최하여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공감대를  형성하는 등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38"/>
              </a:spcBef>
              <a:buClr>
                <a:srgbClr val="000000"/>
              </a:buClr>
              <a:buFont typeface="Wingdings 2" charset="2"/>
              <a:buChar char=""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zh-CN" sz="2500" spc="-1" strike="noStrike">
                <a:solidFill>
                  <a:srgbClr val="ffffff"/>
                </a:solidFill>
                <a:latin typeface="굴림"/>
              </a:rPr>
              <a:t>기초와 기본에 충실한 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38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zh-CN" sz="2500" spc="-1" strike="noStrike">
                <a:solidFill>
                  <a:srgbClr val="ffffff"/>
                </a:solidFill>
                <a:latin typeface="굴림"/>
              </a:rPr>
              <a:t>올바른 업무수행 문화를 정착시키고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38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zh-CN" sz="2500" spc="-1" strike="noStrike">
                <a:solidFill>
                  <a:srgbClr val="ffffff"/>
                </a:solidFill>
                <a:latin typeface="굴림"/>
              </a:rPr>
              <a:t>있습니다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38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068480" y="307800"/>
            <a:ext cx="4686120" cy="2930760"/>
          </a:xfrm>
          <a:prstGeom prst="rect">
            <a:avLst/>
          </a:prstGeom>
          <a:ln w="0">
            <a:noFill/>
          </a:ln>
        </p:spPr>
      </p:sp>
      <p:sp>
        <p:nvSpPr>
          <p:cNvPr id="234" name=""/>
          <p:cNvSpPr/>
          <p:nvPr/>
        </p:nvSpPr>
        <p:spPr>
          <a:xfrm>
            <a:off x="157320" y="3492360"/>
            <a:ext cx="6724440" cy="642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t">
            <a:noAutofit/>
          </a:bodyPr>
          <a:p>
            <a:pPr>
              <a:lnSpc>
                <a:spcPct val="100000"/>
              </a:lnSpc>
              <a:spcBef>
                <a:spcPts val="938"/>
              </a:spcBef>
              <a:buClr>
                <a:srgbClr val="000000"/>
              </a:buClr>
              <a:buFont typeface="Wingdings 2" charset="2"/>
              <a:buChar char=""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zh-CN" sz="2500" spc="-1" strike="noStrike">
                <a:solidFill>
                  <a:srgbClr val="ffffff"/>
                </a:solidFill>
                <a:latin typeface="굴림"/>
              </a:rPr>
              <a:t>다음은 부대관리입니다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▲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학교 및 학군단 장병을 관리함에 있어서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규정과 방침에 의한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업무수행 풍토를 조성하고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불필요한 관행을 타파하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낭비요소를 최소화 하고 있으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▲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학군사관 후보생의 건전문화 정착을 위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불합리한 관행이 재연될 소지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사전에 차단 할 수 있도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주기적인 확인점검을 실시하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▲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후보생 대토론회를 개최하여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공감대를  형성하는 등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38"/>
              </a:spcBef>
              <a:buClr>
                <a:srgbClr val="000000"/>
              </a:buClr>
              <a:buFont typeface="Wingdings 2" charset="2"/>
              <a:buChar char=""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zh-CN" sz="2500" spc="-1" strike="noStrike">
                <a:solidFill>
                  <a:srgbClr val="ffffff"/>
                </a:solidFill>
                <a:latin typeface="굴림"/>
              </a:rPr>
              <a:t>기초와 기본에 충실한 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38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zh-CN" sz="2500" spc="-1" strike="noStrike">
                <a:solidFill>
                  <a:srgbClr val="ffffff"/>
                </a:solidFill>
                <a:latin typeface="굴림"/>
              </a:rPr>
              <a:t>올바른 업무수행 문화를 정착시키고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38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zh-CN" sz="2500" spc="-1" strike="noStrike">
                <a:solidFill>
                  <a:srgbClr val="ffffff"/>
                </a:solidFill>
                <a:latin typeface="굴림"/>
              </a:rPr>
              <a:t>있습니다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38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068480" y="307800"/>
            <a:ext cx="4686120" cy="2930760"/>
          </a:xfrm>
          <a:prstGeom prst="rect">
            <a:avLst/>
          </a:prstGeom>
          <a:ln w="0">
            <a:noFill/>
          </a:ln>
        </p:spPr>
      </p:sp>
      <p:sp>
        <p:nvSpPr>
          <p:cNvPr id="236" name=""/>
          <p:cNvSpPr/>
          <p:nvPr/>
        </p:nvSpPr>
        <p:spPr>
          <a:xfrm>
            <a:off x="157320" y="3492360"/>
            <a:ext cx="6724440" cy="642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t">
            <a:noAutofit/>
          </a:bodyPr>
          <a:p>
            <a:pPr>
              <a:lnSpc>
                <a:spcPct val="100000"/>
              </a:lnSpc>
              <a:spcBef>
                <a:spcPts val="938"/>
              </a:spcBef>
              <a:buClr>
                <a:srgbClr val="000000"/>
              </a:buClr>
              <a:buFont typeface="Wingdings 2" charset="2"/>
              <a:buChar char=""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zh-CN" sz="2500" spc="-1" strike="noStrike">
                <a:solidFill>
                  <a:srgbClr val="ffffff"/>
                </a:solidFill>
                <a:latin typeface="굴림"/>
              </a:rPr>
              <a:t>다음은 부대관리입니다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▲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학교 및 학군단 장병을 관리함에 있어서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규정과 방침에 의한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업무수행 풍토를 조성하고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불필요한 관행을 타파하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낭비요소를 최소화 하고 있으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▲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학군사관 후보생의 건전문화 정착을 위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불합리한 관행이 재연될 소지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사전에 차단 할 수 있도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주기적인 확인점검을 실시하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▲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후보생 대토론회를 개최하여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공감대를  형성하는 등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38"/>
              </a:spcBef>
              <a:buClr>
                <a:srgbClr val="000000"/>
              </a:buClr>
              <a:buFont typeface="Wingdings 2" charset="2"/>
              <a:buChar char=""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zh-CN" sz="2500" spc="-1" strike="noStrike">
                <a:solidFill>
                  <a:srgbClr val="ffffff"/>
                </a:solidFill>
                <a:latin typeface="굴림"/>
              </a:rPr>
              <a:t>기초와 기본에 충실한 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38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zh-CN" sz="2500" spc="-1" strike="noStrike">
                <a:solidFill>
                  <a:srgbClr val="ffffff"/>
                </a:solidFill>
                <a:latin typeface="굴림"/>
              </a:rPr>
              <a:t>올바른 업무수행 문화를 정착시키고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38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zh-CN" sz="2500" spc="-1" strike="noStrike">
                <a:solidFill>
                  <a:srgbClr val="ffffff"/>
                </a:solidFill>
                <a:latin typeface="굴림"/>
              </a:rPr>
              <a:t>있습니다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38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068480" y="307800"/>
            <a:ext cx="4686120" cy="2930760"/>
          </a:xfrm>
          <a:prstGeom prst="rect">
            <a:avLst/>
          </a:prstGeom>
          <a:ln w="0">
            <a:noFill/>
          </a:ln>
        </p:spPr>
      </p:sp>
      <p:sp>
        <p:nvSpPr>
          <p:cNvPr id="238" name=""/>
          <p:cNvSpPr/>
          <p:nvPr/>
        </p:nvSpPr>
        <p:spPr>
          <a:xfrm>
            <a:off x="157320" y="3492360"/>
            <a:ext cx="6724440" cy="642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t">
            <a:noAutofit/>
          </a:bodyPr>
          <a:p>
            <a:pPr>
              <a:lnSpc>
                <a:spcPct val="100000"/>
              </a:lnSpc>
              <a:spcBef>
                <a:spcPts val="938"/>
              </a:spcBef>
              <a:buClr>
                <a:srgbClr val="000000"/>
              </a:buClr>
              <a:buFont typeface="Wingdings 2" charset="2"/>
              <a:buChar char=""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zh-CN" sz="2500" spc="-1" strike="noStrike">
                <a:solidFill>
                  <a:srgbClr val="ffffff"/>
                </a:solidFill>
                <a:latin typeface="굴림"/>
              </a:rPr>
              <a:t>다음은 부대관리입니다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▲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학교 및 학군단 장병을 관리함에 있어서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규정과 방침에 의한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업무수행 풍토를 조성하고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불필요한 관행을 타파하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낭비요소를 최소화 하고 있으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▲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학군사관 후보생의 건전문화 정착을 위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불합리한 관행이 재연될 소지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사전에 차단 할 수 있도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주기적인 확인점검을 실시하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▲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후보생 대토론회를 개최하여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공감대를  형성하는 등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38"/>
              </a:spcBef>
              <a:buClr>
                <a:srgbClr val="000000"/>
              </a:buClr>
              <a:buFont typeface="Wingdings 2" charset="2"/>
              <a:buChar char=""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zh-CN" sz="2500" spc="-1" strike="noStrike">
                <a:solidFill>
                  <a:srgbClr val="ffffff"/>
                </a:solidFill>
                <a:latin typeface="굴림"/>
              </a:rPr>
              <a:t>기초와 기본에 충실한 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38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zh-CN" sz="2500" spc="-1" strike="noStrike">
                <a:solidFill>
                  <a:srgbClr val="ffffff"/>
                </a:solidFill>
                <a:latin typeface="굴림"/>
              </a:rPr>
              <a:t>올바른 업무수행 문화를 정착시키고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38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zh-CN" sz="2500" spc="-1" strike="noStrike">
                <a:solidFill>
                  <a:srgbClr val="ffffff"/>
                </a:solidFill>
                <a:latin typeface="굴림"/>
              </a:rPr>
              <a:t>있습니다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38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068480" y="307800"/>
            <a:ext cx="4686120" cy="2930760"/>
          </a:xfrm>
          <a:prstGeom prst="rect">
            <a:avLst/>
          </a:prstGeom>
          <a:ln w="0">
            <a:noFill/>
          </a:ln>
        </p:spPr>
      </p:sp>
      <p:sp>
        <p:nvSpPr>
          <p:cNvPr id="240" name=""/>
          <p:cNvSpPr/>
          <p:nvPr/>
        </p:nvSpPr>
        <p:spPr>
          <a:xfrm>
            <a:off x="157320" y="3492360"/>
            <a:ext cx="6724440" cy="642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t">
            <a:noAutofit/>
          </a:bodyPr>
          <a:p>
            <a:pPr>
              <a:lnSpc>
                <a:spcPct val="100000"/>
              </a:lnSpc>
              <a:spcBef>
                <a:spcPts val="938"/>
              </a:spcBef>
              <a:buClr>
                <a:srgbClr val="000000"/>
              </a:buClr>
              <a:buFont typeface="Wingdings 2" charset="2"/>
              <a:buChar char=""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zh-CN" sz="2500" spc="-1" strike="noStrike">
                <a:solidFill>
                  <a:srgbClr val="ffffff"/>
                </a:solidFill>
                <a:latin typeface="굴림"/>
              </a:rPr>
              <a:t>다음은 부대관리입니다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▲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학교 및 학군단 장병을 관리함에 있어서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규정과 방침에 의한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업무수행 풍토를 조성하고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불필요한 관행을 타파하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낭비요소를 최소화 하고 있으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▲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학군사관 후보생의 건전문화 정착을 위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불합리한 관행이 재연될 소지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사전에 차단 할 수 있도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주기적인 확인점검을 실시하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▲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후보생 대토론회를 개최하여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</a:rPr>
              <a:t>공감대를  형성하는 등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38"/>
              </a:spcBef>
              <a:buClr>
                <a:srgbClr val="000000"/>
              </a:buClr>
              <a:buFont typeface="Wingdings 2" charset="2"/>
              <a:buChar char=""/>
              <a:tabLst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zh-CN" sz="2500" spc="-1" strike="noStrike">
                <a:solidFill>
                  <a:srgbClr val="ffffff"/>
                </a:solidFill>
                <a:latin typeface="굴림"/>
              </a:rPr>
              <a:t>기초와 기본에 충실한 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38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zh-CN" sz="2500" spc="-1" strike="noStrike">
                <a:solidFill>
                  <a:srgbClr val="ffffff"/>
                </a:solidFill>
                <a:latin typeface="굴림"/>
              </a:rPr>
              <a:t>올바른 업무수행 문화를 정착시키고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38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zh-CN" sz="2500" spc="-1" strike="noStrike">
                <a:solidFill>
                  <a:srgbClr val="ffffff"/>
                </a:solidFill>
                <a:latin typeface="굴림"/>
              </a:rPr>
              <a:t>있습니다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38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C220B-4482-4D09-AD2A-E5D3F5C23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2120" y="317520"/>
            <a:ext cx="13716000" cy="1587600"/>
          </a:xfrm>
          <a:prstGeom prst="rect">
            <a:avLst/>
          </a:prstGeom>
          <a:noFill/>
          <a:ln w="0">
            <a:noFill/>
          </a:ln>
        </p:spPr>
        <p:txBody>
          <a:bodyPr lIns="141480" rIns="141480" tIns="70920" bIns="70920" anchor="ctr">
            <a:noAutofit/>
          </a:bodyPr>
          <a:p>
            <a:pPr indent="0" algn="ctr">
              <a:buNone/>
              <a:tabLst>
                <a:tab algn="l" pos="0"/>
                <a:tab algn="l" pos="1414440"/>
                <a:tab algn="l" pos="2828880"/>
                <a:tab algn="l" pos="4243320"/>
                <a:tab algn="l" pos="5657760"/>
                <a:tab algn="l" pos="7072200"/>
                <a:tab algn="l" pos="8486640"/>
                <a:tab algn="l" pos="9901080"/>
              </a:tabLst>
            </a:pPr>
            <a:endParaRPr b="0" lang="en-US" sz="6800" spc="-1" strike="noStrike">
              <a:solidFill>
                <a:srgbClr val="e3e3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62120" y="2222280"/>
            <a:ext cx="13716000" cy="2977920"/>
          </a:xfrm>
          <a:prstGeom prst="rect">
            <a:avLst/>
          </a:prstGeom>
          <a:noFill/>
          <a:ln w="0">
            <a:noFill/>
          </a:ln>
        </p:spPr>
        <p:txBody>
          <a:bodyPr lIns="141480" rIns="141480" tIns="70920" bIns="7092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14440"/>
                <a:tab algn="l" pos="2828880"/>
                <a:tab algn="l" pos="4243320"/>
                <a:tab algn="l" pos="5657760"/>
                <a:tab algn="l" pos="7072200"/>
                <a:tab algn="l" pos="8486640"/>
                <a:tab algn="l" pos="9901080"/>
              </a:tabLst>
            </a:pP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762120" y="5483520"/>
            <a:ext cx="13716000" cy="2977920"/>
          </a:xfrm>
          <a:prstGeom prst="rect">
            <a:avLst/>
          </a:prstGeom>
          <a:noFill/>
          <a:ln w="0">
            <a:noFill/>
          </a:ln>
        </p:spPr>
        <p:txBody>
          <a:bodyPr lIns="141480" rIns="141480" tIns="70920" bIns="7092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14440"/>
                <a:tab algn="l" pos="2828880"/>
                <a:tab algn="l" pos="4243320"/>
                <a:tab algn="l" pos="5657760"/>
                <a:tab algn="l" pos="7072200"/>
                <a:tab algn="l" pos="8486640"/>
                <a:tab algn="l" pos="9901080"/>
              </a:tabLst>
            </a:pP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DA938-B6A7-4D9B-AC78-167614418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2120" y="317520"/>
            <a:ext cx="13716000" cy="1587600"/>
          </a:xfrm>
          <a:prstGeom prst="rect">
            <a:avLst/>
          </a:prstGeom>
          <a:noFill/>
          <a:ln w="0">
            <a:noFill/>
          </a:ln>
        </p:spPr>
        <p:txBody>
          <a:bodyPr lIns="141480" rIns="141480" tIns="70920" bIns="70920" anchor="ctr">
            <a:noAutofit/>
          </a:bodyPr>
          <a:p>
            <a:pPr indent="0" algn="ctr">
              <a:buNone/>
              <a:tabLst>
                <a:tab algn="l" pos="0"/>
                <a:tab algn="l" pos="1414440"/>
                <a:tab algn="l" pos="2828880"/>
                <a:tab algn="l" pos="4243320"/>
                <a:tab algn="l" pos="5657760"/>
                <a:tab algn="l" pos="7072200"/>
                <a:tab algn="l" pos="8486640"/>
                <a:tab algn="l" pos="9901080"/>
              </a:tabLst>
            </a:pPr>
            <a:endParaRPr b="0" lang="en-US" sz="6800" spc="-1" strike="noStrike">
              <a:solidFill>
                <a:srgbClr val="e3e3ff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62120" y="2222280"/>
            <a:ext cx="6693120" cy="2977920"/>
          </a:xfrm>
          <a:prstGeom prst="rect">
            <a:avLst/>
          </a:prstGeom>
          <a:noFill/>
          <a:ln w="0">
            <a:noFill/>
          </a:ln>
        </p:spPr>
        <p:txBody>
          <a:bodyPr lIns="141480" rIns="141480" tIns="70920" bIns="7092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14440"/>
                <a:tab algn="l" pos="2828880"/>
                <a:tab algn="l" pos="4243320"/>
                <a:tab algn="l" pos="5657760"/>
                <a:tab algn="l" pos="7072200"/>
                <a:tab algn="l" pos="8486640"/>
                <a:tab algn="l" pos="9901080"/>
              </a:tabLst>
            </a:pP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7790400" y="2222280"/>
            <a:ext cx="6693120" cy="2977920"/>
          </a:xfrm>
          <a:prstGeom prst="rect">
            <a:avLst/>
          </a:prstGeom>
          <a:noFill/>
          <a:ln w="0">
            <a:noFill/>
          </a:ln>
        </p:spPr>
        <p:txBody>
          <a:bodyPr lIns="141480" rIns="141480" tIns="70920" bIns="7092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14440"/>
                <a:tab algn="l" pos="2828880"/>
                <a:tab algn="l" pos="4243320"/>
                <a:tab algn="l" pos="5657760"/>
                <a:tab algn="l" pos="7072200"/>
                <a:tab algn="l" pos="8486640"/>
                <a:tab algn="l" pos="9901080"/>
              </a:tabLst>
            </a:pP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762120" y="5483520"/>
            <a:ext cx="6693120" cy="2977920"/>
          </a:xfrm>
          <a:prstGeom prst="rect">
            <a:avLst/>
          </a:prstGeom>
          <a:noFill/>
          <a:ln w="0">
            <a:noFill/>
          </a:ln>
        </p:spPr>
        <p:txBody>
          <a:bodyPr lIns="141480" rIns="141480" tIns="70920" bIns="7092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14440"/>
                <a:tab algn="l" pos="2828880"/>
                <a:tab algn="l" pos="4243320"/>
                <a:tab algn="l" pos="5657760"/>
                <a:tab algn="l" pos="7072200"/>
                <a:tab algn="l" pos="8486640"/>
                <a:tab algn="l" pos="9901080"/>
              </a:tabLst>
            </a:pP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7790400" y="5483520"/>
            <a:ext cx="6693120" cy="2977920"/>
          </a:xfrm>
          <a:prstGeom prst="rect">
            <a:avLst/>
          </a:prstGeom>
          <a:noFill/>
          <a:ln w="0">
            <a:noFill/>
          </a:ln>
        </p:spPr>
        <p:txBody>
          <a:bodyPr lIns="141480" rIns="141480" tIns="70920" bIns="7092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14440"/>
                <a:tab algn="l" pos="2828880"/>
                <a:tab algn="l" pos="4243320"/>
                <a:tab algn="l" pos="5657760"/>
                <a:tab algn="l" pos="7072200"/>
                <a:tab algn="l" pos="8486640"/>
                <a:tab algn="l" pos="9901080"/>
              </a:tabLst>
            </a:pP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CD178-A9B2-4623-B4D9-13984DC2D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317520"/>
            <a:ext cx="13716000" cy="1587600"/>
          </a:xfrm>
          <a:prstGeom prst="rect">
            <a:avLst/>
          </a:prstGeom>
          <a:noFill/>
          <a:ln w="0">
            <a:noFill/>
          </a:ln>
        </p:spPr>
        <p:txBody>
          <a:bodyPr lIns="141480" rIns="141480" tIns="70920" bIns="70920" anchor="ctr">
            <a:noAutofit/>
          </a:bodyPr>
          <a:p>
            <a:pPr indent="0" algn="ctr">
              <a:buNone/>
              <a:tabLst>
                <a:tab algn="l" pos="0"/>
                <a:tab algn="l" pos="1414440"/>
                <a:tab algn="l" pos="2828880"/>
                <a:tab algn="l" pos="4243320"/>
                <a:tab algn="l" pos="5657760"/>
                <a:tab algn="l" pos="7072200"/>
                <a:tab algn="l" pos="8486640"/>
                <a:tab algn="l" pos="9901080"/>
              </a:tabLst>
            </a:pPr>
            <a:endParaRPr b="0" lang="en-US" sz="6800" spc="-1" strike="noStrike">
              <a:solidFill>
                <a:srgbClr val="e3e3ff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2222280"/>
            <a:ext cx="4416480" cy="2977920"/>
          </a:xfrm>
          <a:prstGeom prst="rect">
            <a:avLst/>
          </a:prstGeom>
          <a:noFill/>
          <a:ln w="0">
            <a:noFill/>
          </a:ln>
        </p:spPr>
        <p:txBody>
          <a:bodyPr lIns="141480" rIns="141480" tIns="70920" bIns="7092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14440"/>
                <a:tab algn="l" pos="2828880"/>
                <a:tab algn="l" pos="4243320"/>
                <a:tab algn="l" pos="5657760"/>
                <a:tab algn="l" pos="7072200"/>
                <a:tab algn="l" pos="8486640"/>
                <a:tab algn="l" pos="9901080"/>
              </a:tabLst>
            </a:pP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399640" y="2222280"/>
            <a:ext cx="4416480" cy="2977920"/>
          </a:xfrm>
          <a:prstGeom prst="rect">
            <a:avLst/>
          </a:prstGeom>
          <a:noFill/>
          <a:ln w="0">
            <a:noFill/>
          </a:ln>
        </p:spPr>
        <p:txBody>
          <a:bodyPr lIns="141480" rIns="141480" tIns="70920" bIns="7092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14440"/>
                <a:tab algn="l" pos="2828880"/>
                <a:tab algn="l" pos="4243320"/>
                <a:tab algn="l" pos="5657760"/>
                <a:tab algn="l" pos="7072200"/>
                <a:tab algn="l" pos="8486640"/>
                <a:tab algn="l" pos="9901080"/>
              </a:tabLst>
            </a:pP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037520" y="2222280"/>
            <a:ext cx="4416480" cy="2977920"/>
          </a:xfrm>
          <a:prstGeom prst="rect">
            <a:avLst/>
          </a:prstGeom>
          <a:noFill/>
          <a:ln w="0">
            <a:noFill/>
          </a:ln>
        </p:spPr>
        <p:txBody>
          <a:bodyPr lIns="141480" rIns="141480" tIns="70920" bIns="7092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14440"/>
                <a:tab algn="l" pos="2828880"/>
                <a:tab algn="l" pos="4243320"/>
                <a:tab algn="l" pos="5657760"/>
                <a:tab algn="l" pos="7072200"/>
                <a:tab algn="l" pos="8486640"/>
                <a:tab algn="l" pos="9901080"/>
              </a:tabLst>
            </a:pP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762120" y="5483520"/>
            <a:ext cx="4416480" cy="2977920"/>
          </a:xfrm>
          <a:prstGeom prst="rect">
            <a:avLst/>
          </a:prstGeom>
          <a:noFill/>
          <a:ln w="0">
            <a:noFill/>
          </a:ln>
        </p:spPr>
        <p:txBody>
          <a:bodyPr lIns="141480" rIns="141480" tIns="70920" bIns="7092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14440"/>
                <a:tab algn="l" pos="2828880"/>
                <a:tab algn="l" pos="4243320"/>
                <a:tab algn="l" pos="5657760"/>
                <a:tab algn="l" pos="7072200"/>
                <a:tab algn="l" pos="8486640"/>
                <a:tab algn="l" pos="9901080"/>
              </a:tabLst>
            </a:pP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5399640" y="5483520"/>
            <a:ext cx="4416480" cy="2977920"/>
          </a:xfrm>
          <a:prstGeom prst="rect">
            <a:avLst/>
          </a:prstGeom>
          <a:noFill/>
          <a:ln w="0">
            <a:noFill/>
          </a:ln>
        </p:spPr>
        <p:txBody>
          <a:bodyPr lIns="141480" rIns="141480" tIns="70920" bIns="7092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14440"/>
                <a:tab algn="l" pos="2828880"/>
                <a:tab algn="l" pos="4243320"/>
                <a:tab algn="l" pos="5657760"/>
                <a:tab algn="l" pos="7072200"/>
                <a:tab algn="l" pos="8486640"/>
                <a:tab algn="l" pos="9901080"/>
              </a:tabLst>
            </a:pP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10037520" y="5483520"/>
            <a:ext cx="4416480" cy="2977920"/>
          </a:xfrm>
          <a:prstGeom prst="rect">
            <a:avLst/>
          </a:prstGeom>
          <a:noFill/>
          <a:ln w="0">
            <a:noFill/>
          </a:ln>
        </p:spPr>
        <p:txBody>
          <a:bodyPr lIns="141480" rIns="141480" tIns="70920" bIns="7092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14440"/>
                <a:tab algn="l" pos="2828880"/>
                <a:tab algn="l" pos="4243320"/>
                <a:tab algn="l" pos="5657760"/>
                <a:tab algn="l" pos="7072200"/>
                <a:tab algn="l" pos="8486640"/>
                <a:tab algn="l" pos="9901080"/>
              </a:tabLst>
            </a:pP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75BE0-A7D4-4A2D-8863-FC101ACF2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B7603D-D1CF-4144-BFDB-05C8367DD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317520"/>
            <a:ext cx="13716000" cy="1587600"/>
          </a:xfrm>
          <a:prstGeom prst="rect">
            <a:avLst/>
          </a:prstGeom>
          <a:noFill/>
          <a:ln w="0">
            <a:noFill/>
          </a:ln>
        </p:spPr>
        <p:txBody>
          <a:bodyPr lIns="141480" rIns="141480" tIns="70920" bIns="70920" anchor="ctr">
            <a:noAutofit/>
          </a:bodyPr>
          <a:p>
            <a:pPr indent="0" algn="ctr">
              <a:buNone/>
              <a:tabLst>
                <a:tab algn="l" pos="0"/>
                <a:tab algn="l" pos="1414440"/>
                <a:tab algn="l" pos="2828880"/>
                <a:tab algn="l" pos="4243320"/>
                <a:tab algn="l" pos="5657760"/>
                <a:tab algn="l" pos="7072200"/>
                <a:tab algn="l" pos="8486640"/>
                <a:tab algn="l" pos="9901080"/>
              </a:tabLst>
            </a:pPr>
            <a:endParaRPr b="0" lang="en-US" sz="6800" spc="-1" strike="noStrike">
              <a:solidFill>
                <a:srgbClr val="e3e3ff"/>
              </a:solidFill>
              <a:latin typeface="굴림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762120" y="2222280"/>
            <a:ext cx="13716000" cy="62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1414440"/>
                <a:tab algn="l" pos="2828880"/>
                <a:tab algn="l" pos="4243320"/>
                <a:tab algn="l" pos="5657760"/>
                <a:tab algn="l" pos="7072200"/>
                <a:tab algn="l" pos="8486640"/>
                <a:tab algn="l" pos="9901080"/>
              </a:tabLst>
            </a:pP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EFF666-FAFD-4E58-98C7-2CD696447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62120" y="317520"/>
            <a:ext cx="13716000" cy="1587600"/>
          </a:xfrm>
          <a:prstGeom prst="rect">
            <a:avLst/>
          </a:prstGeom>
          <a:noFill/>
          <a:ln w="0">
            <a:noFill/>
          </a:ln>
        </p:spPr>
        <p:txBody>
          <a:bodyPr lIns="141480" rIns="141480" tIns="70920" bIns="70920" anchor="ctr">
            <a:noAutofit/>
          </a:bodyPr>
          <a:p>
            <a:pPr indent="0" algn="ctr">
              <a:buNone/>
              <a:tabLst>
                <a:tab algn="l" pos="0"/>
                <a:tab algn="l" pos="1414440"/>
                <a:tab algn="l" pos="2828880"/>
                <a:tab algn="l" pos="4243320"/>
                <a:tab algn="l" pos="5657760"/>
                <a:tab algn="l" pos="7072200"/>
                <a:tab algn="l" pos="8486640"/>
                <a:tab algn="l" pos="9901080"/>
              </a:tabLst>
            </a:pPr>
            <a:endParaRPr b="0" lang="en-US" sz="6800" spc="-1" strike="noStrike">
              <a:solidFill>
                <a:srgbClr val="e3e3ff"/>
              </a:solidFill>
              <a:latin typeface="굴림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62120" y="2222280"/>
            <a:ext cx="13716000" cy="6243480"/>
          </a:xfrm>
          <a:prstGeom prst="rect">
            <a:avLst/>
          </a:prstGeom>
          <a:noFill/>
          <a:ln w="0">
            <a:noFill/>
          </a:ln>
        </p:spPr>
        <p:txBody>
          <a:bodyPr lIns="141480" rIns="141480" tIns="70920" bIns="7092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14440"/>
                <a:tab algn="l" pos="2828880"/>
                <a:tab algn="l" pos="4243320"/>
                <a:tab algn="l" pos="5657760"/>
                <a:tab algn="l" pos="7072200"/>
                <a:tab algn="l" pos="8486640"/>
                <a:tab algn="l" pos="9901080"/>
              </a:tabLst>
            </a:pP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50A843-A69D-4BC7-B938-90EF3829B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2120" y="317520"/>
            <a:ext cx="13716000" cy="1587600"/>
          </a:xfrm>
          <a:prstGeom prst="rect">
            <a:avLst/>
          </a:prstGeom>
          <a:noFill/>
          <a:ln w="0">
            <a:noFill/>
          </a:ln>
        </p:spPr>
        <p:txBody>
          <a:bodyPr lIns="141480" rIns="141480" tIns="70920" bIns="70920" anchor="ctr">
            <a:noAutofit/>
          </a:bodyPr>
          <a:p>
            <a:pPr indent="0" algn="ctr">
              <a:buNone/>
              <a:tabLst>
                <a:tab algn="l" pos="0"/>
                <a:tab algn="l" pos="1414440"/>
                <a:tab algn="l" pos="2828880"/>
                <a:tab algn="l" pos="4243320"/>
                <a:tab algn="l" pos="5657760"/>
                <a:tab algn="l" pos="7072200"/>
                <a:tab algn="l" pos="8486640"/>
                <a:tab algn="l" pos="9901080"/>
              </a:tabLst>
            </a:pPr>
            <a:endParaRPr b="0" lang="en-US" sz="6800" spc="-1" strike="noStrike">
              <a:solidFill>
                <a:srgbClr val="e3e3ff"/>
              </a:solidFill>
              <a:latin typeface="굴림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62120" y="2222280"/>
            <a:ext cx="6693120" cy="6243480"/>
          </a:xfrm>
          <a:prstGeom prst="rect">
            <a:avLst/>
          </a:prstGeom>
          <a:noFill/>
          <a:ln w="0">
            <a:noFill/>
          </a:ln>
        </p:spPr>
        <p:txBody>
          <a:bodyPr lIns="141480" rIns="141480" tIns="70920" bIns="7092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14440"/>
                <a:tab algn="l" pos="2828880"/>
                <a:tab algn="l" pos="4243320"/>
                <a:tab algn="l" pos="5657760"/>
                <a:tab algn="l" pos="7072200"/>
                <a:tab algn="l" pos="8486640"/>
                <a:tab algn="l" pos="9901080"/>
              </a:tabLst>
            </a:pP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7790400" y="2222280"/>
            <a:ext cx="6693120" cy="6243480"/>
          </a:xfrm>
          <a:prstGeom prst="rect">
            <a:avLst/>
          </a:prstGeom>
          <a:noFill/>
          <a:ln w="0">
            <a:noFill/>
          </a:ln>
        </p:spPr>
        <p:txBody>
          <a:bodyPr lIns="141480" rIns="141480" tIns="70920" bIns="7092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14440"/>
                <a:tab algn="l" pos="2828880"/>
                <a:tab algn="l" pos="4243320"/>
                <a:tab algn="l" pos="5657760"/>
                <a:tab algn="l" pos="7072200"/>
                <a:tab algn="l" pos="8486640"/>
                <a:tab algn="l" pos="9901080"/>
              </a:tabLst>
            </a:pP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06E6AD-0772-4F8E-B2EB-14AE0D51D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2120" y="317520"/>
            <a:ext cx="13716000" cy="1587600"/>
          </a:xfrm>
          <a:prstGeom prst="rect">
            <a:avLst/>
          </a:prstGeom>
          <a:noFill/>
          <a:ln w="0">
            <a:noFill/>
          </a:ln>
        </p:spPr>
        <p:txBody>
          <a:bodyPr lIns="141480" rIns="141480" tIns="70920" bIns="70920" anchor="ctr">
            <a:noAutofit/>
          </a:bodyPr>
          <a:p>
            <a:pPr indent="0" algn="ctr">
              <a:buNone/>
              <a:tabLst>
                <a:tab algn="l" pos="0"/>
                <a:tab algn="l" pos="1414440"/>
                <a:tab algn="l" pos="2828880"/>
                <a:tab algn="l" pos="4243320"/>
                <a:tab algn="l" pos="5657760"/>
                <a:tab algn="l" pos="7072200"/>
                <a:tab algn="l" pos="8486640"/>
                <a:tab algn="l" pos="9901080"/>
              </a:tabLst>
            </a:pPr>
            <a:endParaRPr b="0" lang="en-US" sz="6800" spc="-1" strike="noStrike">
              <a:solidFill>
                <a:srgbClr val="e3e3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B53F5F-971B-45B4-9448-53C4F611F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762120" y="317520"/>
            <a:ext cx="13716000" cy="736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1414440"/>
                <a:tab algn="l" pos="2828880"/>
                <a:tab algn="l" pos="4243320"/>
                <a:tab algn="l" pos="5657760"/>
                <a:tab algn="l" pos="7072200"/>
                <a:tab algn="l" pos="8486640"/>
                <a:tab algn="l" pos="9901080"/>
              </a:tabLst>
            </a:pP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E48311-77DC-411D-8331-98D338E7A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2120" y="317520"/>
            <a:ext cx="13716000" cy="1587600"/>
          </a:xfrm>
          <a:prstGeom prst="rect">
            <a:avLst/>
          </a:prstGeom>
          <a:noFill/>
          <a:ln w="0">
            <a:noFill/>
          </a:ln>
        </p:spPr>
        <p:txBody>
          <a:bodyPr lIns="141480" rIns="141480" tIns="70920" bIns="70920" anchor="ctr">
            <a:noAutofit/>
          </a:bodyPr>
          <a:p>
            <a:pPr indent="0" algn="ctr">
              <a:buNone/>
              <a:tabLst>
                <a:tab algn="l" pos="0"/>
                <a:tab algn="l" pos="1414440"/>
                <a:tab algn="l" pos="2828880"/>
                <a:tab algn="l" pos="4243320"/>
                <a:tab algn="l" pos="5657760"/>
                <a:tab algn="l" pos="7072200"/>
                <a:tab algn="l" pos="8486640"/>
                <a:tab algn="l" pos="9901080"/>
              </a:tabLst>
            </a:pPr>
            <a:endParaRPr b="0" lang="en-US" sz="6800" spc="-1" strike="noStrike">
              <a:solidFill>
                <a:srgbClr val="e3e3ff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62120" y="2222280"/>
            <a:ext cx="6693120" cy="2977920"/>
          </a:xfrm>
          <a:prstGeom prst="rect">
            <a:avLst/>
          </a:prstGeom>
          <a:noFill/>
          <a:ln w="0">
            <a:noFill/>
          </a:ln>
        </p:spPr>
        <p:txBody>
          <a:bodyPr lIns="141480" rIns="141480" tIns="70920" bIns="7092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14440"/>
                <a:tab algn="l" pos="2828880"/>
                <a:tab algn="l" pos="4243320"/>
                <a:tab algn="l" pos="5657760"/>
                <a:tab algn="l" pos="7072200"/>
                <a:tab algn="l" pos="8486640"/>
                <a:tab algn="l" pos="9901080"/>
              </a:tabLst>
            </a:pP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7790400" y="2222280"/>
            <a:ext cx="6693120" cy="6243480"/>
          </a:xfrm>
          <a:prstGeom prst="rect">
            <a:avLst/>
          </a:prstGeom>
          <a:noFill/>
          <a:ln w="0">
            <a:noFill/>
          </a:ln>
        </p:spPr>
        <p:txBody>
          <a:bodyPr lIns="141480" rIns="141480" tIns="70920" bIns="7092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14440"/>
                <a:tab algn="l" pos="2828880"/>
                <a:tab algn="l" pos="4243320"/>
                <a:tab algn="l" pos="5657760"/>
                <a:tab algn="l" pos="7072200"/>
                <a:tab algn="l" pos="8486640"/>
                <a:tab algn="l" pos="9901080"/>
              </a:tabLst>
            </a:pP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762120" y="5483520"/>
            <a:ext cx="6693120" cy="2977920"/>
          </a:xfrm>
          <a:prstGeom prst="rect">
            <a:avLst/>
          </a:prstGeom>
          <a:noFill/>
          <a:ln w="0">
            <a:noFill/>
          </a:ln>
        </p:spPr>
        <p:txBody>
          <a:bodyPr lIns="141480" rIns="141480" tIns="70920" bIns="7092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14440"/>
                <a:tab algn="l" pos="2828880"/>
                <a:tab algn="l" pos="4243320"/>
                <a:tab algn="l" pos="5657760"/>
                <a:tab algn="l" pos="7072200"/>
                <a:tab algn="l" pos="8486640"/>
                <a:tab algn="l" pos="9901080"/>
              </a:tabLst>
            </a:pP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46A6FA-4409-4870-AB84-D597C6893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2120" y="317520"/>
            <a:ext cx="13716000" cy="1587600"/>
          </a:xfrm>
          <a:prstGeom prst="rect">
            <a:avLst/>
          </a:prstGeom>
          <a:noFill/>
          <a:ln w="0">
            <a:noFill/>
          </a:ln>
        </p:spPr>
        <p:txBody>
          <a:bodyPr lIns="141480" rIns="141480" tIns="70920" bIns="70920" anchor="ctr">
            <a:noAutofit/>
          </a:bodyPr>
          <a:p>
            <a:pPr indent="0" algn="ctr">
              <a:buNone/>
              <a:tabLst>
                <a:tab algn="l" pos="0"/>
                <a:tab algn="l" pos="1414440"/>
                <a:tab algn="l" pos="2828880"/>
                <a:tab algn="l" pos="4243320"/>
                <a:tab algn="l" pos="5657760"/>
                <a:tab algn="l" pos="7072200"/>
                <a:tab algn="l" pos="8486640"/>
                <a:tab algn="l" pos="9901080"/>
              </a:tabLst>
            </a:pPr>
            <a:endParaRPr b="0" lang="en-US" sz="6800" spc="-1" strike="noStrike">
              <a:solidFill>
                <a:srgbClr val="e3e3ff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762120" y="2222280"/>
            <a:ext cx="13716000" cy="62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1414440"/>
                <a:tab algn="l" pos="2828880"/>
                <a:tab algn="l" pos="4243320"/>
                <a:tab algn="l" pos="5657760"/>
                <a:tab algn="l" pos="7072200"/>
                <a:tab algn="l" pos="8486640"/>
                <a:tab algn="l" pos="9901080"/>
              </a:tabLst>
            </a:pP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5CBE5-6522-45A5-9566-D64BCC174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2120" y="317520"/>
            <a:ext cx="13716000" cy="1587600"/>
          </a:xfrm>
          <a:prstGeom prst="rect">
            <a:avLst/>
          </a:prstGeom>
          <a:noFill/>
          <a:ln w="0">
            <a:noFill/>
          </a:ln>
        </p:spPr>
        <p:txBody>
          <a:bodyPr lIns="141480" rIns="141480" tIns="70920" bIns="70920" anchor="ctr">
            <a:noAutofit/>
          </a:bodyPr>
          <a:p>
            <a:pPr indent="0" algn="ctr">
              <a:buNone/>
              <a:tabLst>
                <a:tab algn="l" pos="0"/>
                <a:tab algn="l" pos="1414440"/>
                <a:tab algn="l" pos="2828880"/>
                <a:tab algn="l" pos="4243320"/>
                <a:tab algn="l" pos="5657760"/>
                <a:tab algn="l" pos="7072200"/>
                <a:tab algn="l" pos="8486640"/>
                <a:tab algn="l" pos="9901080"/>
              </a:tabLst>
            </a:pPr>
            <a:endParaRPr b="0" lang="en-US" sz="6800" spc="-1" strike="noStrike">
              <a:solidFill>
                <a:srgbClr val="e3e3ff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62120" y="2222280"/>
            <a:ext cx="6693120" cy="6243480"/>
          </a:xfrm>
          <a:prstGeom prst="rect">
            <a:avLst/>
          </a:prstGeom>
          <a:noFill/>
          <a:ln w="0">
            <a:noFill/>
          </a:ln>
        </p:spPr>
        <p:txBody>
          <a:bodyPr lIns="141480" rIns="141480" tIns="70920" bIns="7092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14440"/>
                <a:tab algn="l" pos="2828880"/>
                <a:tab algn="l" pos="4243320"/>
                <a:tab algn="l" pos="5657760"/>
                <a:tab algn="l" pos="7072200"/>
                <a:tab algn="l" pos="8486640"/>
                <a:tab algn="l" pos="9901080"/>
              </a:tabLst>
            </a:pP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7790400" y="2222280"/>
            <a:ext cx="6693120" cy="2977920"/>
          </a:xfrm>
          <a:prstGeom prst="rect">
            <a:avLst/>
          </a:prstGeom>
          <a:noFill/>
          <a:ln w="0">
            <a:noFill/>
          </a:ln>
        </p:spPr>
        <p:txBody>
          <a:bodyPr lIns="141480" rIns="141480" tIns="70920" bIns="7092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14440"/>
                <a:tab algn="l" pos="2828880"/>
                <a:tab algn="l" pos="4243320"/>
                <a:tab algn="l" pos="5657760"/>
                <a:tab algn="l" pos="7072200"/>
                <a:tab algn="l" pos="8486640"/>
                <a:tab algn="l" pos="9901080"/>
              </a:tabLst>
            </a:pP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7790400" y="5483520"/>
            <a:ext cx="6693120" cy="2977920"/>
          </a:xfrm>
          <a:prstGeom prst="rect">
            <a:avLst/>
          </a:prstGeom>
          <a:noFill/>
          <a:ln w="0">
            <a:noFill/>
          </a:ln>
        </p:spPr>
        <p:txBody>
          <a:bodyPr lIns="141480" rIns="141480" tIns="70920" bIns="7092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14440"/>
                <a:tab algn="l" pos="2828880"/>
                <a:tab algn="l" pos="4243320"/>
                <a:tab algn="l" pos="5657760"/>
                <a:tab algn="l" pos="7072200"/>
                <a:tab algn="l" pos="8486640"/>
                <a:tab algn="l" pos="9901080"/>
              </a:tabLst>
            </a:pP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197E05-F660-4E6C-8A9B-F3FFF54DD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2120" y="317520"/>
            <a:ext cx="13716000" cy="1587600"/>
          </a:xfrm>
          <a:prstGeom prst="rect">
            <a:avLst/>
          </a:prstGeom>
          <a:noFill/>
          <a:ln w="0">
            <a:noFill/>
          </a:ln>
        </p:spPr>
        <p:txBody>
          <a:bodyPr lIns="141480" rIns="141480" tIns="70920" bIns="70920" anchor="ctr">
            <a:noAutofit/>
          </a:bodyPr>
          <a:p>
            <a:pPr indent="0" algn="ctr">
              <a:buNone/>
              <a:tabLst>
                <a:tab algn="l" pos="0"/>
                <a:tab algn="l" pos="1414440"/>
                <a:tab algn="l" pos="2828880"/>
                <a:tab algn="l" pos="4243320"/>
                <a:tab algn="l" pos="5657760"/>
                <a:tab algn="l" pos="7072200"/>
                <a:tab algn="l" pos="8486640"/>
                <a:tab algn="l" pos="9901080"/>
              </a:tabLst>
            </a:pPr>
            <a:endParaRPr b="0" lang="en-US" sz="6800" spc="-1" strike="noStrike">
              <a:solidFill>
                <a:srgbClr val="e3e3ff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62120" y="2222280"/>
            <a:ext cx="6693120" cy="2977920"/>
          </a:xfrm>
          <a:prstGeom prst="rect">
            <a:avLst/>
          </a:prstGeom>
          <a:noFill/>
          <a:ln w="0">
            <a:noFill/>
          </a:ln>
        </p:spPr>
        <p:txBody>
          <a:bodyPr lIns="141480" rIns="141480" tIns="70920" bIns="7092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14440"/>
                <a:tab algn="l" pos="2828880"/>
                <a:tab algn="l" pos="4243320"/>
                <a:tab algn="l" pos="5657760"/>
                <a:tab algn="l" pos="7072200"/>
                <a:tab algn="l" pos="8486640"/>
                <a:tab algn="l" pos="9901080"/>
              </a:tabLst>
            </a:pP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7790400" y="2222280"/>
            <a:ext cx="6693120" cy="2977920"/>
          </a:xfrm>
          <a:prstGeom prst="rect">
            <a:avLst/>
          </a:prstGeom>
          <a:noFill/>
          <a:ln w="0">
            <a:noFill/>
          </a:ln>
        </p:spPr>
        <p:txBody>
          <a:bodyPr lIns="141480" rIns="141480" tIns="70920" bIns="7092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14440"/>
                <a:tab algn="l" pos="2828880"/>
                <a:tab algn="l" pos="4243320"/>
                <a:tab algn="l" pos="5657760"/>
                <a:tab algn="l" pos="7072200"/>
                <a:tab algn="l" pos="8486640"/>
                <a:tab algn="l" pos="9901080"/>
              </a:tabLst>
            </a:pP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762120" y="5483520"/>
            <a:ext cx="13716000" cy="2977920"/>
          </a:xfrm>
          <a:prstGeom prst="rect">
            <a:avLst/>
          </a:prstGeom>
          <a:noFill/>
          <a:ln w="0">
            <a:noFill/>
          </a:ln>
        </p:spPr>
        <p:txBody>
          <a:bodyPr lIns="141480" rIns="141480" tIns="70920" bIns="7092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14440"/>
                <a:tab algn="l" pos="2828880"/>
                <a:tab algn="l" pos="4243320"/>
                <a:tab algn="l" pos="5657760"/>
                <a:tab algn="l" pos="7072200"/>
                <a:tab algn="l" pos="8486640"/>
                <a:tab algn="l" pos="9901080"/>
              </a:tabLst>
            </a:pP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F16A1E-C6C9-4182-A007-A745325B2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2120" y="317520"/>
            <a:ext cx="13716000" cy="1587600"/>
          </a:xfrm>
          <a:prstGeom prst="rect">
            <a:avLst/>
          </a:prstGeom>
          <a:noFill/>
          <a:ln w="0">
            <a:noFill/>
          </a:ln>
        </p:spPr>
        <p:txBody>
          <a:bodyPr lIns="141480" rIns="141480" tIns="70920" bIns="70920" anchor="ctr">
            <a:noAutofit/>
          </a:bodyPr>
          <a:p>
            <a:pPr indent="0" algn="ctr">
              <a:buNone/>
              <a:tabLst>
                <a:tab algn="l" pos="0"/>
                <a:tab algn="l" pos="1414440"/>
                <a:tab algn="l" pos="2828880"/>
                <a:tab algn="l" pos="4243320"/>
                <a:tab algn="l" pos="5657760"/>
                <a:tab algn="l" pos="7072200"/>
                <a:tab algn="l" pos="8486640"/>
                <a:tab algn="l" pos="9901080"/>
              </a:tabLst>
            </a:pPr>
            <a:endParaRPr b="0" lang="en-US" sz="6800" spc="-1" strike="noStrike">
              <a:solidFill>
                <a:srgbClr val="e3e3ff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2120" y="2222280"/>
            <a:ext cx="13716000" cy="2977920"/>
          </a:xfrm>
          <a:prstGeom prst="rect">
            <a:avLst/>
          </a:prstGeom>
          <a:noFill/>
          <a:ln w="0">
            <a:noFill/>
          </a:ln>
        </p:spPr>
        <p:txBody>
          <a:bodyPr lIns="141480" rIns="141480" tIns="70920" bIns="7092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14440"/>
                <a:tab algn="l" pos="2828880"/>
                <a:tab algn="l" pos="4243320"/>
                <a:tab algn="l" pos="5657760"/>
                <a:tab algn="l" pos="7072200"/>
                <a:tab algn="l" pos="8486640"/>
                <a:tab algn="l" pos="9901080"/>
              </a:tabLst>
            </a:pP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762120" y="5483520"/>
            <a:ext cx="13716000" cy="2977920"/>
          </a:xfrm>
          <a:prstGeom prst="rect">
            <a:avLst/>
          </a:prstGeom>
          <a:noFill/>
          <a:ln w="0">
            <a:noFill/>
          </a:ln>
        </p:spPr>
        <p:txBody>
          <a:bodyPr lIns="141480" rIns="141480" tIns="70920" bIns="7092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14440"/>
                <a:tab algn="l" pos="2828880"/>
                <a:tab algn="l" pos="4243320"/>
                <a:tab algn="l" pos="5657760"/>
                <a:tab algn="l" pos="7072200"/>
                <a:tab algn="l" pos="8486640"/>
                <a:tab algn="l" pos="9901080"/>
              </a:tabLst>
            </a:pP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B1FC6C-AA6C-4871-9AC3-679AE7C32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2120" y="317520"/>
            <a:ext cx="13716000" cy="1587600"/>
          </a:xfrm>
          <a:prstGeom prst="rect">
            <a:avLst/>
          </a:prstGeom>
          <a:noFill/>
          <a:ln w="0">
            <a:noFill/>
          </a:ln>
        </p:spPr>
        <p:txBody>
          <a:bodyPr lIns="141480" rIns="141480" tIns="70920" bIns="70920" anchor="ctr">
            <a:noAutofit/>
          </a:bodyPr>
          <a:p>
            <a:pPr indent="0" algn="ctr">
              <a:buNone/>
              <a:tabLst>
                <a:tab algn="l" pos="0"/>
                <a:tab algn="l" pos="1414440"/>
                <a:tab algn="l" pos="2828880"/>
                <a:tab algn="l" pos="4243320"/>
                <a:tab algn="l" pos="5657760"/>
                <a:tab algn="l" pos="7072200"/>
                <a:tab algn="l" pos="8486640"/>
                <a:tab algn="l" pos="9901080"/>
              </a:tabLst>
            </a:pPr>
            <a:endParaRPr b="0" lang="en-US" sz="6800" spc="-1" strike="noStrike">
              <a:solidFill>
                <a:srgbClr val="e3e3ff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62120" y="2222280"/>
            <a:ext cx="6693120" cy="2977920"/>
          </a:xfrm>
          <a:prstGeom prst="rect">
            <a:avLst/>
          </a:prstGeom>
          <a:noFill/>
          <a:ln w="0">
            <a:noFill/>
          </a:ln>
        </p:spPr>
        <p:txBody>
          <a:bodyPr lIns="141480" rIns="141480" tIns="70920" bIns="7092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14440"/>
                <a:tab algn="l" pos="2828880"/>
                <a:tab algn="l" pos="4243320"/>
                <a:tab algn="l" pos="5657760"/>
                <a:tab algn="l" pos="7072200"/>
                <a:tab algn="l" pos="8486640"/>
                <a:tab algn="l" pos="9901080"/>
              </a:tabLst>
            </a:pP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7790400" y="2222280"/>
            <a:ext cx="6693120" cy="2977920"/>
          </a:xfrm>
          <a:prstGeom prst="rect">
            <a:avLst/>
          </a:prstGeom>
          <a:noFill/>
          <a:ln w="0">
            <a:noFill/>
          </a:ln>
        </p:spPr>
        <p:txBody>
          <a:bodyPr lIns="141480" rIns="141480" tIns="70920" bIns="7092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14440"/>
                <a:tab algn="l" pos="2828880"/>
                <a:tab algn="l" pos="4243320"/>
                <a:tab algn="l" pos="5657760"/>
                <a:tab algn="l" pos="7072200"/>
                <a:tab algn="l" pos="8486640"/>
                <a:tab algn="l" pos="9901080"/>
              </a:tabLst>
            </a:pP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762120" y="5483520"/>
            <a:ext cx="6693120" cy="2977920"/>
          </a:xfrm>
          <a:prstGeom prst="rect">
            <a:avLst/>
          </a:prstGeom>
          <a:noFill/>
          <a:ln w="0">
            <a:noFill/>
          </a:ln>
        </p:spPr>
        <p:txBody>
          <a:bodyPr lIns="141480" rIns="141480" tIns="70920" bIns="7092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14440"/>
                <a:tab algn="l" pos="2828880"/>
                <a:tab algn="l" pos="4243320"/>
                <a:tab algn="l" pos="5657760"/>
                <a:tab algn="l" pos="7072200"/>
                <a:tab algn="l" pos="8486640"/>
                <a:tab algn="l" pos="9901080"/>
              </a:tabLst>
            </a:pP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7790400" y="5483520"/>
            <a:ext cx="6693120" cy="2977920"/>
          </a:xfrm>
          <a:prstGeom prst="rect">
            <a:avLst/>
          </a:prstGeom>
          <a:noFill/>
          <a:ln w="0">
            <a:noFill/>
          </a:ln>
        </p:spPr>
        <p:txBody>
          <a:bodyPr lIns="141480" rIns="141480" tIns="70920" bIns="7092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14440"/>
                <a:tab algn="l" pos="2828880"/>
                <a:tab algn="l" pos="4243320"/>
                <a:tab algn="l" pos="5657760"/>
                <a:tab algn="l" pos="7072200"/>
                <a:tab algn="l" pos="8486640"/>
                <a:tab algn="l" pos="9901080"/>
              </a:tabLst>
            </a:pP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E74169-3B50-4E3F-BCD3-86BE06C1B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2120" y="317520"/>
            <a:ext cx="13716000" cy="1587600"/>
          </a:xfrm>
          <a:prstGeom prst="rect">
            <a:avLst/>
          </a:prstGeom>
          <a:noFill/>
          <a:ln w="0">
            <a:noFill/>
          </a:ln>
        </p:spPr>
        <p:txBody>
          <a:bodyPr lIns="141480" rIns="141480" tIns="70920" bIns="70920" anchor="ctr">
            <a:noAutofit/>
          </a:bodyPr>
          <a:p>
            <a:pPr indent="0" algn="ctr">
              <a:buNone/>
              <a:tabLst>
                <a:tab algn="l" pos="0"/>
                <a:tab algn="l" pos="1414440"/>
                <a:tab algn="l" pos="2828880"/>
                <a:tab algn="l" pos="4243320"/>
                <a:tab algn="l" pos="5657760"/>
                <a:tab algn="l" pos="7072200"/>
                <a:tab algn="l" pos="8486640"/>
                <a:tab algn="l" pos="9901080"/>
              </a:tabLst>
            </a:pPr>
            <a:endParaRPr b="0" lang="en-US" sz="6800" spc="-1" strike="noStrike">
              <a:solidFill>
                <a:srgbClr val="e3e3ff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62120" y="2222280"/>
            <a:ext cx="4416480" cy="2977920"/>
          </a:xfrm>
          <a:prstGeom prst="rect">
            <a:avLst/>
          </a:prstGeom>
          <a:noFill/>
          <a:ln w="0">
            <a:noFill/>
          </a:ln>
        </p:spPr>
        <p:txBody>
          <a:bodyPr lIns="141480" rIns="141480" tIns="70920" bIns="7092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14440"/>
                <a:tab algn="l" pos="2828880"/>
                <a:tab algn="l" pos="4243320"/>
                <a:tab algn="l" pos="5657760"/>
                <a:tab algn="l" pos="7072200"/>
                <a:tab algn="l" pos="8486640"/>
                <a:tab algn="l" pos="9901080"/>
              </a:tabLst>
            </a:pP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399640" y="2222280"/>
            <a:ext cx="4416480" cy="2977920"/>
          </a:xfrm>
          <a:prstGeom prst="rect">
            <a:avLst/>
          </a:prstGeom>
          <a:noFill/>
          <a:ln w="0">
            <a:noFill/>
          </a:ln>
        </p:spPr>
        <p:txBody>
          <a:bodyPr lIns="141480" rIns="141480" tIns="70920" bIns="7092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14440"/>
                <a:tab algn="l" pos="2828880"/>
                <a:tab algn="l" pos="4243320"/>
                <a:tab algn="l" pos="5657760"/>
                <a:tab algn="l" pos="7072200"/>
                <a:tab algn="l" pos="8486640"/>
                <a:tab algn="l" pos="9901080"/>
              </a:tabLst>
            </a:pP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10037520" y="2222280"/>
            <a:ext cx="4416480" cy="2977920"/>
          </a:xfrm>
          <a:prstGeom prst="rect">
            <a:avLst/>
          </a:prstGeom>
          <a:noFill/>
          <a:ln w="0">
            <a:noFill/>
          </a:ln>
        </p:spPr>
        <p:txBody>
          <a:bodyPr lIns="141480" rIns="141480" tIns="70920" bIns="7092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14440"/>
                <a:tab algn="l" pos="2828880"/>
                <a:tab algn="l" pos="4243320"/>
                <a:tab algn="l" pos="5657760"/>
                <a:tab algn="l" pos="7072200"/>
                <a:tab algn="l" pos="8486640"/>
                <a:tab algn="l" pos="9901080"/>
              </a:tabLst>
            </a:pP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762120" y="5483520"/>
            <a:ext cx="4416480" cy="2977920"/>
          </a:xfrm>
          <a:prstGeom prst="rect">
            <a:avLst/>
          </a:prstGeom>
          <a:noFill/>
          <a:ln w="0">
            <a:noFill/>
          </a:ln>
        </p:spPr>
        <p:txBody>
          <a:bodyPr lIns="141480" rIns="141480" tIns="70920" bIns="7092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14440"/>
                <a:tab algn="l" pos="2828880"/>
                <a:tab algn="l" pos="4243320"/>
                <a:tab algn="l" pos="5657760"/>
                <a:tab algn="l" pos="7072200"/>
                <a:tab algn="l" pos="8486640"/>
                <a:tab algn="l" pos="9901080"/>
              </a:tabLst>
            </a:pP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5399640" y="5483520"/>
            <a:ext cx="4416480" cy="2977920"/>
          </a:xfrm>
          <a:prstGeom prst="rect">
            <a:avLst/>
          </a:prstGeom>
          <a:noFill/>
          <a:ln w="0">
            <a:noFill/>
          </a:ln>
        </p:spPr>
        <p:txBody>
          <a:bodyPr lIns="141480" rIns="141480" tIns="70920" bIns="7092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14440"/>
                <a:tab algn="l" pos="2828880"/>
                <a:tab algn="l" pos="4243320"/>
                <a:tab algn="l" pos="5657760"/>
                <a:tab algn="l" pos="7072200"/>
                <a:tab algn="l" pos="8486640"/>
                <a:tab algn="l" pos="9901080"/>
              </a:tabLst>
            </a:pP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10037520" y="5483520"/>
            <a:ext cx="4416480" cy="2977920"/>
          </a:xfrm>
          <a:prstGeom prst="rect">
            <a:avLst/>
          </a:prstGeom>
          <a:noFill/>
          <a:ln w="0">
            <a:noFill/>
          </a:ln>
        </p:spPr>
        <p:txBody>
          <a:bodyPr lIns="141480" rIns="141480" tIns="70920" bIns="7092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14440"/>
                <a:tab algn="l" pos="2828880"/>
                <a:tab algn="l" pos="4243320"/>
                <a:tab algn="l" pos="5657760"/>
                <a:tab algn="l" pos="7072200"/>
                <a:tab algn="l" pos="8486640"/>
                <a:tab algn="l" pos="9901080"/>
              </a:tabLst>
            </a:pP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3AFAAE-7A3F-40A5-8B52-A7DB3388D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62120" y="317520"/>
            <a:ext cx="13716000" cy="1587600"/>
          </a:xfrm>
          <a:prstGeom prst="rect">
            <a:avLst/>
          </a:prstGeom>
          <a:noFill/>
          <a:ln w="0">
            <a:noFill/>
          </a:ln>
        </p:spPr>
        <p:txBody>
          <a:bodyPr lIns="141480" rIns="141480" tIns="70920" bIns="70920" anchor="ctr">
            <a:noAutofit/>
          </a:bodyPr>
          <a:p>
            <a:pPr indent="0" algn="ctr">
              <a:buNone/>
              <a:tabLst>
                <a:tab algn="l" pos="0"/>
                <a:tab algn="l" pos="1414440"/>
                <a:tab algn="l" pos="2828880"/>
                <a:tab algn="l" pos="4243320"/>
                <a:tab algn="l" pos="5657760"/>
                <a:tab algn="l" pos="7072200"/>
                <a:tab algn="l" pos="8486640"/>
                <a:tab algn="l" pos="9901080"/>
              </a:tabLst>
            </a:pPr>
            <a:endParaRPr b="0" lang="en-US" sz="6800" spc="-1" strike="noStrike">
              <a:solidFill>
                <a:srgbClr val="e3e3ff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62120" y="2222280"/>
            <a:ext cx="13716000" cy="6243480"/>
          </a:xfrm>
          <a:prstGeom prst="rect">
            <a:avLst/>
          </a:prstGeom>
          <a:noFill/>
          <a:ln w="0">
            <a:noFill/>
          </a:ln>
        </p:spPr>
        <p:txBody>
          <a:bodyPr lIns="141480" rIns="141480" tIns="70920" bIns="7092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14440"/>
                <a:tab algn="l" pos="2828880"/>
                <a:tab algn="l" pos="4243320"/>
                <a:tab algn="l" pos="5657760"/>
                <a:tab algn="l" pos="7072200"/>
                <a:tab algn="l" pos="8486640"/>
                <a:tab algn="l" pos="9901080"/>
              </a:tabLst>
            </a:pP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B43C5-9A98-4C0F-BFB5-A76152491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317520"/>
            <a:ext cx="13716000" cy="1587600"/>
          </a:xfrm>
          <a:prstGeom prst="rect">
            <a:avLst/>
          </a:prstGeom>
          <a:noFill/>
          <a:ln w="0">
            <a:noFill/>
          </a:ln>
        </p:spPr>
        <p:txBody>
          <a:bodyPr lIns="141480" rIns="141480" tIns="70920" bIns="70920" anchor="ctr">
            <a:noAutofit/>
          </a:bodyPr>
          <a:p>
            <a:pPr indent="0" algn="ctr">
              <a:buNone/>
              <a:tabLst>
                <a:tab algn="l" pos="0"/>
                <a:tab algn="l" pos="1414440"/>
                <a:tab algn="l" pos="2828880"/>
                <a:tab algn="l" pos="4243320"/>
                <a:tab algn="l" pos="5657760"/>
                <a:tab algn="l" pos="7072200"/>
                <a:tab algn="l" pos="8486640"/>
                <a:tab algn="l" pos="9901080"/>
              </a:tabLst>
            </a:pPr>
            <a:endParaRPr b="0" lang="en-US" sz="6800" spc="-1" strike="noStrike">
              <a:solidFill>
                <a:srgbClr val="e3e3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2222280"/>
            <a:ext cx="6693120" cy="6243480"/>
          </a:xfrm>
          <a:prstGeom prst="rect">
            <a:avLst/>
          </a:prstGeom>
          <a:noFill/>
          <a:ln w="0">
            <a:noFill/>
          </a:ln>
        </p:spPr>
        <p:txBody>
          <a:bodyPr lIns="141480" rIns="141480" tIns="70920" bIns="7092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14440"/>
                <a:tab algn="l" pos="2828880"/>
                <a:tab algn="l" pos="4243320"/>
                <a:tab algn="l" pos="5657760"/>
                <a:tab algn="l" pos="7072200"/>
                <a:tab algn="l" pos="8486640"/>
                <a:tab algn="l" pos="9901080"/>
              </a:tabLst>
            </a:pP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790400" y="2222280"/>
            <a:ext cx="6693120" cy="6243480"/>
          </a:xfrm>
          <a:prstGeom prst="rect">
            <a:avLst/>
          </a:prstGeom>
          <a:noFill/>
          <a:ln w="0">
            <a:noFill/>
          </a:ln>
        </p:spPr>
        <p:txBody>
          <a:bodyPr lIns="141480" rIns="141480" tIns="70920" bIns="7092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14440"/>
                <a:tab algn="l" pos="2828880"/>
                <a:tab algn="l" pos="4243320"/>
                <a:tab algn="l" pos="5657760"/>
                <a:tab algn="l" pos="7072200"/>
                <a:tab algn="l" pos="8486640"/>
                <a:tab algn="l" pos="9901080"/>
              </a:tabLst>
            </a:pP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D8179-9CC0-439A-97D7-F5E77B993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2120" y="317520"/>
            <a:ext cx="13716000" cy="1587600"/>
          </a:xfrm>
          <a:prstGeom prst="rect">
            <a:avLst/>
          </a:prstGeom>
          <a:noFill/>
          <a:ln w="0">
            <a:noFill/>
          </a:ln>
        </p:spPr>
        <p:txBody>
          <a:bodyPr lIns="141480" rIns="141480" tIns="70920" bIns="70920" anchor="ctr">
            <a:noAutofit/>
          </a:bodyPr>
          <a:p>
            <a:pPr indent="0" algn="ctr">
              <a:buNone/>
              <a:tabLst>
                <a:tab algn="l" pos="0"/>
                <a:tab algn="l" pos="1414440"/>
                <a:tab algn="l" pos="2828880"/>
                <a:tab algn="l" pos="4243320"/>
                <a:tab algn="l" pos="5657760"/>
                <a:tab algn="l" pos="7072200"/>
                <a:tab algn="l" pos="8486640"/>
                <a:tab algn="l" pos="9901080"/>
              </a:tabLst>
            </a:pPr>
            <a:endParaRPr b="0" lang="en-US" sz="6800" spc="-1" strike="noStrike">
              <a:solidFill>
                <a:srgbClr val="e3e3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2AA69-67A1-46EB-A9E4-8E4E27311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762120" y="317520"/>
            <a:ext cx="13716000" cy="736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1414440"/>
                <a:tab algn="l" pos="2828880"/>
                <a:tab algn="l" pos="4243320"/>
                <a:tab algn="l" pos="5657760"/>
                <a:tab algn="l" pos="7072200"/>
                <a:tab algn="l" pos="8486640"/>
                <a:tab algn="l" pos="9901080"/>
              </a:tabLst>
            </a:pP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A3730-8A1B-42E2-9DC5-7EE1F8359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2120" y="317520"/>
            <a:ext cx="13716000" cy="1587600"/>
          </a:xfrm>
          <a:prstGeom prst="rect">
            <a:avLst/>
          </a:prstGeom>
          <a:noFill/>
          <a:ln w="0">
            <a:noFill/>
          </a:ln>
        </p:spPr>
        <p:txBody>
          <a:bodyPr lIns="141480" rIns="141480" tIns="70920" bIns="70920" anchor="ctr">
            <a:noAutofit/>
          </a:bodyPr>
          <a:p>
            <a:pPr indent="0" algn="ctr">
              <a:buNone/>
              <a:tabLst>
                <a:tab algn="l" pos="0"/>
                <a:tab algn="l" pos="1414440"/>
                <a:tab algn="l" pos="2828880"/>
                <a:tab algn="l" pos="4243320"/>
                <a:tab algn="l" pos="5657760"/>
                <a:tab algn="l" pos="7072200"/>
                <a:tab algn="l" pos="8486640"/>
                <a:tab algn="l" pos="9901080"/>
              </a:tabLst>
            </a:pPr>
            <a:endParaRPr b="0" lang="en-US" sz="6800" spc="-1" strike="noStrike">
              <a:solidFill>
                <a:srgbClr val="e3e3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2120" y="2222280"/>
            <a:ext cx="6693120" cy="2977920"/>
          </a:xfrm>
          <a:prstGeom prst="rect">
            <a:avLst/>
          </a:prstGeom>
          <a:noFill/>
          <a:ln w="0">
            <a:noFill/>
          </a:ln>
        </p:spPr>
        <p:txBody>
          <a:bodyPr lIns="141480" rIns="141480" tIns="70920" bIns="7092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14440"/>
                <a:tab algn="l" pos="2828880"/>
                <a:tab algn="l" pos="4243320"/>
                <a:tab algn="l" pos="5657760"/>
                <a:tab algn="l" pos="7072200"/>
                <a:tab algn="l" pos="8486640"/>
                <a:tab algn="l" pos="9901080"/>
              </a:tabLst>
            </a:pP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7790400" y="2222280"/>
            <a:ext cx="6693120" cy="6243480"/>
          </a:xfrm>
          <a:prstGeom prst="rect">
            <a:avLst/>
          </a:prstGeom>
          <a:noFill/>
          <a:ln w="0">
            <a:noFill/>
          </a:ln>
        </p:spPr>
        <p:txBody>
          <a:bodyPr lIns="141480" rIns="141480" tIns="70920" bIns="7092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14440"/>
                <a:tab algn="l" pos="2828880"/>
                <a:tab algn="l" pos="4243320"/>
                <a:tab algn="l" pos="5657760"/>
                <a:tab algn="l" pos="7072200"/>
                <a:tab algn="l" pos="8486640"/>
                <a:tab algn="l" pos="9901080"/>
              </a:tabLst>
            </a:pP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62120" y="5483520"/>
            <a:ext cx="6693120" cy="2977920"/>
          </a:xfrm>
          <a:prstGeom prst="rect">
            <a:avLst/>
          </a:prstGeom>
          <a:noFill/>
          <a:ln w="0">
            <a:noFill/>
          </a:ln>
        </p:spPr>
        <p:txBody>
          <a:bodyPr lIns="141480" rIns="141480" tIns="70920" bIns="7092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14440"/>
                <a:tab algn="l" pos="2828880"/>
                <a:tab algn="l" pos="4243320"/>
                <a:tab algn="l" pos="5657760"/>
                <a:tab algn="l" pos="7072200"/>
                <a:tab algn="l" pos="8486640"/>
                <a:tab algn="l" pos="9901080"/>
              </a:tabLst>
            </a:pP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61FF9-55BD-4124-BAC0-5601F4500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762120" y="317520"/>
            <a:ext cx="13716000" cy="1587600"/>
          </a:xfrm>
          <a:prstGeom prst="rect">
            <a:avLst/>
          </a:prstGeom>
          <a:noFill/>
          <a:ln w="0">
            <a:noFill/>
          </a:ln>
        </p:spPr>
        <p:txBody>
          <a:bodyPr lIns="141480" rIns="141480" tIns="70920" bIns="70920" anchor="ctr">
            <a:noAutofit/>
          </a:bodyPr>
          <a:p>
            <a:pPr indent="0" algn="ctr">
              <a:buNone/>
              <a:tabLst>
                <a:tab algn="l" pos="0"/>
                <a:tab algn="l" pos="1414440"/>
                <a:tab algn="l" pos="2828880"/>
                <a:tab algn="l" pos="4243320"/>
                <a:tab algn="l" pos="5657760"/>
                <a:tab algn="l" pos="7072200"/>
                <a:tab algn="l" pos="8486640"/>
                <a:tab algn="l" pos="9901080"/>
              </a:tabLst>
            </a:pPr>
            <a:endParaRPr b="0" lang="en-US" sz="6800" spc="-1" strike="noStrike">
              <a:solidFill>
                <a:srgbClr val="e3e3ff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762120" y="2222280"/>
            <a:ext cx="6693120" cy="6243480"/>
          </a:xfrm>
          <a:prstGeom prst="rect">
            <a:avLst/>
          </a:prstGeom>
          <a:noFill/>
          <a:ln w="0">
            <a:noFill/>
          </a:ln>
        </p:spPr>
        <p:txBody>
          <a:bodyPr lIns="141480" rIns="141480" tIns="70920" bIns="7092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14440"/>
                <a:tab algn="l" pos="2828880"/>
                <a:tab algn="l" pos="4243320"/>
                <a:tab algn="l" pos="5657760"/>
                <a:tab algn="l" pos="7072200"/>
                <a:tab algn="l" pos="8486640"/>
                <a:tab algn="l" pos="9901080"/>
              </a:tabLst>
            </a:pP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7790400" y="2222280"/>
            <a:ext cx="6693120" cy="2977920"/>
          </a:xfrm>
          <a:prstGeom prst="rect">
            <a:avLst/>
          </a:prstGeom>
          <a:noFill/>
          <a:ln w="0">
            <a:noFill/>
          </a:ln>
        </p:spPr>
        <p:txBody>
          <a:bodyPr lIns="141480" rIns="141480" tIns="70920" bIns="7092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14440"/>
                <a:tab algn="l" pos="2828880"/>
                <a:tab algn="l" pos="4243320"/>
                <a:tab algn="l" pos="5657760"/>
                <a:tab algn="l" pos="7072200"/>
                <a:tab algn="l" pos="8486640"/>
                <a:tab algn="l" pos="9901080"/>
              </a:tabLst>
            </a:pP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7790400" y="5483520"/>
            <a:ext cx="6693120" cy="2977920"/>
          </a:xfrm>
          <a:prstGeom prst="rect">
            <a:avLst/>
          </a:prstGeom>
          <a:noFill/>
          <a:ln w="0">
            <a:noFill/>
          </a:ln>
        </p:spPr>
        <p:txBody>
          <a:bodyPr lIns="141480" rIns="141480" tIns="70920" bIns="7092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14440"/>
                <a:tab algn="l" pos="2828880"/>
                <a:tab algn="l" pos="4243320"/>
                <a:tab algn="l" pos="5657760"/>
                <a:tab algn="l" pos="7072200"/>
                <a:tab algn="l" pos="8486640"/>
                <a:tab algn="l" pos="9901080"/>
              </a:tabLst>
            </a:pP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7694B-FABB-4BA3-AD72-A00D8FF2E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62120" y="317520"/>
            <a:ext cx="13716000" cy="1587600"/>
          </a:xfrm>
          <a:prstGeom prst="rect">
            <a:avLst/>
          </a:prstGeom>
          <a:noFill/>
          <a:ln w="0">
            <a:noFill/>
          </a:ln>
        </p:spPr>
        <p:txBody>
          <a:bodyPr lIns="141480" rIns="141480" tIns="70920" bIns="70920" anchor="ctr">
            <a:noAutofit/>
          </a:bodyPr>
          <a:p>
            <a:pPr indent="0" algn="ctr">
              <a:buNone/>
              <a:tabLst>
                <a:tab algn="l" pos="0"/>
                <a:tab algn="l" pos="1414440"/>
                <a:tab algn="l" pos="2828880"/>
                <a:tab algn="l" pos="4243320"/>
                <a:tab algn="l" pos="5657760"/>
                <a:tab algn="l" pos="7072200"/>
                <a:tab algn="l" pos="8486640"/>
                <a:tab algn="l" pos="9901080"/>
              </a:tabLst>
            </a:pPr>
            <a:endParaRPr b="0" lang="en-US" sz="6800" spc="-1" strike="noStrike">
              <a:solidFill>
                <a:srgbClr val="e3e3ff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762120" y="2222280"/>
            <a:ext cx="6693120" cy="2977920"/>
          </a:xfrm>
          <a:prstGeom prst="rect">
            <a:avLst/>
          </a:prstGeom>
          <a:noFill/>
          <a:ln w="0">
            <a:noFill/>
          </a:ln>
        </p:spPr>
        <p:txBody>
          <a:bodyPr lIns="141480" rIns="141480" tIns="70920" bIns="7092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14440"/>
                <a:tab algn="l" pos="2828880"/>
                <a:tab algn="l" pos="4243320"/>
                <a:tab algn="l" pos="5657760"/>
                <a:tab algn="l" pos="7072200"/>
                <a:tab algn="l" pos="8486640"/>
                <a:tab algn="l" pos="9901080"/>
              </a:tabLst>
            </a:pP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7790400" y="2222280"/>
            <a:ext cx="6693120" cy="2977920"/>
          </a:xfrm>
          <a:prstGeom prst="rect">
            <a:avLst/>
          </a:prstGeom>
          <a:noFill/>
          <a:ln w="0">
            <a:noFill/>
          </a:ln>
        </p:spPr>
        <p:txBody>
          <a:bodyPr lIns="141480" rIns="141480" tIns="70920" bIns="7092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14440"/>
                <a:tab algn="l" pos="2828880"/>
                <a:tab algn="l" pos="4243320"/>
                <a:tab algn="l" pos="5657760"/>
                <a:tab algn="l" pos="7072200"/>
                <a:tab algn="l" pos="8486640"/>
                <a:tab algn="l" pos="9901080"/>
              </a:tabLst>
            </a:pP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762120" y="5483520"/>
            <a:ext cx="13716000" cy="2977920"/>
          </a:xfrm>
          <a:prstGeom prst="rect">
            <a:avLst/>
          </a:prstGeom>
          <a:noFill/>
          <a:ln w="0">
            <a:noFill/>
          </a:ln>
        </p:spPr>
        <p:txBody>
          <a:bodyPr lIns="141480" rIns="141480" tIns="70920" bIns="7092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1414440"/>
                <a:tab algn="l" pos="2828880"/>
                <a:tab algn="l" pos="4243320"/>
                <a:tab algn="l" pos="5657760"/>
                <a:tab algn="l" pos="7072200"/>
                <a:tab algn="l" pos="8486640"/>
                <a:tab algn="l" pos="9901080"/>
              </a:tabLst>
            </a:pP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F9AC8-D447-4235-BBCD-1C42810C8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5239520" cy="9524160"/>
            <a:chOff x="0" y="0"/>
            <a:chExt cx="15239520" cy="9524160"/>
          </a:xfrm>
        </p:grpSpPr>
        <p:sp>
          <p:nvSpPr>
            <p:cNvPr id="1" name=""/>
            <p:cNvSpPr/>
            <p:nvPr/>
          </p:nvSpPr>
          <p:spPr>
            <a:xfrm>
              <a:off x="0" y="6773040"/>
              <a:ext cx="15239520" cy="27511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15239520" cy="677304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10414080" y="8697960"/>
            <a:ext cx="4825800" cy="84780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8361360"/>
            <a:ext cx="13079880" cy="1189800"/>
            <a:chOff x="0" y="8361360"/>
            <a:chExt cx="13079880" cy="1189800"/>
          </a:xfrm>
        </p:grpSpPr>
        <p:sp>
          <p:nvSpPr>
            <p:cNvPr id="5" name=""/>
            <p:cNvSpPr/>
            <p:nvPr/>
          </p:nvSpPr>
          <p:spPr>
            <a:xfrm>
              <a:off x="3936960" y="8361360"/>
              <a:ext cx="8571600" cy="118116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6577200" y="8361360"/>
              <a:ext cx="6502680" cy="1189800"/>
              <a:chOff x="6577200" y="8361360"/>
              <a:chExt cx="6502680" cy="1189800"/>
            </a:xfrm>
          </p:grpSpPr>
          <p:sp>
            <p:nvSpPr>
              <p:cNvPr id="7" name=""/>
              <p:cNvSpPr/>
              <p:nvPr/>
            </p:nvSpPr>
            <p:spPr>
              <a:xfrm>
                <a:off x="10445040" y="8376840"/>
                <a:ext cx="2634840" cy="117432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082280" y="8361360"/>
                <a:ext cx="491760" cy="87048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5760" y="8583480"/>
                <a:ext cx="1000080" cy="59724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9597600" y="8524080"/>
                <a:ext cx="410040" cy="16272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6577200" y="8508600"/>
                <a:ext cx="110880" cy="17820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8361360"/>
              <a:ext cx="10519200" cy="117936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1044720" y="8362800"/>
            <a:ext cx="9474840" cy="1179000"/>
            <a:chOff x="1044720" y="8362800"/>
            <a:chExt cx="9474840" cy="1179000"/>
          </a:xfrm>
        </p:grpSpPr>
        <p:sp>
          <p:nvSpPr>
            <p:cNvPr id="14" name=""/>
            <p:cNvSpPr/>
            <p:nvPr/>
          </p:nvSpPr>
          <p:spPr>
            <a:xfrm>
              <a:off x="3164040" y="8362800"/>
              <a:ext cx="965880" cy="64152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140440" y="8442000"/>
              <a:ext cx="5379120" cy="10998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41640" y="8428680"/>
              <a:ext cx="187560" cy="13428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261520" y="8470800"/>
              <a:ext cx="425880" cy="36144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867320" y="8497080"/>
              <a:ext cx="155880" cy="13428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044720" y="8402040"/>
              <a:ext cx="648000" cy="4564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62120" y="317520"/>
            <a:ext cx="13716000" cy="1587600"/>
          </a:xfrm>
          <a:prstGeom prst="rect">
            <a:avLst/>
          </a:prstGeom>
          <a:noFill/>
          <a:ln w="0">
            <a:noFill/>
          </a:ln>
        </p:spPr>
        <p:txBody>
          <a:bodyPr lIns="141480" rIns="141480" tIns="70920" bIns="70920" anchor="ctr">
            <a:noAutofit/>
          </a:bodyPr>
          <a:p>
            <a:pPr indent="0" algn="ctr">
              <a:buNone/>
              <a:tabLst>
                <a:tab algn="l" pos="0"/>
                <a:tab algn="l" pos="1414440"/>
                <a:tab algn="l" pos="2828880"/>
                <a:tab algn="l" pos="4243320"/>
                <a:tab algn="l" pos="5657760"/>
                <a:tab algn="l" pos="7072200"/>
                <a:tab algn="l" pos="8486640"/>
                <a:tab algn="l" pos="9901080"/>
              </a:tabLst>
            </a:pPr>
            <a:r>
              <a:rPr b="0" lang="en-US" sz="6800" spc="-1" strike="noStrike">
                <a:solidFill>
                  <a:srgbClr val="e3e3ff"/>
                </a:solidFill>
                <a:latin typeface="굴림"/>
              </a:rPr>
              <a:t>Click to edit the title text format</a:t>
            </a:r>
            <a:endParaRPr b="0" lang="en-US" sz="6800" spc="-1" strike="noStrike">
              <a:solidFill>
                <a:srgbClr val="e3e3ff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762120" y="2222280"/>
            <a:ext cx="13716000" cy="6243480"/>
          </a:xfrm>
          <a:prstGeom prst="rect">
            <a:avLst/>
          </a:prstGeom>
          <a:noFill/>
          <a:ln w="0">
            <a:noFill/>
          </a:ln>
        </p:spPr>
        <p:txBody>
          <a:bodyPr lIns="141480" rIns="141480" tIns="70920" bIns="70920" anchor="t">
            <a:normAutofit fontScale="97000"/>
          </a:bodyPr>
          <a:p>
            <a:pPr marL="514080" indent="-514080">
              <a:spcBef>
                <a:spcPts val="1250"/>
              </a:spcBef>
              <a:buClr>
                <a:srgbClr val="e3e3ff"/>
              </a:buClr>
              <a:buFont typeface="굴림"/>
              <a:buChar char="•"/>
              <a:tabLst>
                <a:tab algn="l" pos="1414440"/>
                <a:tab algn="l" pos="2828880"/>
                <a:tab algn="l" pos="4243320"/>
                <a:tab algn="l" pos="5657760"/>
                <a:tab algn="l" pos="7072200"/>
                <a:tab algn="l" pos="8486640"/>
                <a:tab algn="l" pos="990108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  <a:p>
            <a:pPr lvl="1" marL="1114920" indent="-428040">
              <a:spcBef>
                <a:spcPts val="1250"/>
              </a:spcBef>
              <a:buClr>
                <a:srgbClr val="ffffff"/>
              </a:buClr>
              <a:buFont typeface="굴림"/>
              <a:buChar char="–"/>
              <a:tabLst>
                <a:tab algn="l" pos="1414440"/>
                <a:tab algn="l" pos="2828880"/>
                <a:tab algn="l" pos="4243320"/>
                <a:tab algn="l" pos="5657760"/>
                <a:tab algn="l" pos="7072200"/>
                <a:tab algn="l" pos="8486640"/>
                <a:tab algn="l" pos="990108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  <a:p>
            <a:pPr lvl="2" marL="1715040" indent="-343080">
              <a:spcBef>
                <a:spcPts val="1250"/>
              </a:spcBef>
              <a:buClr>
                <a:srgbClr val="e3e3ff"/>
              </a:buClr>
              <a:buFont typeface="굴림"/>
              <a:buChar char="•"/>
              <a:tabLst>
                <a:tab algn="l" pos="1414440"/>
                <a:tab algn="l" pos="2828880"/>
                <a:tab algn="l" pos="4243320"/>
                <a:tab algn="l" pos="5657760"/>
                <a:tab algn="l" pos="7072200"/>
                <a:tab algn="l" pos="8486640"/>
                <a:tab algn="l" pos="990108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  <a:p>
            <a:pPr lvl="3" marL="2401920" indent="-343080">
              <a:spcBef>
                <a:spcPts val="1250"/>
              </a:spcBef>
              <a:buClr>
                <a:srgbClr val="ffffff"/>
              </a:buClr>
              <a:buFont typeface="굴림"/>
              <a:buChar char="–"/>
              <a:tabLst>
                <a:tab algn="l" pos="1414440"/>
                <a:tab algn="l" pos="2828880"/>
                <a:tab algn="l" pos="4243320"/>
                <a:tab algn="l" pos="5657760"/>
                <a:tab algn="l" pos="7072200"/>
                <a:tab algn="l" pos="8486640"/>
                <a:tab algn="l" pos="990108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  <a:p>
            <a:pPr lvl="4" marL="3088800" indent="-343080">
              <a:spcBef>
                <a:spcPts val="1250"/>
              </a:spcBef>
              <a:buClr>
                <a:srgbClr val="e3e3ff"/>
              </a:buClr>
              <a:buFont typeface="굴림"/>
              <a:buChar char="•"/>
              <a:tabLst>
                <a:tab algn="l" pos="1414440"/>
                <a:tab algn="l" pos="2828880"/>
                <a:tab algn="l" pos="4243320"/>
                <a:tab algn="l" pos="5657760"/>
                <a:tab algn="l" pos="7072200"/>
                <a:tab algn="l" pos="8486640"/>
                <a:tab algn="l" pos="990108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  <a:p>
            <a:pPr lvl="5" marL="3088800" indent="-343080">
              <a:spcBef>
                <a:spcPts val="1250"/>
              </a:spcBef>
              <a:buClr>
                <a:srgbClr val="ffffff"/>
              </a:buClr>
              <a:buFont typeface="굴림"/>
              <a:buChar char="•"/>
              <a:tabLst>
                <a:tab algn="l" pos="1414440"/>
                <a:tab algn="l" pos="2828880"/>
                <a:tab algn="l" pos="4243320"/>
                <a:tab algn="l" pos="5657760"/>
                <a:tab algn="l" pos="7072200"/>
                <a:tab algn="l" pos="8486640"/>
                <a:tab algn="l" pos="990108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  <a:p>
            <a:pPr lvl="6" marL="3088800" indent="-343080">
              <a:spcBef>
                <a:spcPts val="1250"/>
              </a:spcBef>
              <a:buClr>
                <a:srgbClr val="ffffff"/>
              </a:buClr>
              <a:buFont typeface="굴림"/>
              <a:buChar char="•"/>
              <a:tabLst>
                <a:tab algn="l" pos="1414440"/>
                <a:tab algn="l" pos="2828880"/>
                <a:tab algn="l" pos="4243320"/>
                <a:tab algn="l" pos="5657760"/>
                <a:tab algn="l" pos="7072200"/>
                <a:tab algn="l" pos="8486640"/>
                <a:tab algn="l" pos="990108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761760" y="8678880"/>
            <a:ext cx="3555720" cy="635040"/>
          </a:xfrm>
          <a:prstGeom prst="rect">
            <a:avLst/>
          </a:prstGeom>
          <a:noFill/>
          <a:ln w="0">
            <a:noFill/>
          </a:ln>
        </p:spPr>
        <p:txBody>
          <a:bodyPr lIns="141480" rIns="141480" tIns="70920" bIns="7092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414440"/>
                <a:tab algn="l" pos="2828880"/>
                <a:tab algn="l" pos="4243320"/>
                <a:tab algn="l" pos="5657760"/>
                <a:tab algn="l" pos="7072200"/>
                <a:tab algn="l" pos="8486640"/>
                <a:tab algn="l" pos="9901080"/>
              </a:tabLst>
              <a:defRPr b="0" lang="en-US" sz="1900" spc="-1" strike="noStrike">
                <a:solidFill>
                  <a:srgbClr val="ffffff"/>
                </a:solidFill>
                <a:latin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414440"/>
                <a:tab algn="l" pos="2828880"/>
                <a:tab algn="l" pos="4243320"/>
                <a:tab algn="l" pos="5657760"/>
                <a:tab algn="l" pos="7072200"/>
                <a:tab algn="l" pos="8486640"/>
                <a:tab algn="l" pos="99010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굴림"/>
              </a:rPr>
              <a:t>&lt;date/time&gt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5206680" y="8678880"/>
            <a:ext cx="4825800" cy="635040"/>
          </a:xfrm>
          <a:prstGeom prst="rect">
            <a:avLst/>
          </a:prstGeom>
          <a:noFill/>
          <a:ln w="0">
            <a:noFill/>
          </a:ln>
        </p:spPr>
        <p:txBody>
          <a:bodyPr lIns="141480" rIns="141480" tIns="70920" bIns="7092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414440"/>
                <a:tab algn="l" pos="2828880"/>
                <a:tab algn="l" pos="4243320"/>
                <a:tab algn="l" pos="5657760"/>
                <a:tab algn="l" pos="7072200"/>
                <a:tab algn="l" pos="8486640"/>
                <a:tab algn="l" pos="9901080"/>
              </a:tabLst>
              <a:defRPr b="0" lang="en-US" sz="1900" spc="-1" strike="noStrike">
                <a:solidFill>
                  <a:srgbClr val="ffffff"/>
                </a:solidFill>
                <a:latin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414440"/>
                <a:tab algn="l" pos="2828880"/>
                <a:tab algn="l" pos="4243320"/>
                <a:tab algn="l" pos="5657760"/>
                <a:tab algn="l" pos="7072200"/>
                <a:tab algn="l" pos="8486640"/>
                <a:tab algn="l" pos="99010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굴림"/>
              </a:rPr>
              <a:t>&lt;footer&gt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10922040" y="8678880"/>
            <a:ext cx="3556080" cy="635040"/>
          </a:xfrm>
          <a:prstGeom prst="rect">
            <a:avLst/>
          </a:prstGeom>
          <a:noFill/>
          <a:ln w="0">
            <a:noFill/>
          </a:ln>
        </p:spPr>
        <p:txBody>
          <a:bodyPr lIns="141480" rIns="141480" tIns="70920" bIns="7092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414440"/>
                <a:tab algn="l" pos="2828880"/>
                <a:tab algn="l" pos="4243320"/>
                <a:tab algn="l" pos="5657760"/>
                <a:tab algn="l" pos="7072200"/>
                <a:tab algn="l" pos="8486640"/>
                <a:tab algn="l" pos="9901080"/>
              </a:tabLst>
              <a:defRPr b="0" lang="en-US" sz="1900" spc="-1" strike="noStrike">
                <a:solidFill>
                  <a:srgbClr val="ffffff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414440"/>
                <a:tab algn="l" pos="2828880"/>
                <a:tab algn="l" pos="4243320"/>
                <a:tab algn="l" pos="5657760"/>
                <a:tab algn="l" pos="7072200"/>
                <a:tab algn="l" pos="8486640"/>
                <a:tab algn="l" pos="9901080"/>
              </a:tabLst>
            </a:pPr>
            <a:fld id="{364C2695-E974-4329-9C6D-E44EBF5339DD}" type="slidenum">
              <a:rPr b="0" lang="en-US" sz="1900" spc="-1" strike="noStrike">
                <a:solidFill>
                  <a:srgbClr val="ffffff"/>
                </a:solidFill>
                <a:latin typeface="굴림"/>
              </a:rPr>
              <a:t>&lt;number&gt;</a:t>
            </a:fld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11160" y="28440"/>
            <a:ext cx="15239520" cy="9524880"/>
            <a:chOff x="-11160" y="28440"/>
            <a:chExt cx="15239520" cy="9524880"/>
          </a:xfrm>
        </p:grpSpPr>
        <p:sp>
          <p:nvSpPr>
            <p:cNvPr id="62" name=""/>
            <p:cNvSpPr/>
            <p:nvPr/>
          </p:nvSpPr>
          <p:spPr>
            <a:xfrm>
              <a:off x="-11160" y="6801840"/>
              <a:ext cx="15239520" cy="27514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11160" y="28440"/>
              <a:ext cx="15239520" cy="677340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10402920" y="8707320"/>
            <a:ext cx="4825800" cy="84636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3240" y="8380440"/>
            <a:ext cx="13075200" cy="1182240"/>
            <a:chOff x="-3240" y="8380440"/>
            <a:chExt cx="13075200" cy="1182240"/>
          </a:xfrm>
        </p:grpSpPr>
        <p:sp>
          <p:nvSpPr>
            <p:cNvPr id="66" name=""/>
            <p:cNvSpPr/>
            <p:nvPr/>
          </p:nvSpPr>
          <p:spPr>
            <a:xfrm>
              <a:off x="3933720" y="8380440"/>
              <a:ext cx="8572320" cy="118224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6574680" y="8380440"/>
              <a:ext cx="6497280" cy="1181880"/>
              <a:chOff x="6574680" y="8380440"/>
              <a:chExt cx="6497280" cy="1181880"/>
            </a:xfrm>
          </p:grpSpPr>
          <p:sp>
            <p:nvSpPr>
              <p:cNvPr id="68" name=""/>
              <p:cNvSpPr/>
              <p:nvPr/>
            </p:nvSpPr>
            <p:spPr>
              <a:xfrm>
                <a:off x="10442520" y="8395920"/>
                <a:ext cx="2629440" cy="116640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7079760" y="8380440"/>
                <a:ext cx="491760" cy="87120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8013240" y="8602920"/>
                <a:ext cx="1000080" cy="5976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9595440" y="8543520"/>
                <a:ext cx="410040" cy="16308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574680" y="8527680"/>
                <a:ext cx="110880" cy="17856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3240" y="8380440"/>
              <a:ext cx="10519920" cy="11804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1044720" y="8362800"/>
            <a:ext cx="9474840" cy="1179000"/>
            <a:chOff x="1044720" y="8362800"/>
            <a:chExt cx="9474840" cy="1179000"/>
          </a:xfrm>
        </p:grpSpPr>
        <p:sp>
          <p:nvSpPr>
            <p:cNvPr id="75" name=""/>
            <p:cNvSpPr/>
            <p:nvPr/>
          </p:nvSpPr>
          <p:spPr>
            <a:xfrm>
              <a:off x="3164040" y="8362800"/>
              <a:ext cx="965880" cy="64152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140440" y="8442000"/>
              <a:ext cx="5379120" cy="10998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841640" y="8428680"/>
              <a:ext cx="187560" cy="13428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261520" y="8470800"/>
              <a:ext cx="425880" cy="36144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867320" y="8497080"/>
              <a:ext cx="155880" cy="13428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044720" y="8402040"/>
              <a:ext cx="648000" cy="4564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2011320"/>
            <a:ext cx="13716000" cy="2411280"/>
          </a:xfrm>
          <a:prstGeom prst="rect">
            <a:avLst/>
          </a:prstGeom>
          <a:noFill/>
          <a:ln w="0">
            <a:noFill/>
          </a:ln>
        </p:spPr>
        <p:txBody>
          <a:bodyPr lIns="141480" rIns="141480" tIns="70920" bIns="70920" anchor="ctr">
            <a:noAutofit/>
          </a:bodyPr>
          <a:p>
            <a:pPr indent="0" algn="ctr">
              <a:buNone/>
              <a:tabLst>
                <a:tab algn="l" pos="0"/>
                <a:tab algn="l" pos="1414440"/>
                <a:tab algn="l" pos="2828880"/>
                <a:tab algn="l" pos="4243320"/>
                <a:tab algn="l" pos="5657760"/>
                <a:tab algn="l" pos="7072200"/>
                <a:tab algn="l" pos="8486640"/>
                <a:tab algn="l" pos="9901080"/>
              </a:tabLst>
            </a:pPr>
            <a:r>
              <a:rPr b="0" lang="en-US" sz="8400" spc="-1" strike="noStrike">
                <a:solidFill>
                  <a:srgbClr val="e3e3ff"/>
                </a:solidFill>
                <a:latin typeface="굴림"/>
              </a:rPr>
              <a:t>Click to edit the title text format</a:t>
            </a:r>
            <a:endParaRPr b="0" lang="en-US" sz="8400" spc="-1" strike="noStrike">
              <a:solidFill>
                <a:srgbClr val="e3e3ff"/>
              </a:solidFill>
              <a:latin typeface="굴림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761760" y="8678880"/>
            <a:ext cx="3555720" cy="635040"/>
          </a:xfrm>
          <a:prstGeom prst="rect">
            <a:avLst/>
          </a:prstGeom>
          <a:noFill/>
          <a:ln w="0">
            <a:noFill/>
          </a:ln>
        </p:spPr>
        <p:txBody>
          <a:bodyPr lIns="141480" rIns="141480" tIns="70920" bIns="7092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414440"/>
                <a:tab algn="l" pos="2828880"/>
                <a:tab algn="l" pos="4243320"/>
                <a:tab algn="l" pos="5657760"/>
                <a:tab algn="l" pos="7072200"/>
                <a:tab algn="l" pos="8486640"/>
                <a:tab algn="l" pos="9901080"/>
              </a:tabLst>
              <a:defRPr b="0" lang="en-US" sz="1900" spc="-1" strike="noStrike">
                <a:solidFill>
                  <a:srgbClr val="ffffff"/>
                </a:solidFill>
                <a:latin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414440"/>
                <a:tab algn="l" pos="2828880"/>
                <a:tab algn="l" pos="4243320"/>
                <a:tab algn="l" pos="5657760"/>
                <a:tab algn="l" pos="7072200"/>
                <a:tab algn="l" pos="8486640"/>
                <a:tab algn="l" pos="99010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굴림"/>
              </a:rPr>
              <a:t>&lt;date/time&gt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10922040" y="8678880"/>
            <a:ext cx="3556080" cy="635040"/>
          </a:xfrm>
          <a:prstGeom prst="rect">
            <a:avLst/>
          </a:prstGeom>
          <a:noFill/>
          <a:ln w="0">
            <a:noFill/>
          </a:ln>
        </p:spPr>
        <p:txBody>
          <a:bodyPr lIns="141480" rIns="141480" tIns="70920" bIns="7092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414440"/>
                <a:tab algn="l" pos="2828880"/>
                <a:tab algn="l" pos="4243320"/>
                <a:tab algn="l" pos="5657760"/>
                <a:tab algn="l" pos="7072200"/>
                <a:tab algn="l" pos="8486640"/>
                <a:tab algn="l" pos="9901080"/>
              </a:tabLst>
              <a:defRPr b="0" lang="en-US" sz="1900" spc="-1" strike="noStrike">
                <a:solidFill>
                  <a:srgbClr val="ffffff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414440"/>
                <a:tab algn="l" pos="2828880"/>
                <a:tab algn="l" pos="4243320"/>
                <a:tab algn="l" pos="5657760"/>
                <a:tab algn="l" pos="7072200"/>
                <a:tab algn="l" pos="8486640"/>
                <a:tab algn="l" pos="9901080"/>
              </a:tabLst>
            </a:pPr>
            <a:fld id="{F824C236-0F07-485B-A3D2-8577E48ABA97}" type="slidenum">
              <a:rPr b="0" lang="en-US" sz="1900" spc="-1" strike="noStrike">
                <a:solidFill>
                  <a:srgbClr val="ffffff"/>
                </a:solidFill>
                <a:latin typeface="굴림"/>
              </a:rPr>
              <a:t>&lt;number&gt;</a:t>
            </a:fld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5206680" y="8678880"/>
            <a:ext cx="4825800" cy="635040"/>
          </a:xfrm>
          <a:prstGeom prst="rect">
            <a:avLst/>
          </a:prstGeom>
          <a:noFill/>
          <a:ln w="0">
            <a:noFill/>
          </a:ln>
        </p:spPr>
        <p:txBody>
          <a:bodyPr lIns="141480" rIns="141480" tIns="70920" bIns="7092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414440"/>
                <a:tab algn="l" pos="2828880"/>
                <a:tab algn="l" pos="4243320"/>
                <a:tab algn="l" pos="5657760"/>
                <a:tab algn="l" pos="7072200"/>
                <a:tab algn="l" pos="8486640"/>
                <a:tab algn="l" pos="9901080"/>
              </a:tabLst>
              <a:defRPr b="0" lang="en-US" sz="1900" spc="-1" strike="noStrike">
                <a:solidFill>
                  <a:srgbClr val="ffffff"/>
                </a:solidFill>
                <a:latin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414440"/>
                <a:tab algn="l" pos="2828880"/>
                <a:tab algn="l" pos="4243320"/>
                <a:tab algn="l" pos="5657760"/>
                <a:tab algn="l" pos="7072200"/>
                <a:tab algn="l" pos="8486640"/>
                <a:tab algn="l" pos="99010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굴림"/>
              </a:rPr>
              <a:t>&lt;footer&gt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2219400" y="2890800"/>
            <a:ext cx="10801440" cy="1082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500" spc="-1" strike="noStrike">
                <a:solidFill>
                  <a:srgbClr val="000000"/>
                </a:solidFill>
                <a:latin typeface="HY동녘B"/>
                <a:ea typeface="HY동녘B"/>
              </a:rPr>
              <a:t>병과별 전공계열 및 자격증</a:t>
            </a:r>
            <a:endParaRPr b="0" lang="en-US" sz="6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956120" y="7148520"/>
            <a:ext cx="5256360" cy="8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ffffff"/>
                </a:solidFill>
                <a:latin typeface="HY동녘B"/>
                <a:ea typeface="HY동녘B"/>
              </a:rPr>
              <a:t>육  군  본  부</a:t>
            </a:r>
            <a:endParaRPr b="0" lang="en-US" sz="5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0972800" y="2209680"/>
            <a:ext cx="3735360" cy="421200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900" spc="-1" strike="noStrike">
                <a:solidFill>
                  <a:srgbClr val="003399"/>
                </a:solidFill>
                <a:latin typeface="Times New Roman"/>
              </a:rPr>
              <a:t>방패는 철통같은 대공방어</a:t>
            </a:r>
            <a:r>
              <a:rPr b="1" lang="ko-KR" sz="1900" spc="-1" strike="noStrike">
                <a:solidFill>
                  <a:srgbClr val="003399"/>
                </a:solidFill>
                <a:latin typeface="Times New Roman"/>
              </a:rPr>
              <a:t>, 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3399"/>
                </a:solidFill>
                <a:latin typeface="Times New Roman"/>
              </a:rPr>
              <a:t>유도탄 및 대공탄은 편제 방공무기</a:t>
            </a:r>
            <a:r>
              <a:rPr b="1" lang="ko-KR" sz="1800" spc="-1" strike="noStrike">
                <a:solidFill>
                  <a:srgbClr val="003399"/>
                </a:solidFill>
                <a:latin typeface="Times New Roman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9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lang="ko-KR" sz="1900" spc="-1" strike="noStrike">
                <a:solidFill>
                  <a:srgbClr val="003399"/>
                </a:solidFill>
                <a:latin typeface="Times New Roman"/>
              </a:rPr>
              <a:t>레이더 안테나는 저고도 탐지 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900" spc="-1" strike="noStrike">
                <a:solidFill>
                  <a:srgbClr val="003399"/>
                </a:solidFill>
                <a:latin typeface="Times New Roman"/>
              </a:rPr>
              <a:t>레이더</a:t>
            </a:r>
            <a:r>
              <a:rPr b="1" lang="ko-KR" sz="1900" spc="-1" strike="noStrike">
                <a:solidFill>
                  <a:srgbClr val="003399"/>
                </a:solidFill>
                <a:latin typeface="Times New Roman"/>
              </a:rPr>
              <a:t>, </a:t>
            </a:r>
            <a:r>
              <a:rPr b="1" lang="ko-KR" sz="1900" spc="-1" strike="noStrike">
                <a:solidFill>
                  <a:srgbClr val="003399"/>
                </a:solidFill>
                <a:latin typeface="Times New Roman"/>
              </a:rPr>
              <a:t>원은 작은 권역 및 화력 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900" spc="-1" strike="noStrike">
                <a:solidFill>
                  <a:srgbClr val="003399"/>
                </a:solidFill>
                <a:latin typeface="Times New Roman"/>
              </a:rPr>
              <a:t>집중 의미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11444400" y="2286000"/>
            <a:ext cx="2728800" cy="220968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5286240" y="577800"/>
            <a:ext cx="4421160" cy="1089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100"/>
              </a:gs>
              <a:gs pos="50000">
                <a:srgbClr val="008000"/>
              </a:gs>
              <a:gs pos="100000">
                <a:srgbClr val="006100"/>
              </a:gs>
            </a:gsLst>
            <a:lin ang="5400000"/>
          </a:gradFill>
          <a:ln w="9360">
            <a:solidFill>
              <a:srgbClr val="003399"/>
            </a:solidFill>
            <a:miter/>
          </a:ln>
          <a:effectLst>
            <a:outerShdw dist="107932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ffff00"/>
                </a:solidFill>
                <a:latin typeface="HY견고딕"/>
                <a:ea typeface="HY견고딕"/>
              </a:rPr>
              <a:t>방      공</a:t>
            </a:r>
            <a:endParaRPr b="0" lang="en-US" sz="5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1746360"/>
            <a:ext cx="15163920" cy="375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3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□ 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임무 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/ 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기능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ffffff"/>
                </a:solidFill>
                <a:latin typeface="HY수평선B"/>
                <a:ea typeface="HY수평선B"/>
              </a:rPr>
              <a:t> ○ </a:t>
            </a:r>
            <a:r>
              <a:rPr b="0" lang="ko-KR" sz="3000" spc="-1" strike="noStrike">
                <a:solidFill>
                  <a:srgbClr val="ffffff"/>
                </a:solidFill>
                <a:latin typeface="HY수평선B"/>
                <a:ea typeface="HY수평선B"/>
              </a:rPr>
              <a:t>아군의 전투력을 보존하고 행동의 자유를 보장하기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ffffff"/>
                </a:solidFill>
                <a:latin typeface="HY수평선B"/>
                <a:ea typeface="HY수평선B"/>
              </a:rPr>
              <a:t>     </a:t>
            </a:r>
            <a:r>
              <a:rPr b="0" lang="ko-KR" sz="3000" spc="-1" strike="noStrike">
                <a:solidFill>
                  <a:srgbClr val="ffffff"/>
                </a:solidFill>
                <a:latin typeface="HY수평선B"/>
                <a:ea typeface="HY수평선B"/>
              </a:rPr>
              <a:t>위해 적의 공중 공격 및 공중 관측을 무력화 </a:t>
            </a:r>
            <a:r>
              <a:rPr b="0" lang="ko-KR" sz="3000" spc="-1" strike="noStrike">
                <a:solidFill>
                  <a:srgbClr val="ffffff"/>
                </a:solidFill>
                <a:latin typeface="HY수평선B"/>
                <a:ea typeface="HY수평선B"/>
              </a:rPr>
              <a:t>/ </a:t>
            </a:r>
            <a:r>
              <a:rPr b="0" lang="ko-KR" sz="3000" spc="-1" strike="noStrike">
                <a:solidFill>
                  <a:srgbClr val="ffffff"/>
                </a:solidFill>
                <a:latin typeface="HY수평선B"/>
                <a:ea typeface="HY수평선B"/>
              </a:rPr>
              <a:t>저지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ffffff"/>
                </a:solidFill>
                <a:latin typeface="HY수평선B"/>
                <a:ea typeface="HY수평선B"/>
              </a:rPr>
              <a:t> ○ </a:t>
            </a:r>
            <a:r>
              <a:rPr b="0" lang="ko-KR" sz="3000" spc="-1" strike="noStrike">
                <a:solidFill>
                  <a:srgbClr val="ffffff"/>
                </a:solidFill>
                <a:latin typeface="HY수평선B"/>
                <a:ea typeface="HY수평선B"/>
              </a:rPr>
              <a:t>나이키</a:t>
            </a:r>
            <a:r>
              <a:rPr b="0" lang="ko-KR" sz="30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000" spc="-1" strike="noStrike">
                <a:solidFill>
                  <a:srgbClr val="ffffff"/>
                </a:solidFill>
                <a:latin typeface="HY수평선B"/>
                <a:ea typeface="HY수평선B"/>
              </a:rPr>
              <a:t>호크</a:t>
            </a:r>
            <a:r>
              <a:rPr b="0" lang="ko-KR" sz="30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000" spc="-1" strike="noStrike">
                <a:solidFill>
                  <a:srgbClr val="ffffff"/>
                </a:solidFill>
                <a:latin typeface="HY수평선B"/>
                <a:ea typeface="HY수평선B"/>
              </a:rPr>
              <a:t>유도탄</a:t>
            </a:r>
            <a:r>
              <a:rPr b="0" lang="ko-KR" sz="30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000" spc="-1" strike="noStrike">
                <a:solidFill>
                  <a:srgbClr val="ffffff"/>
                </a:solidFill>
                <a:latin typeface="HY수평선B"/>
                <a:ea typeface="HY수평선B"/>
              </a:rPr>
              <a:t>대공포</a:t>
            </a:r>
            <a:r>
              <a:rPr b="0" lang="ko-KR" sz="30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000" spc="-1" strike="noStrike">
                <a:solidFill>
                  <a:srgbClr val="ffffff"/>
                </a:solidFill>
                <a:latin typeface="HY수평선B"/>
                <a:ea typeface="HY수평선B"/>
              </a:rPr>
              <a:t>탐지레이더 등과 같이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3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ffffff"/>
                </a:solidFill>
                <a:latin typeface="HY수평선B"/>
                <a:ea typeface="HY수평선B"/>
              </a:rPr>
              <a:t> </a:t>
            </a:r>
            <a:r>
              <a:rPr b="0" lang="ko-KR" sz="3000" spc="-1" strike="noStrike">
                <a:solidFill>
                  <a:srgbClr val="ffffff"/>
                </a:solidFill>
                <a:latin typeface="HY수평선B"/>
                <a:ea typeface="HY수평선B"/>
              </a:rPr>
              <a:t>고도의 첨단 무기와 장비를 이용</a:t>
            </a:r>
            <a:r>
              <a:rPr b="0" lang="ko-KR" sz="30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000" spc="-1" strike="noStrike">
                <a:solidFill>
                  <a:srgbClr val="ffffff"/>
                </a:solidFill>
                <a:latin typeface="HY수평선B"/>
                <a:ea typeface="HY수평선B"/>
              </a:rPr>
              <a:t>적의 항공기나 미사일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3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ffffff"/>
                </a:solidFill>
                <a:latin typeface="HY수평선B"/>
                <a:ea typeface="HY수평선B"/>
              </a:rPr>
              <a:t> </a:t>
            </a:r>
            <a:r>
              <a:rPr b="0" lang="ko-KR" sz="3000" spc="-1" strike="noStrike">
                <a:solidFill>
                  <a:srgbClr val="ffffff"/>
                </a:solidFill>
                <a:latin typeface="HY수평선B"/>
                <a:ea typeface="HY수평선B"/>
              </a:rPr>
              <a:t>등을 파괴 및 무력화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-12600" y="5821200"/>
            <a:ext cx="14720760" cy="24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□ 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관련학과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    </a:t>
            </a:r>
            <a:r>
              <a:rPr b="0" lang="ko-KR" sz="3000" spc="-1" strike="noStrike">
                <a:solidFill>
                  <a:srgbClr val="ffffff"/>
                </a:solidFill>
                <a:latin typeface="HY수평선B"/>
                <a:ea typeface="HY수평선B"/>
              </a:rPr>
              <a:t>○ </a:t>
            </a:r>
            <a:r>
              <a:rPr b="0" lang="ko-KR" sz="2800" spc="-1" strike="noStrike">
                <a:solidFill>
                  <a:srgbClr val="ffffff"/>
                </a:solidFill>
                <a:latin typeface="HY수평선B"/>
                <a:ea typeface="HY수평선B"/>
              </a:rPr>
              <a:t>전자통신</a:t>
            </a:r>
            <a:r>
              <a:rPr b="0" lang="ko-KR" sz="2800" spc="-1" strike="noStrike">
                <a:solidFill>
                  <a:srgbClr val="ffffff"/>
                </a:solidFill>
                <a:latin typeface="HY수평선B"/>
                <a:ea typeface="HY수평선B"/>
              </a:rPr>
              <a:t>/</a:t>
            </a:r>
            <a:r>
              <a:rPr b="0" lang="ko-KR" sz="2800" spc="-1" strike="noStrike">
                <a:solidFill>
                  <a:srgbClr val="ffffff"/>
                </a:solidFill>
                <a:latin typeface="HY수평선B"/>
                <a:ea typeface="HY수평선B"/>
              </a:rPr>
              <a:t>공학</a:t>
            </a:r>
            <a:r>
              <a:rPr b="0" lang="ko-KR" sz="28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HY수평선B"/>
                <a:ea typeface="HY수평선B"/>
              </a:rPr>
              <a:t>유도전자무기공학</a:t>
            </a:r>
            <a:r>
              <a:rPr b="0" lang="ko-KR" sz="28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HY수평선B"/>
                <a:ea typeface="HY수평선B"/>
              </a:rPr>
              <a:t>전기공학</a:t>
            </a:r>
            <a:r>
              <a:rPr b="0" lang="ko-KR" sz="28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HY수평선B"/>
                <a:ea typeface="HY수평선B"/>
              </a:rPr>
              <a:t>전기전자공학</a:t>
            </a:r>
            <a:r>
              <a:rPr b="0" lang="ko-KR" sz="28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HY수평선B"/>
                <a:ea typeface="HY수평선B"/>
              </a:rPr>
              <a:t>전산체계</a:t>
            </a:r>
            <a:r>
              <a:rPr b="0" lang="ko-KR" sz="28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HY수평선B"/>
                <a:ea typeface="HY수평선B"/>
              </a:rPr>
              <a:t>전산학 </a:t>
            </a:r>
            <a:r>
              <a:rPr b="0" lang="ko-KR" sz="2800" spc="-1" strike="noStrike">
                <a:solidFill>
                  <a:srgbClr val="ffffff"/>
                </a:solidFill>
                <a:latin typeface="HY수평선B"/>
                <a:ea typeface="HY수평선B"/>
              </a:rPr>
              <a:t>/ </a:t>
            </a:r>
            <a:r>
              <a:rPr b="0" lang="ko-KR" sz="2800" spc="-1" strike="noStrike">
                <a:solidFill>
                  <a:srgbClr val="ffffff"/>
                </a:solidFill>
                <a:latin typeface="HY수평선B"/>
                <a:ea typeface="HY수평선B"/>
              </a:rPr>
              <a:t>수학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ffffff"/>
                </a:solidFill>
                <a:latin typeface="HY수평선B"/>
                <a:ea typeface="HY수평선B"/>
              </a:rPr>
              <a:t> ○ </a:t>
            </a:r>
            <a:r>
              <a:rPr b="0" lang="ko-KR" sz="2900" spc="-1" strike="noStrike">
                <a:solidFill>
                  <a:srgbClr val="ffffff"/>
                </a:solidFill>
                <a:latin typeface="HY수평선B"/>
                <a:ea typeface="HY수평선B"/>
              </a:rPr>
              <a:t>전자계산기</a:t>
            </a:r>
            <a:r>
              <a:rPr b="0" lang="ko-KR" sz="2900" spc="-1" strike="noStrike">
                <a:solidFill>
                  <a:srgbClr val="ffffff"/>
                </a:solidFill>
                <a:latin typeface="HY수평선B"/>
                <a:ea typeface="HY수평선B"/>
              </a:rPr>
              <a:t>/</a:t>
            </a:r>
            <a:r>
              <a:rPr b="0" lang="ko-KR" sz="2900" spc="-1" strike="noStrike">
                <a:solidFill>
                  <a:srgbClr val="ffffff"/>
                </a:solidFill>
                <a:latin typeface="HY수평선B"/>
                <a:ea typeface="HY수평선B"/>
              </a:rPr>
              <a:t>공학</a:t>
            </a:r>
            <a:r>
              <a:rPr b="0" lang="ko-KR" sz="29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2900" spc="-1" strike="noStrike">
                <a:solidFill>
                  <a:srgbClr val="ffffff"/>
                </a:solidFill>
                <a:latin typeface="HY수평선B"/>
                <a:ea typeface="HY수평선B"/>
              </a:rPr>
              <a:t>전자컴퓨터</a:t>
            </a:r>
            <a:r>
              <a:rPr b="0" lang="ko-KR" sz="2900" spc="-1" strike="noStrike">
                <a:solidFill>
                  <a:srgbClr val="ffffff"/>
                </a:solidFill>
                <a:latin typeface="HY수평선B"/>
                <a:ea typeface="HY수평선B"/>
              </a:rPr>
              <a:t>/</a:t>
            </a:r>
            <a:r>
              <a:rPr b="0" lang="ko-KR" sz="2900" spc="-1" strike="noStrike">
                <a:solidFill>
                  <a:srgbClr val="ffffff"/>
                </a:solidFill>
                <a:latin typeface="HY수평선B"/>
                <a:ea typeface="HY수평선B"/>
              </a:rPr>
              <a:t>통신</a:t>
            </a:r>
            <a:r>
              <a:rPr b="0" lang="ko-KR" sz="29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2900" spc="-1" strike="noStrike">
                <a:solidFill>
                  <a:srgbClr val="ffffff"/>
                </a:solidFill>
                <a:latin typeface="HY수평선B"/>
                <a:ea typeface="HY수평선B"/>
              </a:rPr>
              <a:t>컴퓨터공학</a:t>
            </a:r>
            <a:r>
              <a:rPr b="0" lang="ko-KR" sz="2900" spc="-1" strike="noStrike">
                <a:solidFill>
                  <a:srgbClr val="ffffff"/>
                </a:solidFill>
                <a:latin typeface="HY수평선B"/>
                <a:ea typeface="HY수평선B"/>
              </a:rPr>
              <a:t>/</a:t>
            </a:r>
            <a:r>
              <a:rPr b="0" lang="ko-KR" sz="2900" spc="-1" strike="noStrike">
                <a:solidFill>
                  <a:srgbClr val="ffffff"/>
                </a:solidFill>
                <a:latin typeface="HY수평선B"/>
                <a:ea typeface="HY수평선B"/>
              </a:rPr>
              <a:t>과학</a:t>
            </a:r>
            <a:r>
              <a:rPr b="0" lang="ko-KR" sz="2900" spc="-1" strike="noStrike">
                <a:solidFill>
                  <a:srgbClr val="ffffff"/>
                </a:solidFill>
                <a:latin typeface="HY수평선B"/>
                <a:ea typeface="HY수평선B"/>
              </a:rPr>
              <a:t>/</a:t>
            </a:r>
            <a:r>
              <a:rPr b="0" lang="ko-KR" sz="2900" spc="-1" strike="noStrike">
                <a:solidFill>
                  <a:srgbClr val="ffffff"/>
                </a:solidFill>
                <a:latin typeface="HY수평선B"/>
                <a:ea typeface="HY수평선B"/>
              </a:rPr>
              <a:t>교육</a:t>
            </a:r>
            <a:r>
              <a:rPr b="0" lang="ko-KR" sz="29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2900" spc="-1" strike="noStrike">
                <a:solidFill>
                  <a:srgbClr val="ffffff"/>
                </a:solidFill>
                <a:latin typeface="HY수평선B"/>
                <a:ea typeface="HY수평선B"/>
              </a:rPr>
              <a:t>정보통신</a:t>
            </a:r>
            <a:r>
              <a:rPr b="0" lang="ko-KR" sz="2900" spc="-1" strike="noStrike">
                <a:solidFill>
                  <a:srgbClr val="ffffff"/>
                </a:solidFill>
                <a:latin typeface="HY수평선B"/>
                <a:ea typeface="HY수평선B"/>
              </a:rPr>
              <a:t>/</a:t>
            </a:r>
            <a:r>
              <a:rPr b="0" lang="ko-KR" sz="2900" spc="-1" strike="noStrike">
                <a:solidFill>
                  <a:srgbClr val="ffffff"/>
                </a:solidFill>
                <a:latin typeface="HY수평선B"/>
                <a:ea typeface="HY수평선B"/>
              </a:rPr>
              <a:t>처리 등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ffffff"/>
                </a:solidFill>
                <a:latin typeface="HY수평선B"/>
                <a:ea typeface="HY수평선B"/>
              </a:rPr>
              <a:t>     ※ </a:t>
            </a:r>
            <a:r>
              <a:rPr b="0" lang="ko-KR" sz="3000" spc="-1" strike="noStrike">
                <a:solidFill>
                  <a:srgbClr val="ffffff"/>
                </a:solidFill>
                <a:latin typeface="HY수평선B"/>
                <a:ea typeface="HY수평선B"/>
              </a:rPr>
              <a:t>해전공계열 관련 자격증 소지자</a:t>
            </a:r>
            <a:r>
              <a:rPr b="0" lang="ko-KR" sz="3000" spc="-1" strike="noStrike">
                <a:solidFill>
                  <a:srgbClr val="ffffff"/>
                </a:solidFill>
                <a:latin typeface="HY수평선B"/>
                <a:ea typeface="HY수평선B"/>
              </a:rPr>
              <a:t>(</a:t>
            </a:r>
            <a:r>
              <a:rPr b="0" lang="ko-KR" sz="3000" spc="-1" strike="noStrike">
                <a:solidFill>
                  <a:srgbClr val="ffffff"/>
                </a:solidFill>
                <a:latin typeface="HY수평선B"/>
                <a:ea typeface="HY수평선B"/>
              </a:rPr>
              <a:t>공통 </a:t>
            </a:r>
            <a:r>
              <a:rPr b="0" lang="ko-KR" sz="3000" spc="-1" strike="noStrike">
                <a:solidFill>
                  <a:srgbClr val="ffffff"/>
                </a:solidFill>
                <a:latin typeface="HY수평선B"/>
                <a:ea typeface="HY수평선B"/>
              </a:rPr>
              <a:t>: </a:t>
            </a:r>
            <a:r>
              <a:rPr b="0" lang="ko-KR" sz="3000" spc="-1" strike="noStrike">
                <a:solidFill>
                  <a:srgbClr val="ffffff"/>
                </a:solidFill>
                <a:latin typeface="HY수평선B"/>
                <a:ea typeface="HY수평선B"/>
              </a:rPr>
              <a:t>이ㆍ공학계열</a:t>
            </a:r>
            <a:r>
              <a:rPr b="0" lang="ko-KR" sz="3000" spc="-1" strike="noStrike">
                <a:solidFill>
                  <a:srgbClr val="ffffff"/>
                </a:solidFill>
                <a:latin typeface="HY수평선B"/>
                <a:ea typeface="HY수평선B"/>
              </a:rPr>
              <a:t>)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11148840" y="2674800"/>
            <a:ext cx="3513240" cy="32907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3399"/>
                </a:solidFill>
                <a:latin typeface="Times New Roman"/>
              </a:rPr>
              <a:t>고대병기인 활과 화살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3399"/>
                </a:solidFill>
                <a:latin typeface="Times New Roman"/>
              </a:rPr>
              <a:t>및 죽화통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11580840" y="2890800"/>
            <a:ext cx="2592360" cy="213516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430960" y="585720"/>
            <a:ext cx="4421160" cy="1089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100"/>
              </a:gs>
              <a:gs pos="50000">
                <a:srgbClr val="008000"/>
              </a:gs>
              <a:gs pos="100000">
                <a:srgbClr val="006100"/>
              </a:gs>
            </a:gsLst>
            <a:lin ang="5400000"/>
          </a:gradFill>
          <a:ln w="9360">
            <a:solidFill>
              <a:srgbClr val="003399"/>
            </a:solidFill>
            <a:miter/>
          </a:ln>
          <a:effectLst>
            <a:outerShdw dist="107932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ffff00"/>
                </a:solidFill>
                <a:latin typeface="HY견고딕"/>
                <a:ea typeface="HY견고딕"/>
              </a:rPr>
              <a:t>병      기</a:t>
            </a:r>
            <a:endParaRPr b="0" lang="en-US" sz="5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2025720"/>
            <a:ext cx="15163920" cy="371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□ </a:t>
            </a:r>
            <a:r>
              <a:rPr b="0" lang="zh-CN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임무</a:t>
            </a:r>
            <a:r>
              <a:rPr b="0" lang="en-US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/</a:t>
            </a:r>
            <a:r>
              <a:rPr b="0" lang="zh-CN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기능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굴림"/>
                <a:ea typeface="굴림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  <a:ea typeface="굴림"/>
              </a:rPr>
              <a:t>○ </a:t>
            </a:r>
            <a:r>
              <a:rPr b="0" lang="zh-CN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화포</a:t>
            </a:r>
            <a:r>
              <a:rPr b="0" lang="en-US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/</a:t>
            </a:r>
            <a:r>
              <a:rPr b="0" lang="zh-CN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기동 장비 관리 및 정비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  <a:ea typeface="굴림"/>
              </a:rPr>
              <a:t>○ </a:t>
            </a:r>
            <a:r>
              <a:rPr b="0" lang="zh-CN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탄약</a:t>
            </a:r>
            <a:r>
              <a:rPr b="0" lang="en-US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/</a:t>
            </a:r>
            <a:r>
              <a:rPr b="0" lang="zh-CN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특수 무기 관리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  <a:ea typeface="굴림"/>
              </a:rPr>
              <a:t>○ </a:t>
            </a:r>
            <a:r>
              <a:rPr b="0" lang="zh-CN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야전 정비 지원 제공 </a:t>
            </a:r>
            <a:r>
              <a:rPr b="0" lang="en-US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정비</a:t>
            </a:r>
            <a:r>
              <a:rPr b="0" lang="en-US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/</a:t>
            </a:r>
            <a:r>
              <a:rPr b="0" lang="zh-CN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보급</a:t>
            </a:r>
            <a:r>
              <a:rPr b="0" lang="en-US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기술 근무</a:t>
            </a:r>
            <a:r>
              <a:rPr b="0" lang="en-US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 ○ </a:t>
            </a:r>
            <a:r>
              <a:rPr b="0" lang="zh-CN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각종 무기</a:t>
            </a:r>
            <a:r>
              <a:rPr b="0" lang="en-US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탄약</a:t>
            </a:r>
            <a:r>
              <a:rPr b="0" lang="en-US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대포</a:t>
            </a:r>
            <a:r>
              <a:rPr b="0" lang="en-US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/</a:t>
            </a:r>
            <a:r>
              <a:rPr b="0" lang="zh-CN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탄약을 수송하는 차량</a:t>
            </a:r>
            <a:r>
              <a:rPr b="0" lang="en-US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     </a:t>
            </a:r>
            <a:r>
              <a:rPr b="0" lang="zh-CN" sz="2900" spc="-1" strike="noStrike">
                <a:solidFill>
                  <a:srgbClr val="ffffff"/>
                </a:solidFill>
                <a:latin typeface="HY수평선B"/>
                <a:ea typeface="HY수평선B"/>
              </a:rPr>
              <a:t>지휘통제용 무전기 등을 적시에 보급</a:t>
            </a:r>
            <a:r>
              <a:rPr b="0" lang="en-US" sz="29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zh-CN" sz="2900" spc="-1" strike="noStrike">
                <a:solidFill>
                  <a:srgbClr val="ffffff"/>
                </a:solidFill>
                <a:latin typeface="HY수평선B"/>
                <a:ea typeface="HY수평선B"/>
              </a:rPr>
              <a:t>정비</a:t>
            </a:r>
            <a:r>
              <a:rPr b="0" lang="en-US" sz="29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zh-CN" sz="2900" spc="-1" strike="noStrike">
                <a:solidFill>
                  <a:srgbClr val="ffffff"/>
                </a:solidFill>
                <a:latin typeface="HY수평선B"/>
                <a:ea typeface="HY수평선B"/>
              </a:rPr>
              <a:t>수리부속 지원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-12600" y="5821200"/>
            <a:ext cx="14720760" cy="31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□ 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관련학과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  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○ </a:t>
            </a:r>
            <a:r>
              <a:rPr b="0" lang="ko-KR" sz="3100" spc="-1" strike="noStrike">
                <a:solidFill>
                  <a:srgbClr val="ffffff"/>
                </a:solidFill>
                <a:latin typeface="HY수평선B"/>
                <a:ea typeface="HY수평선B"/>
              </a:rPr>
              <a:t>금속</a:t>
            </a:r>
            <a:r>
              <a:rPr b="0" lang="ko-KR" sz="31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100" spc="-1" strike="noStrike">
                <a:solidFill>
                  <a:srgbClr val="ffffff"/>
                </a:solidFill>
                <a:latin typeface="HY수평선B"/>
                <a:ea typeface="HY수평선B"/>
              </a:rPr>
              <a:t>기계공학</a:t>
            </a:r>
            <a:r>
              <a:rPr b="0" lang="ko-KR" sz="31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100" spc="-1" strike="noStrike">
                <a:solidFill>
                  <a:srgbClr val="ffffff"/>
                </a:solidFill>
                <a:latin typeface="HY수평선B"/>
                <a:ea typeface="HY수평선B"/>
              </a:rPr>
              <a:t>기계교육 </a:t>
            </a:r>
            <a:r>
              <a:rPr b="0" lang="ko-KR" sz="3100" spc="-1" strike="noStrike">
                <a:solidFill>
                  <a:srgbClr val="ffffff"/>
                </a:solidFill>
                <a:latin typeface="HY수평선B"/>
                <a:ea typeface="HY수평선B"/>
              </a:rPr>
              <a:t>/ </a:t>
            </a:r>
            <a:r>
              <a:rPr b="0" lang="ko-KR" sz="3100" spc="-1" strike="noStrike">
                <a:solidFill>
                  <a:srgbClr val="ffffff"/>
                </a:solidFill>
                <a:latin typeface="HY수평선B"/>
                <a:ea typeface="HY수평선B"/>
              </a:rPr>
              <a:t>설계공학</a:t>
            </a:r>
            <a:r>
              <a:rPr b="0" lang="ko-KR" sz="31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100" spc="-1" strike="noStrike">
                <a:solidFill>
                  <a:srgbClr val="ffffff"/>
                </a:solidFill>
                <a:latin typeface="HY수평선B"/>
                <a:ea typeface="HY수평선B"/>
              </a:rPr>
              <a:t>로봇공학 </a:t>
            </a:r>
            <a:r>
              <a:rPr b="0" lang="ko-KR" sz="3100" spc="-1" strike="noStrike">
                <a:solidFill>
                  <a:srgbClr val="ffffff"/>
                </a:solidFill>
                <a:latin typeface="HY수평선B"/>
                <a:ea typeface="HY수평선B"/>
              </a:rPr>
              <a:t>/ </a:t>
            </a:r>
            <a:r>
              <a:rPr b="0" lang="ko-KR" sz="3100" spc="-1" strike="noStrike">
                <a:solidFill>
                  <a:srgbClr val="ffffff"/>
                </a:solidFill>
                <a:latin typeface="HY수평선B"/>
                <a:ea typeface="HY수평선B"/>
              </a:rPr>
              <a:t>시스템공학</a:t>
            </a:r>
            <a:r>
              <a:rPr b="0" lang="ko-KR" sz="31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100" spc="-1" strike="noStrike">
                <a:solidFill>
                  <a:srgbClr val="ffffff"/>
                </a:solidFill>
                <a:latin typeface="HY수평선B"/>
                <a:ea typeface="HY수평선B"/>
              </a:rPr>
              <a:t>메카트로닉스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       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/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신소재공학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○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무기체계학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병기공학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자동차공학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전자공학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정보기계공학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제어계측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/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   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기계공학 등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해전공계열 관련 자격증 소지자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0972800" y="2209680"/>
            <a:ext cx="3513240" cy="35305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900" spc="-1" strike="noStrike">
                <a:solidFill>
                  <a:srgbClr val="003399"/>
                </a:solidFill>
                <a:latin typeface="Times New Roman"/>
              </a:rPr>
              <a:t>열쇠는 보급관리</a:t>
            </a:r>
            <a:r>
              <a:rPr b="1" lang="ko-KR" sz="1900" spc="-1" strike="noStrike">
                <a:solidFill>
                  <a:srgbClr val="003399"/>
                </a:solidFill>
                <a:latin typeface="Times New Roman"/>
              </a:rPr>
              <a:t>, </a:t>
            </a:r>
            <a:r>
              <a:rPr b="1" lang="ko-KR" sz="1900" spc="-1" strike="noStrike">
                <a:solidFill>
                  <a:srgbClr val="003399"/>
                </a:solidFill>
                <a:latin typeface="Times New Roman"/>
              </a:rPr>
              <a:t>볏잎은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900" spc="-1" strike="noStrike">
                <a:solidFill>
                  <a:srgbClr val="003399"/>
                </a:solidFill>
                <a:latin typeface="Times New Roman"/>
              </a:rPr>
              <a:t>1</a:t>
            </a:r>
            <a:r>
              <a:rPr b="1" lang="ko-KR" sz="1900" spc="-1" strike="noStrike">
                <a:solidFill>
                  <a:srgbClr val="003399"/>
                </a:solidFill>
                <a:latin typeface="Times New Roman"/>
              </a:rPr>
              <a:t>종 보급품</a:t>
            </a:r>
            <a:r>
              <a:rPr b="1" lang="ko-KR" sz="1900" spc="-1" strike="noStrike">
                <a:solidFill>
                  <a:srgbClr val="003399"/>
                </a:solidFill>
                <a:latin typeface="Times New Roman"/>
              </a:rPr>
              <a:t>, </a:t>
            </a:r>
            <a:r>
              <a:rPr b="1" lang="ko-KR" sz="1900" spc="-1" strike="noStrike">
                <a:solidFill>
                  <a:srgbClr val="003399"/>
                </a:solidFill>
                <a:latin typeface="Times New Roman"/>
              </a:rPr>
              <a:t>달과 깔때기는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900" spc="-1" strike="noStrike">
                <a:solidFill>
                  <a:srgbClr val="003399"/>
                </a:solidFill>
                <a:latin typeface="Times New Roman"/>
              </a:rPr>
              <a:t>1, 3</a:t>
            </a:r>
            <a:r>
              <a:rPr b="1" lang="ko-KR" sz="1900" spc="-1" strike="noStrike">
                <a:solidFill>
                  <a:srgbClr val="003399"/>
                </a:solidFill>
                <a:latin typeface="Times New Roman"/>
              </a:rPr>
              <a:t>종 보급품을 상징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11506320" y="2362320"/>
            <a:ext cx="2590560" cy="215100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5430960" y="585720"/>
            <a:ext cx="4421160" cy="1089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100"/>
              </a:gs>
              <a:gs pos="50000">
                <a:srgbClr val="008000"/>
              </a:gs>
              <a:gs pos="100000">
                <a:srgbClr val="006100"/>
              </a:gs>
            </a:gsLst>
            <a:lin ang="5400000"/>
          </a:gradFill>
          <a:ln w="9360">
            <a:solidFill>
              <a:srgbClr val="003399"/>
            </a:solidFill>
            <a:miter/>
          </a:ln>
          <a:effectLst>
            <a:outerShdw dist="107932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ffff00"/>
                </a:solidFill>
                <a:latin typeface="HY견고딕"/>
                <a:ea typeface="HY견고딕"/>
              </a:rPr>
              <a:t>병      참</a:t>
            </a:r>
            <a:endParaRPr b="0" lang="en-US" sz="5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-12600" y="2046240"/>
            <a:ext cx="15163560" cy="365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□ 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임무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/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기능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○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보급품 청구 저장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분배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/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처리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○ </a:t>
            </a:r>
            <a:r>
              <a:rPr b="0" lang="ko-KR" sz="3100" spc="-1" strike="noStrike">
                <a:solidFill>
                  <a:srgbClr val="ffffff"/>
                </a:solidFill>
                <a:latin typeface="HY수평선B"/>
                <a:ea typeface="HY수평선B"/>
              </a:rPr>
              <a:t>전투력 유지를 위하여 먹는 것</a:t>
            </a:r>
            <a:r>
              <a:rPr b="0" lang="ko-KR" sz="31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100" spc="-1" strike="noStrike">
                <a:solidFill>
                  <a:srgbClr val="ffffff"/>
                </a:solidFill>
                <a:latin typeface="HY수평선B"/>
                <a:ea typeface="HY수평선B"/>
              </a:rPr>
              <a:t>입는 것</a:t>
            </a:r>
            <a:r>
              <a:rPr b="0" lang="ko-KR" sz="31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100" spc="-1" strike="noStrike">
                <a:solidFill>
                  <a:srgbClr val="ffffff"/>
                </a:solidFill>
                <a:latin typeface="HY수평선B"/>
                <a:ea typeface="HY수평선B"/>
              </a:rPr>
              <a:t>전투에 필요한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   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물자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건설 및 축성자재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환자 치료에 필요한 약품 및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   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의료장비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수송에 필요한 유류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사무에 필요한 물자를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   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획득하여 저장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보급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정비 및 폐처리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-12600" y="5923080"/>
            <a:ext cx="14720760" cy="26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□ 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관련학과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○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가공식품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경영학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경제이론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/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제도학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경제통상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/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행정학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식품 가공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/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과학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    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/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생명공학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○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생명공학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영양급식경영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/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자원학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원예과학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조리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식품미생물가공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/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화학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   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공학 등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해전공계열 관련 자격증 소지자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11236320" y="2241720"/>
            <a:ext cx="3513240" cy="388044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003399"/>
                </a:solidFill>
                <a:latin typeface="Times New Roman"/>
              </a:rPr>
              <a:t>육상</a:t>
            </a:r>
            <a:r>
              <a:rPr b="1" lang="en-US" sz="1900" spc="-1" strike="noStrike">
                <a:solidFill>
                  <a:srgbClr val="003399"/>
                </a:solidFill>
                <a:latin typeface="Times New Roman"/>
              </a:rPr>
              <a:t>(</a:t>
            </a:r>
            <a:r>
              <a:rPr b="1" lang="zh-CN" sz="1900" spc="-1" strike="noStrike">
                <a:solidFill>
                  <a:srgbClr val="003399"/>
                </a:solidFill>
                <a:latin typeface="Times New Roman"/>
              </a:rPr>
              <a:t>차량</a:t>
            </a:r>
            <a:r>
              <a:rPr b="1" lang="en-US" sz="1900" spc="-1" strike="noStrike">
                <a:solidFill>
                  <a:srgbClr val="003399"/>
                </a:solidFill>
                <a:latin typeface="Times New Roman"/>
              </a:rPr>
              <a:t>), </a:t>
            </a:r>
            <a:r>
              <a:rPr b="1" lang="zh-CN" sz="1900" spc="-1" strike="noStrike">
                <a:solidFill>
                  <a:srgbClr val="003399"/>
                </a:solidFill>
                <a:latin typeface="Times New Roman"/>
              </a:rPr>
              <a:t>해상</a:t>
            </a:r>
            <a:r>
              <a:rPr b="1" lang="en-US" sz="1900" spc="-1" strike="noStrike">
                <a:solidFill>
                  <a:srgbClr val="003399"/>
                </a:solidFill>
                <a:latin typeface="Times New Roman"/>
              </a:rPr>
              <a:t>(</a:t>
            </a:r>
            <a:r>
              <a:rPr b="1" lang="zh-CN" sz="1900" spc="-1" strike="noStrike">
                <a:solidFill>
                  <a:srgbClr val="003399"/>
                </a:solidFill>
                <a:latin typeface="Times New Roman"/>
              </a:rPr>
              <a:t>노</a:t>
            </a:r>
            <a:r>
              <a:rPr b="1" lang="en-US" sz="1900" spc="-1" strike="noStrike">
                <a:solidFill>
                  <a:srgbClr val="003399"/>
                </a:solidFill>
                <a:latin typeface="Times New Roman"/>
              </a:rPr>
              <a:t>), 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003399"/>
                </a:solidFill>
                <a:latin typeface="Times New Roman"/>
              </a:rPr>
              <a:t>공중</a:t>
            </a:r>
            <a:r>
              <a:rPr b="1" lang="en-US" sz="1900" spc="-1" strike="noStrike">
                <a:solidFill>
                  <a:srgbClr val="003399"/>
                </a:solidFill>
                <a:latin typeface="Times New Roman"/>
              </a:rPr>
              <a:t>(</a:t>
            </a:r>
            <a:r>
              <a:rPr b="1" lang="zh-CN" sz="1900" spc="-1" strike="noStrike">
                <a:solidFill>
                  <a:srgbClr val="003399"/>
                </a:solidFill>
                <a:latin typeface="Times New Roman"/>
              </a:rPr>
              <a:t>날개</a:t>
            </a:r>
            <a:r>
              <a:rPr b="1" lang="en-US" sz="1900" spc="-1" strike="noStrike">
                <a:solidFill>
                  <a:srgbClr val="003399"/>
                </a:solidFill>
                <a:latin typeface="Times New Roman"/>
              </a:rPr>
              <a:t>), </a:t>
            </a:r>
            <a:r>
              <a:rPr b="1" lang="zh-CN" sz="1900" spc="-1" strike="noStrike">
                <a:solidFill>
                  <a:srgbClr val="003399"/>
                </a:solidFill>
                <a:latin typeface="Times New Roman"/>
              </a:rPr>
              <a:t>철도</a:t>
            </a:r>
            <a:r>
              <a:rPr b="1" lang="en-US" sz="1900" spc="-1" strike="noStrike">
                <a:solidFill>
                  <a:srgbClr val="003399"/>
                </a:solidFill>
                <a:latin typeface="Times New Roman"/>
              </a:rPr>
              <a:t>(</a:t>
            </a:r>
            <a:r>
              <a:rPr b="1" lang="zh-CN" sz="1900" spc="-1" strike="noStrike">
                <a:solidFill>
                  <a:srgbClr val="003399"/>
                </a:solidFill>
                <a:latin typeface="Times New Roman"/>
              </a:rPr>
              <a:t>레일</a:t>
            </a:r>
            <a:r>
              <a:rPr b="1" lang="en-US" sz="1900" spc="-1" strike="noStrike">
                <a:solidFill>
                  <a:srgbClr val="003399"/>
                </a:solidFill>
                <a:latin typeface="Times New Roman"/>
              </a:rPr>
              <a:t>)</a:t>
            </a:r>
            <a:r>
              <a:rPr b="1" lang="zh-CN" sz="1900" spc="-1" strike="noStrike">
                <a:solidFill>
                  <a:srgbClr val="003399"/>
                </a:solidFill>
                <a:latin typeface="Times New Roman"/>
              </a:rPr>
              <a:t>의 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003399"/>
                </a:solidFill>
                <a:latin typeface="Times New Roman"/>
              </a:rPr>
              <a:t>수송기능을 상징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11771280" y="2602080"/>
            <a:ext cx="2502000" cy="221904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5430960" y="585720"/>
            <a:ext cx="4421160" cy="1089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100"/>
              </a:gs>
              <a:gs pos="50000">
                <a:srgbClr val="008000"/>
              </a:gs>
              <a:gs pos="100000">
                <a:srgbClr val="006100"/>
              </a:gs>
            </a:gsLst>
            <a:lin ang="5400000"/>
          </a:gradFill>
          <a:ln w="9360">
            <a:solidFill>
              <a:srgbClr val="003399"/>
            </a:solidFill>
            <a:miter/>
          </a:ln>
          <a:effectLst>
            <a:outerShdw dist="107932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ffff00"/>
                </a:solidFill>
                <a:latin typeface="HY견고딕"/>
                <a:ea typeface="HY견고딕"/>
              </a:rPr>
              <a:t>수      송</a:t>
            </a:r>
            <a:endParaRPr b="0" lang="en-US" sz="5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04920" y="2271600"/>
            <a:ext cx="15163560" cy="39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□ 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임무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/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기능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○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인원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/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장비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/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물자 수송 지원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철도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항만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육로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항공기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○ 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전투 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/ 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전투 지원 부대에 대한 수송 지원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○ 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야전 정비 지원 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○ 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전투 부대에 인원ㆍ물자 수송 지원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○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여행장병 안내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수송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군작전 도로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철도관리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통제 등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87360" y="6381720"/>
            <a:ext cx="14720760" cy="24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□ 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관련학과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○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교통공학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/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행정학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기계공학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기관학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물류학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유통학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자동차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/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전기공학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○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전자전기공학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항공관리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/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교통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/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운항학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조선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컴퓨터공학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/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경영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/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관리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/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   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과학 등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해전공계열 관련 자격증 소지자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0972800" y="2870280"/>
            <a:ext cx="3513240" cy="358560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Times New Roman"/>
              </a:rPr>
              <a:t>Benzene </a:t>
            </a:r>
            <a:r>
              <a:rPr b="1" lang="zh-CN" sz="2200" spc="-1" strike="noStrike">
                <a:solidFill>
                  <a:srgbClr val="003399"/>
                </a:solidFill>
                <a:latin typeface="Times New Roman"/>
              </a:rPr>
              <a:t>고리와 원자핵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11220480" y="3046320"/>
            <a:ext cx="2963880" cy="272412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635040" y="2314440"/>
            <a:ext cx="9725040" cy="33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□ </a:t>
            </a:r>
            <a:r>
              <a:rPr b="0" lang="zh-CN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임무</a:t>
            </a:r>
            <a:r>
              <a:rPr b="0" lang="en-US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/</a:t>
            </a:r>
            <a:r>
              <a:rPr b="0" lang="zh-CN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기능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○ </a:t>
            </a:r>
            <a:r>
              <a:rPr b="0" lang="zh-CN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화생방 대 테러작전 지원</a:t>
            </a:r>
            <a:r>
              <a:rPr b="0" lang="en-US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zh-CN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화생방 교육 및 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    </a:t>
            </a:r>
            <a:r>
              <a:rPr b="0" lang="zh-CN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훈련 지원</a:t>
            </a:r>
            <a:r>
              <a:rPr b="0" lang="en-US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zh-CN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연구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○ </a:t>
            </a:r>
            <a:r>
              <a:rPr b="0" lang="zh-CN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화생방 장비 및 물자 관리</a:t>
            </a:r>
            <a:r>
              <a:rPr b="0" lang="en-US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zh-CN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민방위 기구와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    </a:t>
            </a:r>
            <a:r>
              <a:rPr b="0" lang="zh-CN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협조체제 유지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63400" y="6283440"/>
            <a:ext cx="14144760" cy="258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□ 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관련학과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○ </a:t>
            </a:r>
            <a:r>
              <a:rPr b="0" lang="ko-KR" sz="3100" spc="-1" strike="noStrike">
                <a:solidFill>
                  <a:srgbClr val="ffffff"/>
                </a:solidFill>
                <a:latin typeface="HY수평선B"/>
                <a:ea typeface="HY수평선B"/>
              </a:rPr>
              <a:t>공업화학</a:t>
            </a:r>
            <a:r>
              <a:rPr b="0" lang="ko-KR" sz="31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100" spc="-1" strike="noStrike">
                <a:solidFill>
                  <a:srgbClr val="ffffff"/>
                </a:solidFill>
                <a:latin typeface="HY수평선B"/>
                <a:ea typeface="HY수평선B"/>
              </a:rPr>
              <a:t>생물학</a:t>
            </a:r>
            <a:r>
              <a:rPr b="0" lang="ko-KR" sz="31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100" spc="-1" strike="noStrike">
                <a:solidFill>
                  <a:srgbClr val="ffffff"/>
                </a:solidFill>
                <a:latin typeface="HY수평선B"/>
                <a:ea typeface="HY수평선B"/>
              </a:rPr>
              <a:t>미생물학</a:t>
            </a:r>
            <a:r>
              <a:rPr b="0" lang="ko-KR" sz="31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100" spc="-1" strike="noStrike">
                <a:solidFill>
                  <a:srgbClr val="ffffff"/>
                </a:solidFill>
                <a:latin typeface="HY수평선B"/>
                <a:ea typeface="HY수평선B"/>
              </a:rPr>
              <a:t>생화학</a:t>
            </a:r>
            <a:r>
              <a:rPr b="0" lang="ko-KR" sz="31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100" spc="-1" strike="noStrike">
                <a:solidFill>
                  <a:srgbClr val="ffffff"/>
                </a:solidFill>
                <a:latin typeface="HY수평선B"/>
                <a:ea typeface="HY수평선B"/>
              </a:rPr>
              <a:t>원자력공학</a:t>
            </a:r>
            <a:r>
              <a:rPr b="0" lang="ko-KR" sz="31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100" spc="-1" strike="noStrike">
                <a:solidFill>
                  <a:srgbClr val="ffffff"/>
                </a:solidFill>
                <a:latin typeface="HY수평선B"/>
                <a:ea typeface="HY수평선B"/>
              </a:rPr>
              <a:t>핵공학</a:t>
            </a:r>
            <a:r>
              <a:rPr b="0" lang="ko-KR" sz="31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100" spc="-1" strike="noStrike">
                <a:solidFill>
                  <a:srgbClr val="ffffff"/>
                </a:solidFill>
                <a:latin typeface="HY수평선B"/>
                <a:ea typeface="HY수평선B"/>
              </a:rPr>
              <a:t>화공학</a:t>
            </a:r>
            <a:r>
              <a:rPr b="0" lang="ko-KR" sz="31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100" spc="-1" strike="noStrike">
                <a:solidFill>
                  <a:srgbClr val="ffffff"/>
                </a:solidFill>
                <a:latin typeface="HY수평선B"/>
                <a:ea typeface="HY수평선B"/>
              </a:rPr>
              <a:t>환경학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○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화학공정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화학공학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환경생물ㆍ화공ㆍ화학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천문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핵화학 등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    ※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해전공계열 자격증 소지자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430960" y="585720"/>
            <a:ext cx="4421160" cy="1089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100"/>
              </a:gs>
              <a:gs pos="50000">
                <a:srgbClr val="008000"/>
              </a:gs>
              <a:gs pos="100000">
                <a:srgbClr val="006100"/>
              </a:gs>
            </a:gsLst>
            <a:lin ang="5400000"/>
          </a:gradFill>
          <a:ln w="9360">
            <a:solidFill>
              <a:srgbClr val="003399"/>
            </a:solidFill>
            <a:miter/>
          </a:ln>
          <a:effectLst>
            <a:outerShdw dist="107932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ffff00"/>
                </a:solidFill>
                <a:latin typeface="HY견고딕"/>
                <a:ea typeface="HY견고딕"/>
              </a:rPr>
              <a:t>화     학</a:t>
            </a:r>
            <a:endParaRPr b="0" lang="en-US" sz="5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11484000" y="2602080"/>
            <a:ext cx="3336840" cy="32209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3399"/>
                </a:solidFill>
                <a:latin typeface="Times New Roman"/>
              </a:rPr>
              <a:t>두루마리는 행정</a:t>
            </a:r>
            <a:r>
              <a:rPr b="1" lang="en-US" sz="2200" spc="-1" strike="noStrike">
                <a:solidFill>
                  <a:srgbClr val="003399"/>
                </a:solidFill>
                <a:latin typeface="Times New Roman"/>
              </a:rPr>
              <a:t>, </a:t>
            </a:r>
            <a:r>
              <a:rPr b="1" lang="zh-CN" sz="2200" spc="-1" strike="noStrike">
                <a:solidFill>
                  <a:srgbClr val="003399"/>
                </a:solidFill>
                <a:latin typeface="Times New Roman"/>
              </a:rPr>
              <a:t>깃털은 붓</a:t>
            </a:r>
            <a:r>
              <a:rPr b="1" lang="en-US" sz="2200" spc="-1" strike="noStrike">
                <a:solidFill>
                  <a:srgbClr val="003399"/>
                </a:solidFill>
                <a:latin typeface="Times New Roman"/>
              </a:rPr>
              <a:t>, </a:t>
            </a:r>
            <a:r>
              <a:rPr b="1" lang="zh-CN" sz="2200" spc="-1" strike="noStrike">
                <a:solidFill>
                  <a:srgbClr val="003399"/>
                </a:solidFill>
                <a:latin typeface="Times New Roman"/>
              </a:rPr>
              <a:t>검은 군을 상징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12012480" y="2852640"/>
            <a:ext cx="2259000" cy="212580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5430960" y="585720"/>
            <a:ext cx="4421160" cy="1089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100"/>
              </a:gs>
              <a:gs pos="50000">
                <a:srgbClr val="008000"/>
              </a:gs>
              <a:gs pos="100000">
                <a:srgbClr val="006100"/>
              </a:gs>
            </a:gsLst>
            <a:lin ang="5400000"/>
          </a:gradFill>
          <a:ln w="9360">
            <a:solidFill>
              <a:srgbClr val="003399"/>
            </a:solidFill>
            <a:miter/>
          </a:ln>
          <a:effectLst>
            <a:outerShdw dist="107932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ffff00"/>
                </a:solidFill>
                <a:latin typeface="HY견고딕"/>
                <a:ea typeface="HY견고딕"/>
              </a:rPr>
              <a:t>부      관</a:t>
            </a:r>
            <a:endParaRPr b="0" lang="en-US" sz="5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35040" y="2314440"/>
            <a:ext cx="10585440" cy="34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□ 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임무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/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기능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    ○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육군의 인사ㆍ행정 담당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/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지원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    ○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병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/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부사관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/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군무원 인사 관리ㆍ처리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    ○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상ㆍ벌 업무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/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각 종 서무 행정 지원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    ○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상훈업무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군사우체국 운영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각종 행사 지원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63400" y="5915160"/>
            <a:ext cx="14473440" cy="307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□ 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관련학과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    ○ </a:t>
            </a:r>
            <a:r>
              <a:rPr b="0" lang="ko-KR" sz="3000" spc="-1" strike="noStrike">
                <a:solidFill>
                  <a:srgbClr val="ffffff"/>
                </a:solidFill>
                <a:latin typeface="HY수평선B"/>
                <a:ea typeface="HY수평선B"/>
              </a:rPr>
              <a:t>개발행정</a:t>
            </a:r>
            <a:r>
              <a:rPr b="0" lang="ko-KR" sz="30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000" spc="-1" strike="noStrike">
                <a:solidFill>
                  <a:srgbClr val="ffffff"/>
                </a:solidFill>
                <a:latin typeface="HY수평선B"/>
                <a:ea typeface="HY수평선B"/>
              </a:rPr>
              <a:t>도시행정</a:t>
            </a:r>
            <a:r>
              <a:rPr b="0" lang="ko-KR" sz="30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000" spc="-1" strike="noStrike">
                <a:solidFill>
                  <a:srgbClr val="ffffff"/>
                </a:solidFill>
                <a:latin typeface="HY수평선B"/>
                <a:ea typeface="HY수평선B"/>
              </a:rPr>
              <a:t>무역사무자동화</a:t>
            </a:r>
            <a:r>
              <a:rPr b="0" lang="ko-KR" sz="30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000" spc="-1" strike="noStrike">
                <a:solidFill>
                  <a:srgbClr val="ffffff"/>
                </a:solidFill>
                <a:latin typeface="HY수평선B"/>
                <a:ea typeface="HY수평선B"/>
              </a:rPr>
              <a:t>사무정보 </a:t>
            </a:r>
            <a:r>
              <a:rPr b="0" lang="ko-KR" sz="3000" spc="-1" strike="noStrike">
                <a:solidFill>
                  <a:srgbClr val="ffffff"/>
                </a:solidFill>
                <a:latin typeface="HY수평선B"/>
                <a:ea typeface="HY수평선B"/>
              </a:rPr>
              <a:t>/ </a:t>
            </a:r>
            <a:r>
              <a:rPr b="0" lang="ko-KR" sz="3000" spc="-1" strike="noStrike">
                <a:solidFill>
                  <a:srgbClr val="ffffff"/>
                </a:solidFill>
                <a:latin typeface="HY수평선B"/>
                <a:ea typeface="HY수평선B"/>
              </a:rPr>
              <a:t>정보화학</a:t>
            </a:r>
            <a:r>
              <a:rPr b="0" lang="ko-KR" sz="30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000" spc="-1" strike="noStrike">
                <a:solidFill>
                  <a:srgbClr val="ffffff"/>
                </a:solidFill>
                <a:latin typeface="HY수평선B"/>
                <a:ea typeface="HY수평선B"/>
              </a:rPr>
              <a:t>전산사무자동화학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    ○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전산학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전자계산학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정보사무자동화학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지방행정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지역개발행정학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       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행정과학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/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실무 등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        ※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해전공계열 관련 자격증 소지자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0715760" y="2459160"/>
            <a:ext cx="3703680" cy="318060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003399"/>
                </a:solidFill>
                <a:latin typeface="Times New Roman"/>
              </a:rPr>
              <a:t>고대의 화폐인 도전과 주산알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3399"/>
                </a:solidFill>
                <a:latin typeface="Times New Roman"/>
              </a:rPr>
              <a:t>3</a:t>
            </a:r>
            <a:r>
              <a:rPr b="1" lang="zh-CN" sz="1900" spc="-1" strike="noStrike">
                <a:solidFill>
                  <a:srgbClr val="003399"/>
                </a:solidFill>
                <a:latin typeface="Times New Roman"/>
              </a:rPr>
              <a:t>개로서</a:t>
            </a:r>
            <a:r>
              <a:rPr b="1" lang="en-US" sz="1900" spc="-1" strike="noStrike">
                <a:solidFill>
                  <a:srgbClr val="003399"/>
                </a:solidFill>
                <a:latin typeface="Times New Roman"/>
              </a:rPr>
              <a:t>, </a:t>
            </a:r>
            <a:r>
              <a:rPr b="1" lang="zh-CN" sz="1900" spc="-1" strike="noStrike">
                <a:solidFill>
                  <a:srgbClr val="003399"/>
                </a:solidFill>
                <a:latin typeface="Times New Roman"/>
              </a:rPr>
              <a:t>예산</a:t>
            </a:r>
            <a:r>
              <a:rPr b="1" lang="en-US" sz="1900" spc="-1" strike="noStrike">
                <a:solidFill>
                  <a:srgbClr val="003399"/>
                </a:solidFill>
                <a:latin typeface="Times New Roman"/>
              </a:rPr>
              <a:t>, </a:t>
            </a:r>
            <a:r>
              <a:rPr b="1" lang="zh-CN" sz="1900" spc="-1" strike="noStrike">
                <a:solidFill>
                  <a:srgbClr val="003399"/>
                </a:solidFill>
                <a:latin typeface="Times New Roman"/>
              </a:rPr>
              <a:t>회계</a:t>
            </a:r>
            <a:r>
              <a:rPr b="1" lang="en-US" sz="1900" spc="-1" strike="noStrike">
                <a:solidFill>
                  <a:srgbClr val="003399"/>
                </a:solidFill>
                <a:latin typeface="Times New Roman"/>
              </a:rPr>
              <a:t>, </a:t>
            </a:r>
            <a:r>
              <a:rPr b="1" lang="zh-CN" sz="1900" spc="-1" strike="noStrike">
                <a:solidFill>
                  <a:srgbClr val="003399"/>
                </a:solidFill>
                <a:latin typeface="Times New Roman"/>
              </a:rPr>
              <a:t>감사를 상징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11320560" y="2635200"/>
            <a:ext cx="2450880" cy="22114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5430960" y="585720"/>
            <a:ext cx="4421160" cy="1089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100"/>
              </a:gs>
              <a:gs pos="50000">
                <a:srgbClr val="008000"/>
              </a:gs>
              <a:gs pos="100000">
                <a:srgbClr val="006100"/>
              </a:gs>
            </a:gsLst>
            <a:lin ang="5400000"/>
          </a:gradFill>
          <a:ln w="9360">
            <a:solidFill>
              <a:srgbClr val="003399"/>
            </a:solidFill>
            <a:miter/>
          </a:ln>
          <a:effectLst>
            <a:outerShdw dist="107932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ffff00"/>
                </a:solidFill>
                <a:latin typeface="HY견고딕"/>
                <a:ea typeface="HY견고딕"/>
              </a:rPr>
              <a:t>경      리</a:t>
            </a:r>
            <a:endParaRPr b="0" lang="en-US" sz="5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35040" y="2170080"/>
            <a:ext cx="10585440" cy="42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□ 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임무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/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기능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 ○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부대의 재정과 회계 기능을 담당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 ○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예산ㆍ회계ㆍ경리 지원 업무 수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 ○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단위 부대의 회계 처리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 ○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예산 편성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/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집행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결산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급여자금 불출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 ○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국방 관리 회계 업무 수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 ○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군사시설 공사 및 납품자재에 대한 계약체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63400" y="6562800"/>
            <a:ext cx="14473440" cy="21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□ 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관련학과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 ○ </a:t>
            </a:r>
            <a:r>
              <a:rPr b="0" lang="ko-KR" sz="3000" spc="-1" strike="noStrike">
                <a:solidFill>
                  <a:srgbClr val="ffffff"/>
                </a:solidFill>
                <a:latin typeface="HY수평선B"/>
                <a:ea typeface="HY수평선B"/>
              </a:rPr>
              <a:t>경제</a:t>
            </a:r>
            <a:r>
              <a:rPr b="0" lang="ko-KR" sz="30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000" spc="-1" strike="noStrike">
                <a:solidFill>
                  <a:srgbClr val="ffffff"/>
                </a:solidFill>
                <a:latin typeface="HY수평선B"/>
                <a:ea typeface="HY수평선B"/>
              </a:rPr>
              <a:t>경영학</a:t>
            </a:r>
            <a:r>
              <a:rPr b="0" lang="ko-KR" sz="30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000" spc="-1" strike="noStrike">
                <a:solidFill>
                  <a:srgbClr val="ffffff"/>
                </a:solidFill>
                <a:latin typeface="HY수평선B"/>
                <a:ea typeface="HY수평선B"/>
              </a:rPr>
              <a:t>회계학</a:t>
            </a:r>
            <a:r>
              <a:rPr b="0" lang="ko-KR" sz="30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000" spc="-1" strike="noStrike">
                <a:solidFill>
                  <a:srgbClr val="ffffff"/>
                </a:solidFill>
                <a:latin typeface="HY수평선B"/>
                <a:ea typeface="HY수평선B"/>
              </a:rPr>
              <a:t>무역학</a:t>
            </a:r>
            <a:r>
              <a:rPr b="0" lang="ko-KR" sz="30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000" spc="-1" strike="noStrike">
                <a:solidFill>
                  <a:srgbClr val="ffffff"/>
                </a:solidFill>
                <a:latin typeface="HY수평선B"/>
                <a:ea typeface="HY수평선B"/>
              </a:rPr>
              <a:t>금융학</a:t>
            </a:r>
            <a:r>
              <a:rPr b="0" lang="ko-KR" sz="30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000" spc="-1" strike="noStrike">
                <a:solidFill>
                  <a:srgbClr val="ffffff"/>
                </a:solidFill>
                <a:latin typeface="HY수평선B"/>
                <a:ea typeface="HY수평선B"/>
              </a:rPr>
              <a:t>경제금융</a:t>
            </a:r>
            <a:r>
              <a:rPr b="0" lang="ko-KR" sz="30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000" spc="-1" strike="noStrike">
                <a:solidFill>
                  <a:srgbClr val="ffffff"/>
                </a:solidFill>
                <a:latin typeface="HY수평선B"/>
                <a:ea typeface="HY수평선B"/>
              </a:rPr>
              <a:t>회계재무시스템</a:t>
            </a:r>
            <a:r>
              <a:rPr b="0" lang="ko-KR" sz="30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000" spc="-1" strike="noStrike">
                <a:solidFill>
                  <a:srgbClr val="ffffff"/>
                </a:solidFill>
                <a:latin typeface="HY수평선B"/>
                <a:ea typeface="HY수평선B"/>
              </a:rPr>
              <a:t>컴퓨터학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 ○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경영정보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/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회계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/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공학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경제무역학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전자계산기학 등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     ※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해전공계열 관련 자격증 소지자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10715760" y="2340000"/>
            <a:ext cx="3770280" cy="35305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003399"/>
                </a:solidFill>
                <a:latin typeface="Times New Roman"/>
              </a:rPr>
              <a:t>고대의 육모 방망이는 교도 및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003399"/>
                </a:solidFill>
                <a:latin typeface="Times New Roman"/>
              </a:rPr>
              <a:t>징계를 상징하며 혁대는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003399"/>
                </a:solidFill>
                <a:latin typeface="Times New Roman"/>
              </a:rPr>
              <a:t>명령에 의한 사법권 행사 등 상징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11310840" y="2438280"/>
            <a:ext cx="2502000" cy="226548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5430960" y="585720"/>
            <a:ext cx="4421160" cy="1089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100"/>
              </a:gs>
              <a:gs pos="50000">
                <a:srgbClr val="008000"/>
              </a:gs>
              <a:gs pos="100000">
                <a:srgbClr val="006100"/>
              </a:gs>
            </a:gsLst>
            <a:lin ang="5400000"/>
          </a:gradFill>
          <a:ln w="9360">
            <a:solidFill>
              <a:srgbClr val="003399"/>
            </a:solidFill>
            <a:miter/>
          </a:ln>
          <a:effectLst>
            <a:outerShdw dist="107932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ffff00"/>
                </a:solidFill>
                <a:latin typeface="HY견고딕"/>
                <a:ea typeface="HY견고딕"/>
              </a:rPr>
              <a:t>헌      병</a:t>
            </a:r>
            <a:endParaRPr b="0" lang="en-US" sz="5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35040" y="2170080"/>
            <a:ext cx="10585440" cy="42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□ 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임무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/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기능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6ffff"/>
                </a:solidFill>
                <a:latin typeface="HY수평선B"/>
                <a:ea typeface="HY수평선B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○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군기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/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군법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질서 유지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 ○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낙오자 통제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 ○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호송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경호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교통 초소 관리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 ○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군기강확립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군 사법 경찰업무 수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 ○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순찰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군탈자 체포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범죄예방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/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수사활동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검문소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 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운용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경호 경비 등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63400" y="6562800"/>
            <a:ext cx="144734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□ 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관련학과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    ○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경찰행정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경호행정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공법학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교정학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국제법무학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법규수사학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법률학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    ○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법학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사법학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행정과학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/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실무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/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행정학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안전경호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/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공안행정학 등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     ※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해전공계열 관련 자격증 소지자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11220480" y="2362320"/>
            <a:ext cx="3789360" cy="38199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003399"/>
                </a:solidFill>
                <a:latin typeface="Times New Roman"/>
              </a:rPr>
              <a:t>종은 자유를 뜻하며 봉화는 민주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003399"/>
                </a:solidFill>
                <a:latin typeface="Times New Roman"/>
              </a:rPr>
              <a:t>이념을 밝히며 붓은 홍보 및 정신교육활동을</a:t>
            </a:r>
            <a:r>
              <a:rPr b="1" lang="en-US" sz="1900" spc="-1" strike="noStrike">
                <a:solidFill>
                  <a:srgbClr val="003399"/>
                </a:solidFill>
                <a:latin typeface="Times New Roman"/>
              </a:rPr>
              <a:t>, </a:t>
            </a:r>
            <a:r>
              <a:rPr b="1" lang="zh-CN" sz="1900" spc="-1" strike="noStrike">
                <a:solidFill>
                  <a:srgbClr val="003399"/>
                </a:solidFill>
                <a:latin typeface="Times New Roman"/>
              </a:rPr>
              <a:t>검은 정의를 상징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11796840" y="2513160"/>
            <a:ext cx="2663640" cy="253656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5430960" y="585720"/>
            <a:ext cx="4421160" cy="1089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100"/>
              </a:gs>
              <a:gs pos="50000">
                <a:srgbClr val="008000"/>
              </a:gs>
              <a:gs pos="100000">
                <a:srgbClr val="006100"/>
              </a:gs>
            </a:gsLst>
            <a:lin ang="5400000"/>
          </a:gradFill>
          <a:ln w="9360">
            <a:solidFill>
              <a:srgbClr val="003399"/>
            </a:solidFill>
            <a:miter/>
          </a:ln>
          <a:effectLst>
            <a:outerShdw dist="107932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ffff00"/>
                </a:solidFill>
                <a:latin typeface="HY견고딕"/>
                <a:ea typeface="HY견고딕"/>
              </a:rPr>
              <a:t>정      훈</a:t>
            </a:r>
            <a:endParaRPr b="0" lang="en-US" sz="5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0680" y="2025720"/>
            <a:ext cx="1086624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□ </a:t>
            </a:r>
            <a:r>
              <a:rPr b="0" lang="zh-CN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임무</a:t>
            </a:r>
            <a:r>
              <a:rPr b="0" lang="en-US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/</a:t>
            </a:r>
            <a:r>
              <a:rPr b="0" lang="zh-CN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기능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    ○ </a:t>
            </a:r>
            <a:r>
              <a:rPr b="0" lang="zh-CN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장병 정신 전력 강화로 전투력 배양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    ○ </a:t>
            </a:r>
            <a:r>
              <a:rPr b="0" lang="zh-CN" sz="3100" spc="-1" strike="noStrike">
                <a:solidFill>
                  <a:srgbClr val="ffffff"/>
                </a:solidFill>
                <a:latin typeface="HY수평선B"/>
                <a:ea typeface="HY수평선B"/>
              </a:rPr>
              <a:t>정훈 교육 </a:t>
            </a:r>
            <a:r>
              <a:rPr b="0" lang="en-US" sz="3100" spc="-1" strike="noStrike">
                <a:solidFill>
                  <a:srgbClr val="ffffff"/>
                </a:solidFill>
                <a:latin typeface="HY수평선B"/>
                <a:ea typeface="HY수평선B"/>
              </a:rPr>
              <a:t>/ </a:t>
            </a:r>
            <a:r>
              <a:rPr b="0" lang="zh-CN" sz="3100" spc="-1" strike="noStrike">
                <a:solidFill>
                  <a:srgbClr val="ffffff"/>
                </a:solidFill>
                <a:latin typeface="HY수평선B"/>
                <a:ea typeface="HY수평선B"/>
              </a:rPr>
              <a:t>문화 활동 </a:t>
            </a:r>
            <a:r>
              <a:rPr b="0" lang="en-US" sz="3100" spc="-1" strike="noStrike">
                <a:solidFill>
                  <a:srgbClr val="ffffff"/>
                </a:solidFill>
                <a:latin typeface="HY수평선B"/>
                <a:ea typeface="HY수평선B"/>
              </a:rPr>
              <a:t>: </a:t>
            </a:r>
            <a:r>
              <a:rPr b="0" lang="zh-CN" sz="3100" spc="-1" strike="noStrike">
                <a:solidFill>
                  <a:srgbClr val="ffffff"/>
                </a:solidFill>
                <a:latin typeface="HY수평선B"/>
                <a:ea typeface="HY수평선B"/>
              </a:rPr>
              <a:t>가치관 확립 </a:t>
            </a:r>
            <a:r>
              <a:rPr b="0" lang="en-US" sz="3100" spc="-1" strike="noStrike">
                <a:solidFill>
                  <a:srgbClr val="ffffff"/>
                </a:solidFill>
                <a:latin typeface="HY수평선B"/>
                <a:ea typeface="HY수평선B"/>
              </a:rPr>
              <a:t>/ </a:t>
            </a:r>
            <a:r>
              <a:rPr b="0" lang="zh-CN" sz="3100" spc="-1" strike="noStrike">
                <a:solidFill>
                  <a:srgbClr val="ffffff"/>
                </a:solidFill>
                <a:latin typeface="HY수평선B"/>
                <a:ea typeface="HY수평선B"/>
              </a:rPr>
              <a:t>호국 정신 고취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    ○ </a:t>
            </a:r>
            <a:r>
              <a:rPr b="0" lang="zh-CN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장병 정신교육</a:t>
            </a:r>
            <a:r>
              <a:rPr b="0" lang="en-US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공보활동</a:t>
            </a:r>
            <a:r>
              <a:rPr b="0" lang="en-US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보도활동</a:t>
            </a:r>
            <a:r>
              <a:rPr b="0" lang="en-US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문화활동</a:t>
            </a:r>
            <a:r>
              <a:rPr b="0" lang="en-US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        </a:t>
            </a:r>
            <a:r>
              <a:rPr b="0" lang="zh-CN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진중창작</a:t>
            </a:r>
            <a:r>
              <a:rPr b="0" lang="en-US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각종 간행물 보급 등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 ※ </a:t>
            </a:r>
            <a:r>
              <a:rPr b="0" lang="zh-CN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정훈 </a:t>
            </a:r>
            <a:r>
              <a:rPr b="0" lang="en-US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(TI&amp;E) : Troop Information and Educ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63400" y="5915160"/>
            <a:ext cx="14186160" cy="307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□ 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관련학과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    ○ </a:t>
            </a:r>
            <a:r>
              <a:rPr b="0" lang="ko-KR" sz="3100" spc="-1" strike="noStrike">
                <a:solidFill>
                  <a:srgbClr val="ffffff"/>
                </a:solidFill>
                <a:latin typeface="HY수평선B"/>
                <a:ea typeface="HY수평선B"/>
              </a:rPr>
              <a:t>신문방송</a:t>
            </a:r>
            <a:r>
              <a:rPr b="0" lang="ko-KR" sz="31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100" spc="-1" strike="noStrike">
                <a:solidFill>
                  <a:srgbClr val="ffffff"/>
                </a:solidFill>
                <a:latin typeface="HY수평선B"/>
                <a:ea typeface="HY수평선B"/>
              </a:rPr>
              <a:t>국민윤리</a:t>
            </a:r>
            <a:r>
              <a:rPr b="0" lang="ko-KR" sz="31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100" spc="-1" strike="noStrike">
                <a:solidFill>
                  <a:srgbClr val="ffffff"/>
                </a:solidFill>
                <a:latin typeface="HY수평선B"/>
                <a:ea typeface="HY수평선B"/>
              </a:rPr>
              <a:t>심리학</a:t>
            </a:r>
            <a:r>
              <a:rPr b="0" lang="ko-KR" sz="31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100" spc="-1" strike="noStrike">
                <a:solidFill>
                  <a:srgbClr val="ffffff"/>
                </a:solidFill>
                <a:latin typeface="HY수평선B"/>
                <a:ea typeface="HY수평선B"/>
              </a:rPr>
              <a:t>한국철학</a:t>
            </a:r>
            <a:r>
              <a:rPr b="0" lang="ko-KR" sz="31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100" spc="-1" strike="noStrike">
                <a:solidFill>
                  <a:srgbClr val="ffffff"/>
                </a:solidFill>
                <a:latin typeface="HY수평선B"/>
                <a:ea typeface="HY수평선B"/>
              </a:rPr>
              <a:t>사학</a:t>
            </a:r>
            <a:r>
              <a:rPr b="0" lang="ko-KR" sz="31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100" spc="-1" strike="noStrike">
                <a:solidFill>
                  <a:srgbClr val="ffffff"/>
                </a:solidFill>
                <a:latin typeface="HY수평선B"/>
                <a:ea typeface="HY수평선B"/>
              </a:rPr>
              <a:t>사회학</a:t>
            </a:r>
            <a:r>
              <a:rPr b="0" lang="ko-KR" sz="31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100" spc="-1" strike="noStrike">
                <a:solidFill>
                  <a:srgbClr val="ffffff"/>
                </a:solidFill>
                <a:latin typeface="HY수평선B"/>
                <a:ea typeface="HY수평선B"/>
              </a:rPr>
              <a:t>교육심리</a:t>
            </a:r>
            <a:r>
              <a:rPr b="0" lang="ko-KR" sz="31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100" spc="-1" strike="noStrike">
                <a:solidFill>
                  <a:srgbClr val="ffffff"/>
                </a:solidFill>
                <a:latin typeface="HY수평선B"/>
                <a:ea typeface="HY수평선B"/>
              </a:rPr>
              <a:t>국민윤리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    ○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교육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경제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신문학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국어국문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언론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북한학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영상학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문화영상창작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       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방송언론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역사교육학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    ※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해전공계열 관련 자격증 소지자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11291760" y="2117880"/>
            <a:ext cx="3508560" cy="3933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" spc="-1" strike="noStrike">
                <a:solidFill>
                  <a:srgbClr val="003399"/>
                </a:solidFill>
                <a:latin typeface="Times New Roman"/>
              </a:rPr>
              <a:t>지팡이에 두 마리의 뱀이 감겨있고 그 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" spc="-1" strike="noStrike">
                <a:solidFill>
                  <a:srgbClr val="003399"/>
                </a:solidFill>
                <a:latin typeface="Times New Roman"/>
              </a:rPr>
              <a:t>상단에 쌍날개가 펴있는 모양으로 고대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lang="ko-KR" sz="1500" spc="-1" strike="noStrike">
                <a:solidFill>
                  <a:srgbClr val="003399"/>
                </a:solidFill>
                <a:latin typeface="Times New Roman"/>
              </a:rPr>
              <a:t>희랍신의 사자 </a:t>
            </a:r>
            <a:r>
              <a:rPr b="1" lang="ko-KR" sz="1500" spc="-1" strike="noStrike">
                <a:solidFill>
                  <a:srgbClr val="003399"/>
                </a:solidFill>
                <a:latin typeface="Times New Roman"/>
              </a:rPr>
              <a:t>Hermes</a:t>
            </a:r>
            <a:r>
              <a:rPr b="1" lang="ko-KR" sz="1500" spc="-1" strike="noStrike">
                <a:solidFill>
                  <a:srgbClr val="003399"/>
                </a:solidFill>
                <a:latin typeface="Times New Roman"/>
              </a:rPr>
              <a:t>가 가지고 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" spc="-1" strike="noStrike">
                <a:solidFill>
                  <a:srgbClr val="003399"/>
                </a:solidFill>
                <a:latin typeface="Times New Roman"/>
              </a:rPr>
              <a:t>다니던 지팡이를 표시하여 의술을 상징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11723760" y="2257560"/>
            <a:ext cx="2646360" cy="252396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5430960" y="585720"/>
            <a:ext cx="4421160" cy="1089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100"/>
              </a:gs>
              <a:gs pos="50000">
                <a:srgbClr val="008000"/>
              </a:gs>
              <a:gs pos="100000">
                <a:srgbClr val="006100"/>
              </a:gs>
            </a:gsLst>
            <a:lin ang="5400000"/>
          </a:gradFill>
          <a:ln w="9360">
            <a:solidFill>
              <a:srgbClr val="003399"/>
            </a:solidFill>
            <a:miter/>
          </a:ln>
          <a:effectLst>
            <a:outerShdw dist="107932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ffff00"/>
                </a:solidFill>
                <a:latin typeface="HY견고딕"/>
                <a:ea typeface="HY견고딕"/>
              </a:rPr>
              <a:t>의무관련 병과</a:t>
            </a:r>
            <a:endParaRPr b="0" lang="en-US" sz="5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90680" y="1882800"/>
            <a:ext cx="10866240" cy="406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□ 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임무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/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기능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    ○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장병의 건강 증진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질병예방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환자치료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환자후송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       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입ㆍ퇴원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재활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    ○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병원 및 야전 의무부대의 조직과 편성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교육훈련등의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       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군 보건사업 등 제반 업무 수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    ○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분쟁지역에 대한 의료지원단 파병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        ※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기타 관련 병과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군의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치의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수의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간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400" y="6202440"/>
            <a:ext cx="14446440" cy="28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□ 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관련학과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    ○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약학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보건학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위생공학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보건행정학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병원행정학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산업보건학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제약학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       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물리치료학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    ○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임상병리학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식품영양학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재활학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의용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/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전자공학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의약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/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의료생체공학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       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전자공학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    ○ </a:t>
            </a:r>
            <a:r>
              <a:rPr b="0" lang="ko-KR" sz="3000" spc="-1" strike="noStrike">
                <a:solidFill>
                  <a:srgbClr val="ffffff"/>
                </a:solidFill>
                <a:latin typeface="HY수평선B"/>
                <a:ea typeface="HY수평선B"/>
              </a:rPr>
              <a:t>심리상담치료학</a:t>
            </a:r>
            <a:r>
              <a:rPr b="0" lang="ko-KR" sz="30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000" spc="-1" strike="noStrike">
                <a:solidFill>
                  <a:srgbClr val="ffffff"/>
                </a:solidFill>
                <a:latin typeface="HY수평선B"/>
                <a:ea typeface="HY수평선B"/>
              </a:rPr>
              <a:t>병원경영학</a:t>
            </a:r>
            <a:r>
              <a:rPr b="0" lang="ko-KR" sz="30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000" spc="-1" strike="noStrike">
                <a:solidFill>
                  <a:srgbClr val="ffffff"/>
                </a:solidFill>
                <a:latin typeface="HY수평선B"/>
                <a:ea typeface="HY수평선B"/>
              </a:rPr>
              <a:t>영양학</a:t>
            </a:r>
            <a:r>
              <a:rPr b="0" lang="ko-KR" sz="30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000" spc="-1" strike="noStrike">
                <a:solidFill>
                  <a:srgbClr val="ffffff"/>
                </a:solidFill>
                <a:latin typeface="HY수평선B"/>
                <a:ea typeface="HY수평선B"/>
              </a:rPr>
              <a:t>의공학</a:t>
            </a:r>
            <a:r>
              <a:rPr b="0" lang="ko-KR" sz="30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000" spc="-1" strike="noStrike">
                <a:solidFill>
                  <a:srgbClr val="ffffff"/>
                </a:solidFill>
                <a:latin typeface="HY수평선B"/>
                <a:ea typeface="HY수평선B"/>
              </a:rPr>
              <a:t>의료행정학</a:t>
            </a:r>
            <a:r>
              <a:rPr b="0" lang="ko-KR" sz="30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000" spc="-1" strike="noStrike">
                <a:solidFill>
                  <a:srgbClr val="ffffff"/>
                </a:solidFill>
                <a:latin typeface="HY수평선B"/>
                <a:ea typeface="HY수평선B"/>
              </a:rPr>
              <a:t>재활</a:t>
            </a:r>
            <a:r>
              <a:rPr b="0" lang="ko-KR" sz="30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000" spc="-1" strike="noStrike">
                <a:solidFill>
                  <a:srgbClr val="ffffff"/>
                </a:solidFill>
                <a:latin typeface="HY수평선B"/>
                <a:ea typeface="HY수평선B"/>
              </a:rPr>
              <a:t>작업치료 등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ffffff"/>
                </a:solidFill>
                <a:latin typeface="HY수평선B"/>
                <a:ea typeface="HY수평선B"/>
              </a:rPr>
              <a:t>         ※ </a:t>
            </a:r>
            <a:r>
              <a:rPr b="0" lang="ko-KR" sz="3000" spc="-1" strike="noStrike">
                <a:solidFill>
                  <a:srgbClr val="ffffff"/>
                </a:solidFill>
                <a:latin typeface="HY수평선B"/>
                <a:ea typeface="HY수평선B"/>
              </a:rPr>
              <a:t>해전공계열 관련 자격증 소지자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4524480" y="554040"/>
            <a:ext cx="6397560" cy="1255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100"/>
              </a:gs>
              <a:gs pos="50000">
                <a:srgbClr val="008000"/>
              </a:gs>
              <a:gs pos="100000">
                <a:srgbClr val="006100"/>
              </a:gs>
            </a:gsLst>
            <a:lin ang="5400000"/>
          </a:gradFill>
          <a:ln w="9360">
            <a:solidFill>
              <a:srgbClr val="003399"/>
            </a:solidFill>
            <a:miter/>
          </a:ln>
          <a:effectLst>
            <a:outerShdw dist="107932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00"/>
                </a:solidFill>
                <a:latin typeface="HY견고딕"/>
                <a:ea typeface="HY견고딕"/>
              </a:rPr>
              <a:t>병 과 의  종 류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90680" y="2546280"/>
            <a:ext cx="13322160" cy="40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HY동녘B"/>
                <a:ea typeface="HY동녘B"/>
              </a:rPr>
              <a:t>□ </a:t>
            </a:r>
            <a:r>
              <a:rPr b="0" lang="zh-CN" sz="4500" spc="-1" strike="noStrike">
                <a:solidFill>
                  <a:srgbClr val="ffffff"/>
                </a:solidFill>
                <a:latin typeface="HY동녘B"/>
                <a:ea typeface="HY동녘B"/>
              </a:rPr>
              <a:t>기본병과</a:t>
            </a:r>
            <a:r>
              <a:rPr b="0" lang="en-US" sz="4500" spc="-1" strike="noStrike">
                <a:solidFill>
                  <a:srgbClr val="ffffff"/>
                </a:solidFill>
                <a:latin typeface="HY동녘B"/>
                <a:ea typeface="HY동녘B"/>
              </a:rPr>
              <a:t>(16)</a:t>
            </a:r>
            <a:endParaRPr b="0" lang="en-US" sz="4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4000" spc="-1" strike="noStrike">
                <a:solidFill>
                  <a:srgbClr val="ffffff"/>
                </a:solidFill>
                <a:latin typeface="HY동녘B"/>
                <a:ea typeface="HY동녘B"/>
              </a:rPr>
              <a:t>○ </a:t>
            </a:r>
            <a:r>
              <a:rPr b="0" lang="zh-CN" sz="4000" spc="-1" strike="noStrike">
                <a:solidFill>
                  <a:srgbClr val="ffffff"/>
                </a:solidFill>
                <a:latin typeface="HY동녘B"/>
                <a:ea typeface="HY동녘B"/>
              </a:rPr>
              <a:t>전투 병과</a:t>
            </a:r>
            <a:r>
              <a:rPr b="0" lang="en-US" sz="4000" spc="-1" strike="noStrike">
                <a:solidFill>
                  <a:srgbClr val="ffffff"/>
                </a:solidFill>
                <a:latin typeface="HY동녘B"/>
                <a:ea typeface="HY동녘B"/>
              </a:rPr>
              <a:t>(8) : </a:t>
            </a:r>
            <a:r>
              <a:rPr b="0" lang="zh-CN" sz="4000" spc="-1" strike="noStrike">
                <a:solidFill>
                  <a:srgbClr val="ffffff"/>
                </a:solidFill>
                <a:latin typeface="HY동녘B"/>
                <a:ea typeface="HY동녘B"/>
              </a:rPr>
              <a:t>보병</a:t>
            </a:r>
            <a:r>
              <a:rPr b="0" lang="en-US" sz="4000" spc="-1" strike="noStrike">
                <a:solidFill>
                  <a:srgbClr val="ffffff"/>
                </a:solidFill>
                <a:latin typeface="HY동녘B"/>
                <a:ea typeface="HY동녘B"/>
              </a:rPr>
              <a:t>, </a:t>
            </a:r>
            <a:r>
              <a:rPr b="0" lang="zh-CN" sz="4000" spc="-1" strike="noStrike">
                <a:solidFill>
                  <a:srgbClr val="ffffff"/>
                </a:solidFill>
                <a:latin typeface="HY동녘B"/>
                <a:ea typeface="HY동녘B"/>
              </a:rPr>
              <a:t>포병</a:t>
            </a:r>
            <a:r>
              <a:rPr b="0" lang="en-US" sz="4000" spc="-1" strike="noStrike">
                <a:solidFill>
                  <a:srgbClr val="ffffff"/>
                </a:solidFill>
                <a:latin typeface="HY동녘B"/>
                <a:ea typeface="HY동녘B"/>
              </a:rPr>
              <a:t>, </a:t>
            </a:r>
            <a:r>
              <a:rPr b="0" lang="zh-CN" sz="4000" spc="-1" strike="noStrike">
                <a:solidFill>
                  <a:srgbClr val="ffffff"/>
                </a:solidFill>
                <a:latin typeface="HY동녘B"/>
                <a:ea typeface="HY동녘B"/>
              </a:rPr>
              <a:t>기갑</a:t>
            </a:r>
            <a:r>
              <a:rPr b="0" lang="en-US" sz="4000" spc="-1" strike="noStrike">
                <a:solidFill>
                  <a:srgbClr val="ffffff"/>
                </a:solidFill>
                <a:latin typeface="HY동녘B"/>
                <a:ea typeface="HY동녘B"/>
              </a:rPr>
              <a:t>, </a:t>
            </a:r>
            <a:r>
              <a:rPr b="0" lang="zh-CN" sz="4000" spc="-1" strike="noStrike">
                <a:solidFill>
                  <a:srgbClr val="ffffff"/>
                </a:solidFill>
                <a:latin typeface="HY동녘B"/>
                <a:ea typeface="HY동녘B"/>
              </a:rPr>
              <a:t>공병</a:t>
            </a:r>
            <a:r>
              <a:rPr b="0" lang="en-US" sz="4000" spc="-1" strike="noStrike">
                <a:solidFill>
                  <a:srgbClr val="ffffff"/>
                </a:solidFill>
                <a:latin typeface="HY동녘B"/>
                <a:ea typeface="HY동녘B"/>
              </a:rPr>
              <a:t>, </a:t>
            </a:r>
            <a:r>
              <a:rPr b="0" lang="zh-CN" sz="4000" spc="-1" strike="noStrike">
                <a:solidFill>
                  <a:srgbClr val="ffffff"/>
                </a:solidFill>
                <a:latin typeface="HY동녘B"/>
                <a:ea typeface="HY동녘B"/>
              </a:rPr>
              <a:t>통신</a:t>
            </a:r>
            <a:r>
              <a:rPr b="0" lang="en-US" sz="4000" spc="-1" strike="noStrike">
                <a:solidFill>
                  <a:srgbClr val="ffffff"/>
                </a:solidFill>
                <a:latin typeface="HY동녘B"/>
                <a:ea typeface="HY동녘B"/>
              </a:rPr>
              <a:t>, </a:t>
            </a:r>
            <a:r>
              <a:rPr b="0" lang="zh-CN" sz="4000" spc="-1" strike="noStrike">
                <a:solidFill>
                  <a:srgbClr val="ffffff"/>
                </a:solidFill>
                <a:latin typeface="HY동녘B"/>
                <a:ea typeface="HY동녘B"/>
              </a:rPr>
              <a:t>항공</a:t>
            </a:r>
            <a:r>
              <a:rPr b="0" lang="en-US" sz="4000" spc="-1" strike="noStrike">
                <a:solidFill>
                  <a:srgbClr val="ffffff"/>
                </a:solidFill>
                <a:latin typeface="HY동녘B"/>
                <a:ea typeface="HY동녘B"/>
              </a:rPr>
              <a:t>,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HY동녘B"/>
                <a:ea typeface="HY동녘B"/>
              </a:rPr>
              <a:t>                            </a:t>
            </a:r>
            <a:r>
              <a:rPr b="0" lang="zh-CN" sz="4000" spc="-1" strike="noStrike">
                <a:solidFill>
                  <a:srgbClr val="ffffff"/>
                </a:solidFill>
                <a:latin typeface="HY동녘B"/>
                <a:ea typeface="HY동녘B"/>
              </a:rPr>
              <a:t>정보통신</a:t>
            </a:r>
            <a:r>
              <a:rPr b="0" lang="en-US" sz="4000" spc="-1" strike="noStrike">
                <a:solidFill>
                  <a:srgbClr val="ffffff"/>
                </a:solidFill>
                <a:latin typeface="HY동녘B"/>
                <a:ea typeface="HY동녘B"/>
              </a:rPr>
              <a:t>, </a:t>
            </a:r>
            <a:r>
              <a:rPr b="0" lang="zh-CN" sz="4000" spc="-1" strike="noStrike">
                <a:solidFill>
                  <a:srgbClr val="ffffff"/>
                </a:solidFill>
                <a:latin typeface="HY동녘B"/>
                <a:ea typeface="HY동녘B"/>
              </a:rPr>
              <a:t>방공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HY동녘B"/>
                <a:ea typeface="HY동녘B"/>
              </a:rPr>
              <a:t>    ○ </a:t>
            </a:r>
            <a:r>
              <a:rPr b="0" lang="zh-CN" sz="4000" spc="-1" strike="noStrike">
                <a:solidFill>
                  <a:srgbClr val="ffffff"/>
                </a:solidFill>
                <a:latin typeface="HY동녘B"/>
                <a:ea typeface="HY동녘B"/>
              </a:rPr>
              <a:t>기술 병과</a:t>
            </a:r>
            <a:r>
              <a:rPr b="0" lang="en-US" sz="4000" spc="-1" strike="noStrike">
                <a:solidFill>
                  <a:srgbClr val="ffffff"/>
                </a:solidFill>
                <a:latin typeface="HY동녘B"/>
                <a:ea typeface="HY동녘B"/>
              </a:rPr>
              <a:t>(4) : </a:t>
            </a:r>
            <a:r>
              <a:rPr b="0" lang="zh-CN" sz="4000" spc="-1" strike="noStrike">
                <a:solidFill>
                  <a:srgbClr val="ffffff"/>
                </a:solidFill>
                <a:latin typeface="HY동녘B"/>
                <a:ea typeface="HY동녘B"/>
              </a:rPr>
              <a:t>화학</a:t>
            </a:r>
            <a:r>
              <a:rPr b="0" lang="en-US" sz="4000" spc="-1" strike="noStrike">
                <a:solidFill>
                  <a:srgbClr val="ffffff"/>
                </a:solidFill>
                <a:latin typeface="HY동녘B"/>
                <a:ea typeface="HY동녘B"/>
              </a:rPr>
              <a:t>, </a:t>
            </a:r>
            <a:r>
              <a:rPr b="0" lang="zh-CN" sz="4000" spc="-1" strike="noStrike">
                <a:solidFill>
                  <a:srgbClr val="ffffff"/>
                </a:solidFill>
                <a:latin typeface="HY동녘B"/>
                <a:ea typeface="HY동녘B"/>
              </a:rPr>
              <a:t>수송</a:t>
            </a:r>
            <a:r>
              <a:rPr b="0" lang="en-US" sz="4000" spc="-1" strike="noStrike">
                <a:solidFill>
                  <a:srgbClr val="ffffff"/>
                </a:solidFill>
                <a:latin typeface="HY동녘B"/>
                <a:ea typeface="HY동녘B"/>
              </a:rPr>
              <a:t>, </a:t>
            </a:r>
            <a:r>
              <a:rPr b="0" lang="zh-CN" sz="4000" spc="-1" strike="noStrike">
                <a:solidFill>
                  <a:srgbClr val="ffffff"/>
                </a:solidFill>
                <a:latin typeface="HY동녘B"/>
                <a:ea typeface="HY동녘B"/>
              </a:rPr>
              <a:t>병기</a:t>
            </a:r>
            <a:r>
              <a:rPr b="0" lang="en-US" sz="4000" spc="-1" strike="noStrike">
                <a:solidFill>
                  <a:srgbClr val="ffffff"/>
                </a:solidFill>
                <a:latin typeface="HY동녘B"/>
                <a:ea typeface="HY동녘B"/>
              </a:rPr>
              <a:t>, </a:t>
            </a:r>
            <a:r>
              <a:rPr b="0" lang="zh-CN" sz="4000" spc="-1" strike="noStrike">
                <a:solidFill>
                  <a:srgbClr val="ffffff"/>
                </a:solidFill>
                <a:latin typeface="HY동녘B"/>
                <a:ea typeface="HY동녘B"/>
              </a:rPr>
              <a:t>병참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HY동녘B"/>
                <a:ea typeface="HY동녘B"/>
              </a:rPr>
              <a:t>    ○ </a:t>
            </a:r>
            <a:r>
              <a:rPr b="0" lang="zh-CN" sz="4000" spc="-1" strike="noStrike">
                <a:solidFill>
                  <a:srgbClr val="ffffff"/>
                </a:solidFill>
                <a:latin typeface="HY동녘B"/>
                <a:ea typeface="HY동녘B"/>
              </a:rPr>
              <a:t>행정 병과</a:t>
            </a:r>
            <a:r>
              <a:rPr b="0" lang="en-US" sz="4000" spc="-1" strike="noStrike">
                <a:solidFill>
                  <a:srgbClr val="ffffff"/>
                </a:solidFill>
                <a:latin typeface="HY동녘B"/>
                <a:ea typeface="HY동녘B"/>
              </a:rPr>
              <a:t>(4) : </a:t>
            </a:r>
            <a:r>
              <a:rPr b="0" lang="zh-CN" sz="4000" spc="-1" strike="noStrike">
                <a:solidFill>
                  <a:srgbClr val="ffffff"/>
                </a:solidFill>
                <a:latin typeface="HY동녘B"/>
                <a:ea typeface="HY동녘B"/>
              </a:rPr>
              <a:t>부관</a:t>
            </a:r>
            <a:r>
              <a:rPr b="0" lang="en-US" sz="4000" spc="-1" strike="noStrike">
                <a:solidFill>
                  <a:srgbClr val="ffffff"/>
                </a:solidFill>
                <a:latin typeface="HY동녘B"/>
                <a:ea typeface="HY동녘B"/>
              </a:rPr>
              <a:t>, </a:t>
            </a:r>
            <a:r>
              <a:rPr b="0" lang="zh-CN" sz="4000" spc="-1" strike="noStrike">
                <a:solidFill>
                  <a:srgbClr val="ffffff"/>
                </a:solidFill>
                <a:latin typeface="HY동녘B"/>
                <a:ea typeface="HY동녘B"/>
              </a:rPr>
              <a:t>경리</a:t>
            </a:r>
            <a:r>
              <a:rPr b="0" lang="en-US" sz="4000" spc="-1" strike="noStrike">
                <a:solidFill>
                  <a:srgbClr val="ffffff"/>
                </a:solidFill>
                <a:latin typeface="HY동녘B"/>
                <a:ea typeface="HY동녘B"/>
              </a:rPr>
              <a:t>, </a:t>
            </a:r>
            <a:r>
              <a:rPr b="0" lang="zh-CN" sz="4000" spc="-1" strike="noStrike">
                <a:solidFill>
                  <a:srgbClr val="ffffff"/>
                </a:solidFill>
                <a:latin typeface="HY동녘B"/>
                <a:ea typeface="HY동녘B"/>
              </a:rPr>
              <a:t>헌병</a:t>
            </a:r>
            <a:r>
              <a:rPr b="0" lang="en-US" sz="4000" spc="-1" strike="noStrike">
                <a:solidFill>
                  <a:srgbClr val="ffffff"/>
                </a:solidFill>
                <a:latin typeface="HY동녘B"/>
                <a:ea typeface="HY동녘B"/>
              </a:rPr>
              <a:t>, </a:t>
            </a:r>
            <a:r>
              <a:rPr b="0" lang="zh-CN" sz="4000" spc="-1" strike="noStrike">
                <a:solidFill>
                  <a:srgbClr val="ffffff"/>
                </a:solidFill>
                <a:latin typeface="HY동녘B"/>
                <a:ea typeface="HY동녘B"/>
              </a:rPr>
              <a:t>정훈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90680" y="6861240"/>
            <a:ext cx="14617440" cy="16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500" spc="-1" strike="noStrike">
                <a:solidFill>
                  <a:srgbClr val="ffffff"/>
                </a:solidFill>
                <a:latin typeface="HY동녘B"/>
                <a:ea typeface="HY동녘B"/>
              </a:rPr>
              <a:t>□ </a:t>
            </a:r>
            <a:r>
              <a:rPr b="0" lang="ko-KR" sz="4000" spc="-1" strike="noStrike">
                <a:solidFill>
                  <a:srgbClr val="ffffff"/>
                </a:solidFill>
                <a:latin typeface="HY동녘B"/>
                <a:ea typeface="HY동녘B"/>
              </a:rPr>
              <a:t>특수병과</a:t>
            </a:r>
            <a:r>
              <a:rPr b="0" lang="ko-KR" sz="4000" spc="-1" strike="noStrike">
                <a:solidFill>
                  <a:srgbClr val="ffffff"/>
                </a:solidFill>
                <a:latin typeface="HY동녘B"/>
                <a:ea typeface="HY동녘B"/>
              </a:rPr>
              <a:t>(3) :</a:t>
            </a:r>
            <a:r>
              <a:rPr b="0" lang="ko-KR" sz="4500" spc="-1" strike="noStrike">
                <a:solidFill>
                  <a:srgbClr val="ffffff"/>
                </a:solidFill>
                <a:latin typeface="HY동녘B"/>
                <a:ea typeface="HY동녘B"/>
              </a:rPr>
              <a:t> </a:t>
            </a:r>
            <a:r>
              <a:rPr b="0" lang="ko-KR" sz="3900" spc="-1" strike="noStrike">
                <a:solidFill>
                  <a:srgbClr val="ffffff"/>
                </a:solidFill>
                <a:latin typeface="HY동녘B"/>
                <a:ea typeface="HY동녘B"/>
              </a:rPr>
              <a:t>의무</a:t>
            </a:r>
            <a:r>
              <a:rPr b="0" lang="ko-KR" sz="3900" spc="-1" strike="noStrike">
                <a:solidFill>
                  <a:srgbClr val="ffffff"/>
                </a:solidFill>
                <a:latin typeface="HY동녘B"/>
                <a:ea typeface="HY동녘B"/>
              </a:rPr>
              <a:t>(</a:t>
            </a:r>
            <a:r>
              <a:rPr b="0" lang="ko-KR" sz="3900" spc="-1" strike="noStrike">
                <a:solidFill>
                  <a:srgbClr val="ffffff"/>
                </a:solidFill>
                <a:latin typeface="HY동녘B"/>
                <a:ea typeface="HY동녘B"/>
              </a:rPr>
              <a:t>군의</a:t>
            </a:r>
            <a:r>
              <a:rPr b="0" lang="ko-KR" sz="3900" spc="-1" strike="noStrike">
                <a:solidFill>
                  <a:srgbClr val="ffffff"/>
                </a:solidFill>
                <a:latin typeface="HY동녘B"/>
                <a:ea typeface="HY동녘B"/>
              </a:rPr>
              <a:t>, </a:t>
            </a:r>
            <a:r>
              <a:rPr b="0" lang="ko-KR" sz="3900" spc="-1" strike="noStrike">
                <a:solidFill>
                  <a:srgbClr val="ffffff"/>
                </a:solidFill>
                <a:latin typeface="HY동녘B"/>
                <a:ea typeface="HY동녘B"/>
              </a:rPr>
              <a:t>치의</a:t>
            </a:r>
            <a:r>
              <a:rPr b="0" lang="ko-KR" sz="3900" spc="-1" strike="noStrike">
                <a:solidFill>
                  <a:srgbClr val="ffffff"/>
                </a:solidFill>
                <a:latin typeface="HY동녘B"/>
                <a:ea typeface="HY동녘B"/>
              </a:rPr>
              <a:t>, </a:t>
            </a:r>
            <a:r>
              <a:rPr b="0" lang="ko-KR" sz="3900" spc="-1" strike="noStrike">
                <a:solidFill>
                  <a:srgbClr val="ffffff"/>
                </a:solidFill>
                <a:latin typeface="HY동녘B"/>
                <a:ea typeface="HY동녘B"/>
              </a:rPr>
              <a:t>수의</a:t>
            </a:r>
            <a:r>
              <a:rPr b="0" lang="ko-KR" sz="3900" spc="-1" strike="noStrike">
                <a:solidFill>
                  <a:srgbClr val="ffffff"/>
                </a:solidFill>
                <a:latin typeface="HY동녘B"/>
                <a:ea typeface="HY동녘B"/>
              </a:rPr>
              <a:t>, </a:t>
            </a:r>
            <a:r>
              <a:rPr b="0" lang="ko-KR" sz="3900" spc="-1" strike="noStrike">
                <a:solidFill>
                  <a:srgbClr val="ffffff"/>
                </a:solidFill>
                <a:latin typeface="HY동녘B"/>
                <a:ea typeface="HY동녘B"/>
              </a:rPr>
              <a:t>간호</a:t>
            </a:r>
            <a:r>
              <a:rPr b="0" lang="ko-KR" sz="3900" spc="-1" strike="noStrike">
                <a:solidFill>
                  <a:srgbClr val="ffffff"/>
                </a:solidFill>
                <a:latin typeface="HY동녘B"/>
                <a:ea typeface="HY동녘B"/>
              </a:rPr>
              <a:t>, </a:t>
            </a:r>
            <a:r>
              <a:rPr b="0" lang="ko-KR" sz="3900" spc="-1" strike="noStrike">
                <a:solidFill>
                  <a:srgbClr val="ffffff"/>
                </a:solidFill>
                <a:latin typeface="HY동녘B"/>
                <a:ea typeface="HY동녘B"/>
              </a:rPr>
              <a:t>의정</a:t>
            </a:r>
            <a:r>
              <a:rPr b="0" lang="ko-KR" sz="3900" spc="-1" strike="noStrike">
                <a:solidFill>
                  <a:srgbClr val="ffffff"/>
                </a:solidFill>
                <a:latin typeface="HY동녘B"/>
                <a:ea typeface="HY동녘B"/>
              </a:rPr>
              <a:t>),</a:t>
            </a:r>
            <a:r>
              <a:rPr b="0" lang="ko-KR" sz="3900" spc="-1" strike="noStrike">
                <a:solidFill>
                  <a:srgbClr val="ffffff"/>
                </a:solidFill>
                <a:latin typeface="HY동녘B"/>
                <a:ea typeface="HY동녘B"/>
              </a:rPr>
              <a:t>법무</a:t>
            </a:r>
            <a:r>
              <a:rPr b="0" lang="ko-KR" sz="3900" spc="-1" strike="noStrike">
                <a:solidFill>
                  <a:srgbClr val="ffffff"/>
                </a:solidFill>
                <a:latin typeface="HY동녘B"/>
                <a:ea typeface="HY동녘B"/>
              </a:rPr>
              <a:t>, </a:t>
            </a:r>
            <a:r>
              <a:rPr b="0" lang="ko-KR" sz="3900" spc="-1" strike="noStrike">
                <a:solidFill>
                  <a:srgbClr val="ffffff"/>
                </a:solidFill>
                <a:latin typeface="HY동녘B"/>
                <a:ea typeface="HY동녘B"/>
              </a:rPr>
              <a:t>군종</a:t>
            </a:r>
            <a:r>
              <a:rPr b="0" lang="ko-KR" sz="4000" spc="-1" strike="noStrike">
                <a:solidFill>
                  <a:srgbClr val="ffff00"/>
                </a:solidFill>
                <a:latin typeface="HY동녘B"/>
                <a:ea typeface="HY동녘B"/>
              </a:rPr>
              <a:t>      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ff00"/>
                </a:solidFill>
                <a:latin typeface="HY동녘B"/>
                <a:ea typeface="HY동녘B"/>
              </a:rPr>
              <a:t>                  ※ </a:t>
            </a:r>
            <a:r>
              <a:rPr b="0" lang="ko-KR" sz="4000" spc="-1" strike="noStrike">
                <a:solidFill>
                  <a:srgbClr val="ffff00"/>
                </a:solidFill>
                <a:latin typeface="HY동녘B"/>
                <a:ea typeface="HY동녘B"/>
              </a:rPr>
              <a:t>특수화특기</a:t>
            </a:r>
            <a:r>
              <a:rPr b="0" lang="ko-KR" sz="4000" spc="-1" strike="noStrike">
                <a:solidFill>
                  <a:srgbClr val="ffff00"/>
                </a:solidFill>
                <a:latin typeface="HY동녘B"/>
                <a:ea typeface="HY동녘B"/>
              </a:rPr>
              <a:t>(3) : </a:t>
            </a:r>
            <a:r>
              <a:rPr b="0" lang="ko-KR" sz="4000" spc="-1" strike="noStrike">
                <a:solidFill>
                  <a:srgbClr val="ffff00"/>
                </a:solidFill>
                <a:latin typeface="HY동녘B"/>
                <a:ea typeface="HY동녘B"/>
              </a:rPr>
              <a:t>교수</a:t>
            </a:r>
            <a:r>
              <a:rPr b="0" lang="ko-KR" sz="4000" spc="-1" strike="noStrike">
                <a:solidFill>
                  <a:srgbClr val="ffff00"/>
                </a:solidFill>
                <a:latin typeface="HY동녘B"/>
                <a:ea typeface="HY동녘B"/>
              </a:rPr>
              <a:t>, </a:t>
            </a:r>
            <a:r>
              <a:rPr b="0" lang="ko-KR" sz="4000" spc="-1" strike="noStrike">
                <a:solidFill>
                  <a:srgbClr val="ffff00"/>
                </a:solidFill>
                <a:latin typeface="HY동녘B"/>
                <a:ea typeface="HY동녘B"/>
              </a:rPr>
              <a:t>연구개발</a:t>
            </a:r>
            <a:r>
              <a:rPr b="0" lang="ko-KR" sz="4000" spc="-1" strike="noStrike">
                <a:solidFill>
                  <a:srgbClr val="ffff00"/>
                </a:solidFill>
                <a:latin typeface="HY동녘B"/>
                <a:ea typeface="HY동녘B"/>
              </a:rPr>
              <a:t>, </a:t>
            </a:r>
            <a:r>
              <a:rPr b="0" lang="ko-KR" sz="4000" spc="-1" strike="noStrike">
                <a:solidFill>
                  <a:srgbClr val="ffff00"/>
                </a:solidFill>
                <a:latin typeface="HY동녘B"/>
                <a:ea typeface="HY동녘B"/>
              </a:rPr>
              <a:t>전산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2290680" y="3654360"/>
            <a:ext cx="2521080" cy="28306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003399"/>
                </a:solidFill>
                <a:latin typeface="HY수평선B"/>
                <a:ea typeface="HY수평선B"/>
              </a:rPr>
              <a:t>기  독  교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430960" y="585720"/>
            <a:ext cx="4421160" cy="1089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100"/>
              </a:gs>
              <a:gs pos="50000">
                <a:srgbClr val="008000"/>
              </a:gs>
              <a:gs pos="100000">
                <a:srgbClr val="006100"/>
              </a:gs>
            </a:gsLst>
            <a:lin ang="5400000"/>
          </a:gradFill>
          <a:ln w="9360">
            <a:solidFill>
              <a:srgbClr val="003399"/>
            </a:solidFill>
            <a:miter/>
          </a:ln>
          <a:effectLst>
            <a:outerShdw dist="107932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ffff00"/>
                </a:solidFill>
                <a:latin typeface="HY견고딕"/>
                <a:ea typeface="HY견고딕"/>
              </a:rPr>
              <a:t>군     종</a:t>
            </a:r>
            <a:endParaRPr b="0" lang="en-US" sz="5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139760" y="2082960"/>
            <a:ext cx="12817440" cy="131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HY수평선B"/>
                <a:ea typeface="HY수평선B"/>
              </a:rPr>
              <a:t>□ </a:t>
            </a:r>
            <a:r>
              <a:rPr b="0" lang="zh-CN" sz="3800" spc="-1" strike="noStrike">
                <a:solidFill>
                  <a:srgbClr val="ffffff"/>
                </a:solidFill>
                <a:latin typeface="HY수평선B"/>
                <a:ea typeface="HY수평선B"/>
              </a:rPr>
              <a:t>임무</a:t>
            </a:r>
            <a:r>
              <a:rPr b="0" lang="en-US" sz="3800" spc="-1" strike="noStrike">
                <a:solidFill>
                  <a:srgbClr val="ffffff"/>
                </a:solidFill>
                <a:latin typeface="HY수평선B"/>
                <a:ea typeface="HY수평선B"/>
              </a:rPr>
              <a:t>/</a:t>
            </a:r>
            <a:r>
              <a:rPr b="0" lang="zh-CN" sz="3800" spc="-1" strike="noStrike">
                <a:solidFill>
                  <a:srgbClr val="ffffff"/>
                </a:solidFill>
                <a:latin typeface="HY수평선B"/>
                <a:ea typeface="HY수평선B"/>
              </a:rPr>
              <a:t>기능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    ○ </a:t>
            </a:r>
            <a:r>
              <a:rPr b="0" lang="zh-CN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군 장병의 종교의식 및 신앙</a:t>
            </a:r>
            <a:r>
              <a:rPr b="0" lang="en-US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/</a:t>
            </a:r>
            <a:r>
              <a:rPr b="0" lang="zh-CN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인격 지도로 군인정신 함양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139760" y="7348680"/>
            <a:ext cx="13465080" cy="11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HY수평선B"/>
                <a:ea typeface="HY수평선B"/>
              </a:rPr>
              <a:t>□ </a:t>
            </a:r>
            <a:r>
              <a:rPr b="0" lang="zh-CN" sz="3800" spc="-1" strike="noStrike">
                <a:solidFill>
                  <a:srgbClr val="ffffff"/>
                </a:solidFill>
                <a:latin typeface="HY수평선B"/>
                <a:ea typeface="HY수평선B"/>
              </a:rPr>
              <a:t>관련학과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    ○ </a:t>
            </a:r>
            <a:r>
              <a:rPr b="0" lang="zh-CN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신학과 졸업자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2363760" y="3922560"/>
            <a:ext cx="2413080" cy="208764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6396120" y="3610080"/>
            <a:ext cx="2520720" cy="29170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003399"/>
                </a:solidFill>
                <a:latin typeface="HY수평선B"/>
                <a:ea typeface="HY수평선B"/>
              </a:rPr>
              <a:t>천 주 교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6539040" y="3825720"/>
            <a:ext cx="2297160" cy="22561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10644120" y="3683160"/>
            <a:ext cx="2521080" cy="28594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003399"/>
                </a:solidFill>
                <a:latin typeface="HY수평선B"/>
                <a:ea typeface="HY수평선B"/>
              </a:rPr>
              <a:t>불    교</a:t>
            </a:r>
            <a:r>
              <a:rPr b="0" lang="en-US" sz="1900" spc="-1" strike="noStrike">
                <a:solidFill>
                  <a:srgbClr val="003399"/>
                </a:solidFill>
                <a:latin typeface="HY수평선B"/>
                <a:ea typeface="HY수평선B"/>
              </a:rPr>
              <a:t>`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3"/>
          <a:stretch/>
        </p:blipFill>
        <p:spPr>
          <a:xfrm>
            <a:off x="10715760" y="3754440"/>
            <a:ext cx="2376360" cy="225576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10644120" y="2630520"/>
            <a:ext cx="3992760" cy="36406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3399"/>
                </a:solidFill>
                <a:latin typeface="Times New Roman"/>
              </a:rPr>
              <a:t>고대무사의 방패와 검으로서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3399"/>
                </a:solidFill>
                <a:latin typeface="Times New Roman"/>
              </a:rPr>
              <a:t>기본 전투 병과를 표시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74680" y="2359080"/>
            <a:ext cx="10082160" cy="249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□ </a:t>
            </a:r>
            <a:r>
              <a:rPr b="0" lang="zh-CN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임무 </a:t>
            </a:r>
            <a:r>
              <a:rPr b="0" lang="en-US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/ </a:t>
            </a:r>
            <a:r>
              <a:rPr b="0" lang="zh-CN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기능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 </a:t>
            </a:r>
            <a:r>
              <a:rPr b="0" lang="zh-CN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도보로 전투하도록 훈련</a:t>
            </a:r>
            <a:r>
              <a:rPr b="0" lang="en-US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zh-CN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장비되고 소대장으로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 </a:t>
            </a:r>
            <a:r>
              <a:rPr b="0" lang="zh-CN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교육훈련</a:t>
            </a:r>
            <a:r>
              <a:rPr b="0" lang="en-US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zh-CN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부대관리</a:t>
            </a:r>
            <a:r>
              <a:rPr b="0" lang="en-US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 </a:t>
            </a:r>
            <a:r>
              <a:rPr b="0" lang="zh-CN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전투지휘임무수행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74680" y="5649840"/>
            <a:ext cx="11522160" cy="62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□ 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구비자질 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: 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도전성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강인한 체력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리더쉽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통찰력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11247480" y="2917800"/>
            <a:ext cx="2709720" cy="244944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274680" y="7232760"/>
            <a:ext cx="12169800" cy="62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□ 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관련학과 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: 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모든학과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`(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해전공계열 관련 자격증 소지자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)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430960" y="585720"/>
            <a:ext cx="4421160" cy="1089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100"/>
              </a:gs>
              <a:gs pos="50000">
                <a:srgbClr val="008000"/>
              </a:gs>
              <a:gs pos="100000">
                <a:srgbClr val="006100"/>
              </a:gs>
            </a:gsLst>
            <a:lin ang="5400000"/>
          </a:gradFill>
          <a:ln w="9360">
            <a:solidFill>
              <a:srgbClr val="003399"/>
            </a:solidFill>
            <a:miter/>
          </a:ln>
          <a:effectLst>
            <a:outerShdw dist="107932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ffff00"/>
                </a:solidFill>
                <a:latin typeface="HY견고딕"/>
                <a:ea typeface="HY견고딕"/>
              </a:rPr>
              <a:t>보      병</a:t>
            </a:r>
            <a:endParaRPr b="0" lang="en-US" sz="5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4952880" y="361800"/>
            <a:ext cx="4421160" cy="871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100"/>
              </a:gs>
              <a:gs pos="50000">
                <a:srgbClr val="008000"/>
              </a:gs>
              <a:gs pos="100000">
                <a:srgbClr val="006100"/>
              </a:gs>
            </a:gsLst>
            <a:lin ang="5400000"/>
          </a:gradFill>
          <a:ln w="9360">
            <a:solidFill>
              <a:srgbClr val="003399"/>
            </a:solidFill>
            <a:miter/>
          </a:ln>
          <a:effectLst>
            <a:outerShdw dist="107932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ffff00"/>
                </a:solidFill>
                <a:latin typeface="HY견고딕"/>
                <a:ea typeface="HY견고딕"/>
              </a:rPr>
              <a:t>포       병</a:t>
            </a:r>
            <a:endParaRPr b="0" lang="en-US" sz="5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1291760" y="2184480"/>
            <a:ext cx="3114720" cy="32907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3399"/>
                </a:solidFill>
                <a:latin typeface="Times New Roman"/>
              </a:rPr>
              <a:t>이조시대의 포와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3399"/>
                </a:solidFill>
                <a:latin typeface="Times New Roman"/>
              </a:rPr>
              <a:t>장군전</a:t>
            </a:r>
            <a:r>
              <a:rPr b="1" lang="en-US" sz="2200" spc="-1" strike="noStrike">
                <a:solidFill>
                  <a:srgbClr val="003399"/>
                </a:solidFill>
                <a:latin typeface="Times New Roman"/>
              </a:rPr>
              <a:t>(</a:t>
            </a:r>
            <a:r>
              <a:rPr b="1" lang="zh-CN" sz="2200" spc="-1" strike="noStrike">
                <a:solidFill>
                  <a:srgbClr val="003399"/>
                </a:solidFill>
                <a:latin typeface="Times New Roman"/>
              </a:rPr>
              <a:t>將軍箭</a:t>
            </a:r>
            <a:r>
              <a:rPr b="1" lang="en-US" sz="2200" spc="-1" strike="noStrike">
                <a:solidFill>
                  <a:srgbClr val="003399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11868120" y="2479680"/>
            <a:ext cx="2055960" cy="199548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19040" y="1906560"/>
            <a:ext cx="1008216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ffff"/>
                </a:solidFill>
                <a:latin typeface="HY수평선B"/>
                <a:ea typeface="HY수평선B"/>
              </a:rPr>
              <a:t>□ </a:t>
            </a:r>
            <a:r>
              <a:rPr b="0" lang="ko-KR" sz="4000" spc="-1" strike="noStrike">
                <a:solidFill>
                  <a:srgbClr val="ffffff"/>
                </a:solidFill>
                <a:latin typeface="HY수평선B"/>
                <a:ea typeface="HY수평선B"/>
              </a:rPr>
              <a:t>임무</a:t>
            </a:r>
            <a:r>
              <a:rPr b="0" lang="ko-KR" sz="4000" spc="-1" strike="noStrike">
                <a:solidFill>
                  <a:srgbClr val="ffffff"/>
                </a:solidFill>
                <a:latin typeface="HY수평선B"/>
                <a:ea typeface="HY수평선B"/>
              </a:rPr>
              <a:t>/</a:t>
            </a:r>
            <a:r>
              <a:rPr b="0" lang="ko-KR" sz="4000" spc="-1" strike="noStrike">
                <a:solidFill>
                  <a:srgbClr val="ffffff"/>
                </a:solidFill>
                <a:latin typeface="HY수평선B"/>
                <a:ea typeface="HY수평선B"/>
              </a:rPr>
              <a:t>기능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    ○ 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대포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로켓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유도탄 등으로 적의 전투력을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        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파괴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제압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무력화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    ○ 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아군의 기동을 지원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적의 기동 방행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화력의 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        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핵심 기능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    ○ 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모든 화력을 연합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/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제병 협동 작전에 통합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        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하고   화력 전투를 수행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19040" y="6970680"/>
            <a:ext cx="11809440" cy="14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ffff"/>
                </a:solidFill>
                <a:latin typeface="HY수평선B"/>
                <a:ea typeface="HY수평선B"/>
              </a:rPr>
              <a:t>□ </a:t>
            </a:r>
            <a:r>
              <a:rPr b="0" lang="ko-KR" sz="4000" spc="-1" strike="noStrike">
                <a:solidFill>
                  <a:srgbClr val="ffffff"/>
                </a:solidFill>
                <a:latin typeface="HY수평선B"/>
                <a:ea typeface="HY수평선B"/>
              </a:rPr>
              <a:t>관련학과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    ○ 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이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·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공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·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인문사회계열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(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해전공계열 관련 자격증 소지자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)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10972800" y="2530440"/>
            <a:ext cx="3513240" cy="32209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3399"/>
                </a:solidFill>
                <a:latin typeface="Times New Roman"/>
              </a:rPr>
              <a:t>보병 휘장에 말발굽을 첨가</a:t>
            </a:r>
            <a:r>
              <a:rPr b="1" lang="en-US" sz="2200" spc="-1" strike="noStrike">
                <a:solidFill>
                  <a:srgbClr val="003399"/>
                </a:solidFill>
                <a:latin typeface="Times New Roman"/>
              </a:rPr>
              <a:t>, </a:t>
            </a:r>
            <a:r>
              <a:rPr b="1" lang="zh-CN" sz="2200" spc="-1" strike="noStrike">
                <a:solidFill>
                  <a:srgbClr val="003399"/>
                </a:solidFill>
                <a:latin typeface="Times New Roman"/>
              </a:rPr>
              <a:t>기갑의 시초인 기병을 표시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1509200" y="2773440"/>
            <a:ext cx="2448000" cy="206064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5286240" y="577800"/>
            <a:ext cx="4421160" cy="871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100"/>
              </a:gs>
              <a:gs pos="50000">
                <a:srgbClr val="008000"/>
              </a:gs>
              <a:gs pos="100000">
                <a:srgbClr val="006100"/>
              </a:gs>
            </a:gsLst>
            <a:lin ang="5400000"/>
          </a:gradFill>
          <a:ln w="9360">
            <a:solidFill>
              <a:srgbClr val="003399"/>
            </a:solidFill>
            <a:miter/>
          </a:ln>
          <a:effectLst>
            <a:outerShdw dist="107932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ffff00"/>
                </a:solidFill>
                <a:latin typeface="HY견고딕"/>
                <a:ea typeface="HY견고딕"/>
              </a:rPr>
              <a:t>기        갑</a:t>
            </a:r>
            <a:endParaRPr b="0" lang="en-US" sz="5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995400" y="1906560"/>
            <a:ext cx="10082160" cy="402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ffff"/>
                </a:solidFill>
                <a:latin typeface="HY수평선B"/>
                <a:ea typeface="HY수평선B"/>
              </a:rPr>
              <a:t>□ </a:t>
            </a:r>
            <a:r>
              <a:rPr b="0" lang="ko-KR" sz="4000" spc="-1" strike="noStrike">
                <a:solidFill>
                  <a:srgbClr val="ffffff"/>
                </a:solidFill>
                <a:latin typeface="HY수평선B"/>
                <a:ea typeface="HY수평선B"/>
              </a:rPr>
              <a:t>임무</a:t>
            </a:r>
            <a:r>
              <a:rPr b="0" lang="ko-KR" sz="4000" spc="-1" strike="noStrike">
                <a:solidFill>
                  <a:srgbClr val="ffffff"/>
                </a:solidFill>
                <a:latin typeface="HY수평선B"/>
                <a:ea typeface="HY수평선B"/>
              </a:rPr>
              <a:t>/</a:t>
            </a:r>
            <a:r>
              <a:rPr b="0" lang="ko-KR" sz="4000" spc="-1" strike="noStrike">
                <a:solidFill>
                  <a:srgbClr val="ffffff"/>
                </a:solidFill>
                <a:latin typeface="HY수평선B"/>
                <a:ea typeface="HY수평선B"/>
              </a:rPr>
              <a:t>기능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    ○ 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전차와 장갑차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포를 이용한 화력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/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기동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/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        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충격 행동으로 적 격멸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    ○ 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화력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기동성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장갑의 보호하에 싸우는 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        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기동부대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95400" y="6418440"/>
            <a:ext cx="11161800" cy="210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ffff"/>
                </a:solidFill>
                <a:latin typeface="HY수평선B"/>
                <a:ea typeface="HY수평선B"/>
              </a:rPr>
              <a:t>□ </a:t>
            </a:r>
            <a:r>
              <a:rPr b="0" lang="ko-KR" sz="4000" spc="-1" strike="noStrike">
                <a:solidFill>
                  <a:srgbClr val="ffffff"/>
                </a:solidFill>
                <a:latin typeface="HY수평선B"/>
                <a:ea typeface="HY수평선B"/>
              </a:rPr>
              <a:t>관련학과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    ○ 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이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·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공학계열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(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해전공계열 관련 자격증 소지자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)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         ※ 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안경 미착용자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11115720" y="2241720"/>
            <a:ext cx="3776760" cy="36406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3399"/>
                </a:solidFill>
                <a:latin typeface="Times New Roman"/>
              </a:rPr>
              <a:t>한국의 전형적인 고대성곽과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3399"/>
                </a:solidFill>
                <a:latin typeface="Times New Roman"/>
              </a:rPr>
              <a:t>검으로써 전투공병을 상징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1507760" y="2386080"/>
            <a:ext cx="2952720" cy="245880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5286240" y="577800"/>
            <a:ext cx="4421160" cy="871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100"/>
              </a:gs>
              <a:gs pos="50000">
                <a:srgbClr val="008000"/>
              </a:gs>
              <a:gs pos="100000">
                <a:srgbClr val="006100"/>
              </a:gs>
            </a:gsLst>
            <a:lin ang="5400000"/>
          </a:gradFill>
          <a:ln w="9360">
            <a:solidFill>
              <a:srgbClr val="003399"/>
            </a:solidFill>
            <a:miter/>
          </a:ln>
          <a:effectLst>
            <a:outerShdw dist="107932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ffff00"/>
                </a:solidFill>
                <a:latin typeface="HY견고딕"/>
                <a:ea typeface="HY견고딕"/>
              </a:rPr>
              <a:t>공      병</a:t>
            </a:r>
            <a:endParaRPr b="0" lang="en-US" sz="5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19040" y="1906560"/>
            <a:ext cx="10553760" cy="42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□ </a:t>
            </a:r>
            <a:r>
              <a:rPr b="0" lang="zh-CN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임무</a:t>
            </a:r>
            <a:r>
              <a:rPr b="0" lang="en-US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/</a:t>
            </a:r>
            <a:r>
              <a:rPr b="0" lang="zh-CN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기능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  </a:t>
            </a:r>
            <a:r>
              <a:rPr b="0" lang="en-US" sz="3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○ </a:t>
            </a:r>
            <a:r>
              <a:rPr b="0" lang="zh-CN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축성 </a:t>
            </a:r>
            <a:r>
              <a:rPr b="0" lang="en-US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/ </a:t>
            </a:r>
            <a:r>
              <a:rPr b="0" lang="zh-CN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건설로 기동 부대 근접 지원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○ </a:t>
            </a:r>
            <a:r>
              <a:rPr b="0" lang="zh-CN" sz="3300" spc="-1" strike="noStrike">
                <a:solidFill>
                  <a:srgbClr val="ffffff"/>
                </a:solidFill>
                <a:latin typeface="HY수평선B"/>
                <a:ea typeface="HY수평선B"/>
              </a:rPr>
              <a:t>기동 부대 기동성 보장을 위해 장애물 설치 </a:t>
            </a:r>
            <a:r>
              <a:rPr b="0" lang="en-US" sz="3300" spc="-1" strike="noStrike">
                <a:solidFill>
                  <a:srgbClr val="ffffff"/>
                </a:solidFill>
                <a:latin typeface="HY수평선B"/>
                <a:ea typeface="HY수평선B"/>
              </a:rPr>
              <a:t>/ </a:t>
            </a:r>
            <a:r>
              <a:rPr b="0" lang="zh-CN" sz="3300" spc="-1" strike="noStrike">
                <a:solidFill>
                  <a:srgbClr val="ffffff"/>
                </a:solidFill>
                <a:latin typeface="HY수평선B"/>
                <a:ea typeface="HY수평선B"/>
              </a:rPr>
              <a:t>제거</a:t>
            </a:r>
            <a:r>
              <a:rPr b="0" lang="en-US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 ○ 진지 구축</a:t>
            </a:r>
            <a:r>
              <a:rPr b="0" lang="en-US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zh-CN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급수 지원 등 전투와 관련된 축성 </a:t>
            </a:r>
            <a:r>
              <a:rPr b="0" lang="en-US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/ 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    </a:t>
            </a:r>
            <a:r>
              <a:rPr b="0" lang="zh-CN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건설 업무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○ </a:t>
            </a:r>
            <a:r>
              <a:rPr b="0" lang="zh-CN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건설지원 및 지뢰지대 설치</a:t>
            </a:r>
            <a:r>
              <a:rPr b="0" lang="en-US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/</a:t>
            </a:r>
            <a:r>
              <a:rPr b="0" lang="zh-CN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매설</a:t>
            </a:r>
            <a:r>
              <a:rPr b="0" lang="en-US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zh-CN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폭파 등의 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    </a:t>
            </a:r>
            <a:r>
              <a:rPr b="0" lang="zh-CN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임무수행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19040" y="6391440"/>
            <a:ext cx="14328720" cy="24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□ 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관련학과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   ○ </a:t>
            </a:r>
            <a:r>
              <a:rPr b="0" lang="ko-KR" sz="3400" spc="-1" strike="noStrike">
                <a:solidFill>
                  <a:srgbClr val="ffffff"/>
                </a:solidFill>
                <a:latin typeface="HY수평선B"/>
                <a:ea typeface="HY수평선B"/>
              </a:rPr>
              <a:t>건설공학</a:t>
            </a:r>
            <a:r>
              <a:rPr b="0" lang="ko-KR" sz="34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400" spc="-1" strike="noStrike">
                <a:solidFill>
                  <a:srgbClr val="ffffff"/>
                </a:solidFill>
                <a:latin typeface="HY수평선B"/>
                <a:ea typeface="HY수평선B"/>
              </a:rPr>
              <a:t>건축공학</a:t>
            </a:r>
            <a:r>
              <a:rPr b="0" lang="ko-KR" sz="3400" spc="-1" strike="noStrike">
                <a:solidFill>
                  <a:srgbClr val="ffffff"/>
                </a:solidFill>
                <a:latin typeface="HY수평선B"/>
                <a:ea typeface="HY수평선B"/>
              </a:rPr>
              <a:t>/</a:t>
            </a:r>
            <a:r>
              <a:rPr b="0" lang="ko-KR" sz="3400" spc="-1" strike="noStrike">
                <a:solidFill>
                  <a:srgbClr val="ffffff"/>
                </a:solidFill>
                <a:latin typeface="HY수평선B"/>
                <a:ea typeface="HY수평선B"/>
              </a:rPr>
              <a:t>설비</a:t>
            </a:r>
            <a:r>
              <a:rPr b="0" lang="ko-KR" sz="3400" spc="-1" strike="noStrike">
                <a:solidFill>
                  <a:srgbClr val="ffffff"/>
                </a:solidFill>
                <a:latin typeface="HY수평선B"/>
                <a:ea typeface="HY수평선B"/>
              </a:rPr>
              <a:t>/</a:t>
            </a:r>
            <a:r>
              <a:rPr b="0" lang="ko-KR" sz="3400" spc="-1" strike="noStrike">
                <a:solidFill>
                  <a:srgbClr val="ffffff"/>
                </a:solidFill>
                <a:latin typeface="HY수평선B"/>
                <a:ea typeface="HY수평선B"/>
              </a:rPr>
              <a:t>설계</a:t>
            </a:r>
            <a:r>
              <a:rPr b="0" lang="ko-KR" sz="3400" spc="-1" strike="noStrike">
                <a:solidFill>
                  <a:srgbClr val="ffffff"/>
                </a:solidFill>
                <a:latin typeface="HY수평선B"/>
                <a:ea typeface="HY수평선B"/>
              </a:rPr>
              <a:t>/</a:t>
            </a:r>
            <a:r>
              <a:rPr b="0" lang="ko-KR" sz="3400" spc="-1" strike="noStrike">
                <a:solidFill>
                  <a:srgbClr val="ffffff"/>
                </a:solidFill>
                <a:latin typeface="HY수평선B"/>
                <a:ea typeface="HY수평선B"/>
              </a:rPr>
              <a:t>토목</a:t>
            </a:r>
            <a:r>
              <a:rPr b="0" lang="ko-KR" sz="34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400" spc="-1" strike="noStrike">
                <a:solidFill>
                  <a:srgbClr val="ffffff"/>
                </a:solidFill>
                <a:latin typeface="HY수평선B"/>
                <a:ea typeface="HY수평선B"/>
              </a:rPr>
              <a:t>기계공학</a:t>
            </a:r>
            <a:r>
              <a:rPr b="0" lang="ko-KR" sz="34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400" spc="-1" strike="noStrike">
                <a:solidFill>
                  <a:srgbClr val="ffffff"/>
                </a:solidFill>
                <a:latin typeface="HY수평선B"/>
                <a:ea typeface="HY수평선B"/>
              </a:rPr>
              <a:t>지리</a:t>
            </a:r>
            <a:r>
              <a:rPr b="0" lang="ko-KR" sz="34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400" spc="-1" strike="noStrike">
                <a:solidFill>
                  <a:srgbClr val="ffffff"/>
                </a:solidFill>
                <a:latin typeface="HY수평선B"/>
                <a:ea typeface="HY수평선B"/>
              </a:rPr>
              <a:t>지질학</a:t>
            </a:r>
            <a:r>
              <a:rPr b="0" lang="ko-KR" sz="34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400" spc="-1" strike="noStrike">
                <a:solidFill>
                  <a:srgbClr val="ffffff"/>
                </a:solidFill>
                <a:latin typeface="HY수평선B"/>
                <a:ea typeface="HY수평선B"/>
              </a:rPr>
              <a:t>측지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○ 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토목공학 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/ 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설계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환경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해양토목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전기공학 등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    ※ 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공통 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: 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이ㆍ공학계열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(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해전공계열 관련 자격증 소지자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)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10972800" y="1982880"/>
            <a:ext cx="3848040" cy="35305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003399"/>
                </a:solidFill>
                <a:latin typeface="굴림"/>
              </a:rPr>
              <a:t>고대 통신수단인 봉화와 비둘기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003399"/>
                </a:solidFill>
                <a:latin typeface="굴림"/>
              </a:rPr>
              <a:t>날개 및 현대통신의 상징인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003399"/>
                </a:solidFill>
                <a:latin typeface="굴림"/>
              </a:rPr>
              <a:t>마이크로웨이브와 전파 표시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11734920" y="2209680"/>
            <a:ext cx="2131920" cy="211464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5286240" y="577800"/>
            <a:ext cx="4421160" cy="1089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100"/>
              </a:gs>
              <a:gs pos="50000">
                <a:srgbClr val="008000"/>
              </a:gs>
              <a:gs pos="100000">
                <a:srgbClr val="006100"/>
              </a:gs>
            </a:gsLst>
            <a:lin ang="5400000"/>
          </a:gradFill>
          <a:ln w="9360">
            <a:solidFill>
              <a:srgbClr val="003399"/>
            </a:solidFill>
            <a:miter/>
          </a:ln>
          <a:effectLst>
            <a:outerShdw dist="107932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ffff00"/>
                </a:solidFill>
                <a:latin typeface="HY견고딕"/>
                <a:ea typeface="HY견고딕"/>
              </a:rPr>
              <a:t>정 보 통 신</a:t>
            </a:r>
            <a:endParaRPr b="0" lang="en-US" sz="5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90680" y="1378080"/>
            <a:ext cx="12098160" cy="50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□ 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임무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/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기능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 ○ 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부대와 부대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개인과 개인간 각종 첩보 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/ 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지시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     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사항을  유ㆍ무선 통신장비를 활용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전달 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 ○ 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통신선로 가설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지역 통신 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/ 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중계소 운용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통신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     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보안자재 지원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 ○ 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통신 보급 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/ 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근무 지원 제공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 ○ 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전산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사진반 운용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통신선로 정비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전자 장비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     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관리 운용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 ○ </a:t>
            </a:r>
            <a:r>
              <a:rPr b="0" lang="ko-KR" sz="3400" spc="-1" strike="noStrike">
                <a:solidFill>
                  <a:srgbClr val="ffffff"/>
                </a:solidFill>
                <a:latin typeface="HY수평선B"/>
                <a:ea typeface="HY수평선B"/>
              </a:rPr>
              <a:t>인트라넷</a:t>
            </a:r>
            <a:r>
              <a:rPr b="0" lang="ko-KR" sz="34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400" spc="-1" strike="noStrike">
                <a:solidFill>
                  <a:srgbClr val="ffffff"/>
                </a:solidFill>
                <a:latin typeface="HY수평선B"/>
                <a:ea typeface="HY수평선B"/>
              </a:rPr>
              <a:t>인터넷</a:t>
            </a:r>
            <a:r>
              <a:rPr b="0" lang="ko-KR" sz="34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400" spc="-1" strike="noStrike">
                <a:solidFill>
                  <a:srgbClr val="ffffff"/>
                </a:solidFill>
                <a:latin typeface="HY수평선B"/>
                <a:ea typeface="HY수평선B"/>
              </a:rPr>
              <a:t>전산망 운영관리</a:t>
            </a:r>
            <a:r>
              <a:rPr b="0" lang="ko-KR" sz="34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S/W</a:t>
            </a:r>
            <a:r>
              <a:rPr b="0" lang="ko-KR" sz="3400" spc="-1" strike="noStrike">
                <a:solidFill>
                  <a:srgbClr val="ffffff"/>
                </a:solidFill>
                <a:latin typeface="HY수평선B"/>
                <a:ea typeface="HY수평선B"/>
              </a:rPr>
              <a:t>개발</a:t>
            </a:r>
            <a:r>
              <a:rPr b="0" lang="ko-KR" sz="34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400" spc="-1" strike="noStrike">
                <a:solidFill>
                  <a:srgbClr val="ffffff"/>
                </a:solidFill>
                <a:latin typeface="HY수평선B"/>
                <a:ea typeface="HY수평선B"/>
              </a:rPr>
              <a:t>운영 등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92120" y="6562800"/>
            <a:ext cx="14328720" cy="281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□ 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관련학과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   ○ 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멀티미디어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무선통신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소프트웨어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전기전자정보통신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전산정보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,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       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전자계산기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○ 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컴퓨터공학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과학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교육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통신공학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항공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전자정보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나노정보공학</a:t>
            </a: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,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    </a:t>
            </a:r>
            <a:r>
              <a:rPr b="0" lang="ko-KR" sz="3400" spc="-1" strike="noStrike">
                <a:solidFill>
                  <a:srgbClr val="ffffff"/>
                </a:solidFill>
                <a:latin typeface="HY수평선B"/>
                <a:ea typeface="HY수평선B"/>
              </a:rPr>
              <a:t>전산응용 등</a:t>
            </a:r>
            <a:r>
              <a:rPr b="0" lang="ko-KR" sz="3400" spc="-1" strike="noStrike">
                <a:solidFill>
                  <a:srgbClr val="ffffff"/>
                </a:solidFill>
                <a:latin typeface="HY수평선B"/>
                <a:ea typeface="HY수평선B"/>
              </a:rPr>
              <a:t>(</a:t>
            </a:r>
            <a:r>
              <a:rPr b="0" lang="ko-KR" sz="3400" spc="-1" strike="noStrike">
                <a:solidFill>
                  <a:srgbClr val="ffffff"/>
                </a:solidFill>
                <a:latin typeface="HY수평선B"/>
                <a:ea typeface="HY수평선B"/>
              </a:rPr>
              <a:t>공통 </a:t>
            </a:r>
            <a:r>
              <a:rPr b="0" lang="ko-KR" sz="3400" spc="-1" strike="noStrike">
                <a:solidFill>
                  <a:srgbClr val="ffffff"/>
                </a:solidFill>
                <a:latin typeface="HY수평선B"/>
                <a:ea typeface="HY수평선B"/>
              </a:rPr>
              <a:t>: </a:t>
            </a:r>
            <a:r>
              <a:rPr b="0" lang="ko-KR" sz="3400" spc="-1" strike="noStrike">
                <a:solidFill>
                  <a:srgbClr val="ffffff"/>
                </a:solidFill>
                <a:latin typeface="HY수평선B"/>
                <a:ea typeface="HY수평선B"/>
              </a:rPr>
              <a:t>이ㆍ공학계열과 해전공계열 관련 자격증 소지자</a:t>
            </a:r>
            <a:r>
              <a:rPr b="0" lang="ko-KR" sz="3400" spc="-1" strike="noStrike">
                <a:solidFill>
                  <a:srgbClr val="ffffff"/>
                </a:solidFill>
                <a:latin typeface="HY수평선B"/>
                <a:ea typeface="HY수평선B"/>
              </a:rPr>
              <a:t>)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0" y="1746360"/>
            <a:ext cx="15163920" cy="553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□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임무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/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기능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HY수평선B"/>
                <a:ea typeface="HY수평선B"/>
              </a:rPr>
              <a:t>○ </a:t>
            </a:r>
            <a:r>
              <a:rPr b="0" lang="ko-KR" sz="2800" spc="-1" strike="noStrike">
                <a:solidFill>
                  <a:srgbClr val="ffffff"/>
                </a:solidFill>
                <a:latin typeface="HY수평선B"/>
                <a:ea typeface="HY수평선B"/>
              </a:rPr>
              <a:t>작전 부대에 적에 관한 정보 및 첩보를 수집 </a:t>
            </a:r>
            <a:r>
              <a:rPr b="0" lang="ko-KR" sz="2800" spc="-1" strike="noStrike">
                <a:solidFill>
                  <a:srgbClr val="ffffff"/>
                </a:solidFill>
                <a:latin typeface="HY수평선B"/>
                <a:ea typeface="HY수평선B"/>
              </a:rPr>
              <a:t>/ </a:t>
            </a:r>
            <a:r>
              <a:rPr b="0" lang="ko-KR" sz="2800" spc="-1" strike="noStrike">
                <a:solidFill>
                  <a:srgbClr val="ffffff"/>
                </a:solidFill>
                <a:latin typeface="HY수평선B"/>
                <a:ea typeface="HY수평선B"/>
              </a:rPr>
              <a:t>제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5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HY수평선B"/>
                <a:ea typeface="HY수평선B"/>
              </a:rPr>
              <a:t>※ </a:t>
            </a:r>
            <a:r>
              <a:rPr b="0" lang="ko-KR" sz="2500" spc="-1" strike="noStrike">
                <a:solidFill>
                  <a:srgbClr val="ffffff"/>
                </a:solidFill>
                <a:latin typeface="HY수평선B"/>
                <a:ea typeface="HY수평선B"/>
              </a:rPr>
              <a:t>정보 획득 활동 </a:t>
            </a:r>
            <a:r>
              <a:rPr b="0" lang="ko-KR" sz="2500" spc="-1" strike="noStrike">
                <a:solidFill>
                  <a:srgbClr val="ffffff"/>
                </a:solidFill>
                <a:latin typeface="HY수평선B"/>
                <a:ea typeface="HY수평선B"/>
              </a:rPr>
              <a:t>: </a:t>
            </a:r>
            <a:r>
              <a:rPr b="0" lang="ko-KR" sz="2500" spc="-1" strike="noStrike">
                <a:solidFill>
                  <a:srgbClr val="ffffff"/>
                </a:solidFill>
                <a:latin typeface="HY수평선B"/>
                <a:ea typeface="HY수평선B"/>
              </a:rPr>
              <a:t>기상 </a:t>
            </a:r>
            <a:r>
              <a:rPr b="0" lang="ko-KR" sz="2500" spc="-1" strike="noStrike">
                <a:solidFill>
                  <a:srgbClr val="ffffff"/>
                </a:solidFill>
                <a:latin typeface="HY수평선B"/>
                <a:ea typeface="HY수평선B"/>
              </a:rPr>
              <a:t>/ </a:t>
            </a:r>
            <a:r>
              <a:rPr b="0" lang="ko-KR" sz="2500" spc="-1" strike="noStrike">
                <a:solidFill>
                  <a:srgbClr val="ffffff"/>
                </a:solidFill>
                <a:latin typeface="HY수평선B"/>
                <a:ea typeface="HY수평선B"/>
              </a:rPr>
              <a:t>작전지역 분석</a:t>
            </a:r>
            <a:r>
              <a:rPr b="0" lang="ko-KR" sz="25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2500" spc="-1" strike="noStrike">
                <a:solidFill>
                  <a:srgbClr val="ffffff"/>
                </a:solidFill>
                <a:latin typeface="HY수평선B"/>
                <a:ea typeface="HY수평선B"/>
              </a:rPr>
              <a:t>적 </a:t>
            </a:r>
            <a:r>
              <a:rPr b="0" lang="ko-KR" sz="2500" spc="-1" strike="noStrike">
                <a:solidFill>
                  <a:srgbClr val="ffffff"/>
                </a:solidFill>
                <a:latin typeface="HY수평선B"/>
                <a:ea typeface="HY수평선B"/>
              </a:rPr>
              <a:t>/ </a:t>
            </a:r>
            <a:r>
              <a:rPr b="0" lang="ko-KR" sz="2500" spc="-1" strike="noStrike">
                <a:solidFill>
                  <a:srgbClr val="ffffff"/>
                </a:solidFill>
                <a:latin typeface="HY수평선B"/>
                <a:ea typeface="HY수평선B"/>
              </a:rPr>
              <a:t>아군</a:t>
            </a:r>
            <a:r>
              <a:rPr b="0" lang="ko-KR" sz="25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2500" spc="-1" strike="noStrike">
                <a:solidFill>
                  <a:srgbClr val="ffffff"/>
                </a:solidFill>
                <a:latin typeface="HY수평선B"/>
                <a:ea typeface="HY수평선B"/>
              </a:rPr>
              <a:t>해외 정보 수집 등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5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HY수평선B"/>
                <a:ea typeface="HY수평선B"/>
              </a:rPr>
              <a:t>● </a:t>
            </a:r>
            <a:r>
              <a:rPr b="0" lang="ko-KR" sz="2500" spc="-1" strike="noStrike">
                <a:solidFill>
                  <a:srgbClr val="ffffff"/>
                </a:solidFill>
                <a:latin typeface="HY수평선B"/>
                <a:ea typeface="HY수평선B"/>
              </a:rPr>
              <a:t>획득된 정보 분석 후 전투 부대에 제공 </a:t>
            </a:r>
            <a:r>
              <a:rPr b="0" lang="ko-KR" sz="2500" spc="-1" strike="noStrike">
                <a:solidFill>
                  <a:srgbClr val="ffffff"/>
                </a:solidFill>
                <a:latin typeface="HY수평선B"/>
                <a:ea typeface="HY수평선B"/>
              </a:rPr>
              <a:t>/ </a:t>
            </a:r>
            <a:r>
              <a:rPr b="0" lang="ko-KR" sz="2500" spc="-1" strike="noStrike">
                <a:solidFill>
                  <a:srgbClr val="ffffff"/>
                </a:solidFill>
                <a:latin typeface="HY수평선B"/>
                <a:ea typeface="HY수평선B"/>
              </a:rPr>
              <a:t>지원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5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HY수평선B"/>
                <a:ea typeface="HY수평선B"/>
              </a:rPr>
              <a:t>● </a:t>
            </a:r>
            <a:r>
              <a:rPr b="0" lang="ko-KR" sz="2500" spc="-1" strike="noStrike">
                <a:solidFill>
                  <a:srgbClr val="ffffff"/>
                </a:solidFill>
                <a:latin typeface="HY수평선B"/>
                <a:ea typeface="HY수평선B"/>
              </a:rPr>
              <a:t>인간 정보</a:t>
            </a:r>
            <a:r>
              <a:rPr b="0" lang="ko-KR" sz="2500" spc="-1" strike="noStrike">
                <a:solidFill>
                  <a:srgbClr val="ffffff"/>
                </a:solidFill>
                <a:latin typeface="HY수평선B"/>
                <a:ea typeface="HY수평선B"/>
              </a:rPr>
              <a:t>(HUMINT) : </a:t>
            </a:r>
            <a:r>
              <a:rPr b="0" lang="ko-KR" sz="2500" spc="-1" strike="noStrike">
                <a:solidFill>
                  <a:srgbClr val="ffffff"/>
                </a:solidFill>
                <a:latin typeface="HY수평선B"/>
                <a:ea typeface="HY수평선B"/>
              </a:rPr>
              <a:t>인적 자원을 대상으로 수집된 정보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5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HY수평선B"/>
                <a:ea typeface="HY수평선B"/>
              </a:rPr>
              <a:t>● </a:t>
            </a:r>
            <a:r>
              <a:rPr b="0" lang="ko-KR" sz="2500" spc="-1" strike="noStrike">
                <a:solidFill>
                  <a:srgbClr val="ffffff"/>
                </a:solidFill>
                <a:latin typeface="HY수평선B"/>
                <a:ea typeface="HY수평선B"/>
              </a:rPr>
              <a:t>신호 정보</a:t>
            </a:r>
            <a:r>
              <a:rPr b="0" lang="ko-KR" sz="2500" spc="-1" strike="noStrike">
                <a:solidFill>
                  <a:srgbClr val="ffffff"/>
                </a:solidFill>
                <a:latin typeface="HY수평선B"/>
                <a:ea typeface="HY수평선B"/>
              </a:rPr>
              <a:t>(SIGINT) : </a:t>
            </a:r>
            <a:r>
              <a:rPr b="0" lang="ko-KR" sz="2500" spc="-1" strike="noStrike">
                <a:solidFill>
                  <a:srgbClr val="ffffff"/>
                </a:solidFill>
                <a:latin typeface="HY수평선B"/>
                <a:ea typeface="HY수평선B"/>
              </a:rPr>
              <a:t>통신 감청</a:t>
            </a:r>
            <a:r>
              <a:rPr b="0" lang="ko-KR" sz="25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2500" spc="-1" strike="noStrike">
                <a:solidFill>
                  <a:srgbClr val="ffffff"/>
                </a:solidFill>
                <a:latin typeface="HY수평선B"/>
                <a:ea typeface="HY수평선B"/>
              </a:rPr>
              <a:t>전자파 수집ㆍ탐색ㆍ처리ㆍ분석한 정보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5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HY수평선B"/>
                <a:ea typeface="HY수평선B"/>
              </a:rPr>
              <a:t>● </a:t>
            </a:r>
            <a:r>
              <a:rPr b="0" lang="ko-KR" sz="2500" spc="-1" strike="noStrike">
                <a:solidFill>
                  <a:srgbClr val="ffffff"/>
                </a:solidFill>
                <a:latin typeface="HY수평선B"/>
                <a:ea typeface="HY수평선B"/>
              </a:rPr>
              <a:t>영상 정보</a:t>
            </a:r>
            <a:r>
              <a:rPr b="0" lang="ko-KR" sz="2500" spc="-1" strike="noStrike">
                <a:solidFill>
                  <a:srgbClr val="ffffff"/>
                </a:solidFill>
                <a:latin typeface="HY수평선B"/>
                <a:ea typeface="HY수평선B"/>
              </a:rPr>
              <a:t>(IMINT) : </a:t>
            </a:r>
            <a:r>
              <a:rPr b="0" lang="ko-KR" sz="2500" spc="-1" strike="noStrike">
                <a:solidFill>
                  <a:srgbClr val="ffffff"/>
                </a:solidFill>
                <a:latin typeface="HY수평선B"/>
                <a:ea typeface="HY수평선B"/>
              </a:rPr>
              <a:t>레이더 합성 사진</a:t>
            </a:r>
            <a:r>
              <a:rPr b="0" lang="ko-KR" sz="25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2500" spc="-1" strike="noStrike">
                <a:solidFill>
                  <a:srgbClr val="ffffff"/>
                </a:solidFill>
                <a:latin typeface="HY수평선B"/>
                <a:ea typeface="HY수평선B"/>
              </a:rPr>
              <a:t>항공 사진 등 영상 자료에 의해 획득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HY수평선B"/>
                <a:ea typeface="HY수평선B"/>
              </a:rPr>
              <a:t>○ </a:t>
            </a:r>
            <a:r>
              <a:rPr b="0" lang="ko-KR" sz="2800" spc="-1" strike="noStrike">
                <a:solidFill>
                  <a:srgbClr val="ffffff"/>
                </a:solidFill>
                <a:latin typeface="HY수평선B"/>
                <a:ea typeface="HY수평선B"/>
              </a:rPr>
              <a:t>심리적으로 적의 전투 의지를 약화시키는 임무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1291760" y="1746360"/>
            <a:ext cx="3797280" cy="36957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3399"/>
                </a:solidFill>
                <a:latin typeface="Times New Roman"/>
              </a:rPr>
              <a:t>박쥐는 영원불멸의 정보활동</a:t>
            </a:r>
            <a:r>
              <a:rPr b="1" lang="en-US" sz="2200" spc="-1" strike="noStrike">
                <a:solidFill>
                  <a:srgbClr val="003399"/>
                </a:solidFill>
                <a:latin typeface="Times New Roman"/>
              </a:rPr>
              <a:t>,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3399"/>
                </a:solidFill>
                <a:latin typeface="Times New Roman"/>
              </a:rPr>
              <a:t>횃불은 영원한 발전</a:t>
            </a:r>
            <a:r>
              <a:rPr b="1" lang="en-US" sz="2200" spc="-1" strike="noStrike">
                <a:solidFill>
                  <a:srgbClr val="003399"/>
                </a:solidFill>
                <a:latin typeface="Times New Roman"/>
              </a:rPr>
              <a:t>,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3399"/>
                </a:solidFill>
                <a:latin typeface="Times New Roman"/>
              </a:rPr>
              <a:t>펜촉은 지식탐구를 상징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11852280" y="1905120"/>
            <a:ext cx="2681280" cy="220968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0" y="7507440"/>
            <a:ext cx="15163920" cy="13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□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관련학과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4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HY수평선B"/>
                <a:ea typeface="HY수평선B"/>
              </a:rPr>
              <a:t>○ </a:t>
            </a:r>
            <a:r>
              <a:rPr b="0" lang="ko-KR" sz="2500" spc="-1" strike="noStrike">
                <a:solidFill>
                  <a:srgbClr val="ffffff"/>
                </a:solidFill>
                <a:latin typeface="HY수평선B"/>
                <a:ea typeface="HY수평선B"/>
              </a:rPr>
              <a:t>모든 학과</a:t>
            </a:r>
            <a:r>
              <a:rPr b="0" lang="ko-KR" sz="2500" spc="-1" strike="noStrike">
                <a:solidFill>
                  <a:srgbClr val="ffffff"/>
                </a:solidFill>
                <a:latin typeface="HY수평선B"/>
                <a:ea typeface="HY수평선B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HY수평선B"/>
                <a:ea typeface="HY수평선B"/>
              </a:rPr>
              <a:t>종교학</a:t>
            </a:r>
            <a:r>
              <a:rPr b="0" lang="ko-KR" sz="25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2500" spc="-1" strike="noStrike">
                <a:solidFill>
                  <a:srgbClr val="ffffff"/>
                </a:solidFill>
                <a:latin typeface="HY수평선B"/>
                <a:ea typeface="HY수평선B"/>
              </a:rPr>
              <a:t>음악</a:t>
            </a:r>
            <a:r>
              <a:rPr b="0" lang="ko-KR" sz="25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2500" spc="-1" strike="noStrike">
                <a:solidFill>
                  <a:srgbClr val="ffffff"/>
                </a:solidFill>
                <a:latin typeface="HY수평선B"/>
                <a:ea typeface="HY수평선B"/>
              </a:rPr>
              <a:t>미술</a:t>
            </a:r>
            <a:r>
              <a:rPr b="0" lang="ko-KR" sz="25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2500" spc="-1" strike="noStrike">
                <a:solidFill>
                  <a:srgbClr val="ffffff"/>
                </a:solidFill>
                <a:latin typeface="HY수평선B"/>
                <a:ea typeface="HY수평선B"/>
              </a:rPr>
              <a:t>의학</a:t>
            </a:r>
            <a:r>
              <a:rPr b="0" lang="ko-KR" sz="25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2500" spc="-1" strike="noStrike">
                <a:solidFill>
                  <a:srgbClr val="ffffff"/>
                </a:solidFill>
                <a:latin typeface="HY수평선B"/>
                <a:ea typeface="HY수평선B"/>
              </a:rPr>
              <a:t>가정</a:t>
            </a:r>
            <a:r>
              <a:rPr b="0" lang="ko-KR" sz="2500" spc="-1" strike="noStrike">
                <a:solidFill>
                  <a:srgbClr val="ffffff"/>
                </a:solidFill>
                <a:latin typeface="HY수평선B"/>
                <a:ea typeface="HY수평선B"/>
              </a:rPr>
              <a:t>/</a:t>
            </a:r>
            <a:r>
              <a:rPr b="0" lang="ko-KR" sz="2500" spc="-1" strike="noStrike">
                <a:solidFill>
                  <a:srgbClr val="ffffff"/>
                </a:solidFill>
                <a:latin typeface="HY수평선B"/>
                <a:ea typeface="HY수평선B"/>
              </a:rPr>
              <a:t>식품 등 특수학과 제외</a:t>
            </a:r>
            <a:r>
              <a:rPr b="0" lang="ko-KR" sz="2500" spc="-1" strike="noStrike">
                <a:solidFill>
                  <a:srgbClr val="ffffff"/>
                </a:solidFill>
                <a:latin typeface="HY수평선B"/>
                <a:ea typeface="HY수평선B"/>
              </a:rPr>
              <a:t>) : </a:t>
            </a:r>
            <a:r>
              <a:rPr b="0" lang="ko-KR" sz="2500" spc="-1" strike="noStrike">
                <a:solidFill>
                  <a:srgbClr val="ffffff"/>
                </a:solidFill>
                <a:latin typeface="HY수평선B"/>
                <a:ea typeface="HY수평선B"/>
              </a:rPr>
              <a:t>해전공계열 관련 자격증 소지자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286240" y="577800"/>
            <a:ext cx="4421160" cy="1089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100"/>
              </a:gs>
              <a:gs pos="50000">
                <a:srgbClr val="008000"/>
              </a:gs>
              <a:gs pos="100000">
                <a:srgbClr val="006100"/>
              </a:gs>
            </a:gsLst>
            <a:lin ang="5400000"/>
          </a:gradFill>
          <a:ln w="9360">
            <a:solidFill>
              <a:srgbClr val="003399"/>
            </a:solidFill>
            <a:miter/>
          </a:ln>
          <a:effectLst>
            <a:outerShdw dist="107932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ffff00"/>
                </a:solidFill>
                <a:latin typeface="HY견고딕"/>
                <a:ea typeface="HY견고딕"/>
              </a:rPr>
              <a:t>정     보</a:t>
            </a:r>
            <a:endParaRPr b="0" lang="en-US" sz="5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10972800" y="2654280"/>
            <a:ext cx="3735360" cy="347004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900" spc="-1" strike="noStrike">
                <a:solidFill>
                  <a:srgbClr val="003399"/>
                </a:solidFill>
                <a:latin typeface="Times New Roman"/>
              </a:rPr>
              <a:t>날개는 하늘은 나는 매</a:t>
            </a:r>
            <a:r>
              <a:rPr b="0" lang="ko-KR" sz="1900" spc="-1" strike="noStrike">
                <a:solidFill>
                  <a:srgbClr val="003399"/>
                </a:solidFill>
                <a:latin typeface="Times New Roman"/>
              </a:rPr>
              <a:t>, </a:t>
            </a:r>
            <a:r>
              <a:rPr b="0" lang="ko-KR" sz="1900" spc="-1" strike="noStrike">
                <a:solidFill>
                  <a:srgbClr val="003399"/>
                </a:solidFill>
                <a:latin typeface="Times New Roman"/>
              </a:rPr>
              <a:t>창공의 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900" spc="-1" strike="noStrike">
                <a:solidFill>
                  <a:srgbClr val="003399"/>
                </a:solidFill>
                <a:latin typeface="Times New Roman"/>
              </a:rPr>
              <a:t>기수 의미 방패칼은 전투병과와 협동작전을 수행하는 병과의미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86240" y="577800"/>
            <a:ext cx="4421160" cy="1089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100"/>
              </a:gs>
              <a:gs pos="50000">
                <a:srgbClr val="008000"/>
              </a:gs>
              <a:gs pos="100000">
                <a:srgbClr val="006100"/>
              </a:gs>
            </a:gsLst>
            <a:lin ang="5400000"/>
          </a:gradFill>
          <a:ln w="9360">
            <a:solidFill>
              <a:srgbClr val="003399"/>
            </a:solidFill>
            <a:miter/>
          </a:ln>
          <a:effectLst>
            <a:outerShdw dist="107932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ffff00"/>
                </a:solidFill>
                <a:latin typeface="HY견고딕"/>
                <a:ea typeface="HY견고딕"/>
              </a:rPr>
              <a:t>항      공</a:t>
            </a:r>
            <a:endParaRPr b="0" lang="en-US" sz="5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79400" y="2549520"/>
            <a:ext cx="9433080" cy="31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4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HY수평선B"/>
                <a:ea typeface="HY수평선B"/>
              </a:rPr>
              <a:t>□ </a:t>
            </a:r>
            <a:r>
              <a:rPr b="0" lang="zh-CN" sz="3700" spc="-1" strike="noStrike">
                <a:solidFill>
                  <a:srgbClr val="ffffff"/>
                </a:solidFill>
                <a:latin typeface="HY수평선B"/>
                <a:ea typeface="HY수평선B"/>
              </a:rPr>
              <a:t>임무 </a:t>
            </a:r>
            <a:r>
              <a:rPr b="0" lang="en-US" sz="3700" spc="-1" strike="noStrike">
                <a:solidFill>
                  <a:srgbClr val="ffffff"/>
                </a:solidFill>
                <a:latin typeface="HY수평선B"/>
                <a:ea typeface="HY수평선B"/>
              </a:rPr>
              <a:t>/ </a:t>
            </a:r>
            <a:r>
              <a:rPr b="0" lang="zh-CN" sz="3700" spc="-1" strike="noStrike">
                <a:solidFill>
                  <a:srgbClr val="ffffff"/>
                </a:solidFill>
                <a:latin typeface="HY수평선B"/>
                <a:ea typeface="HY수평선B"/>
              </a:rPr>
              <a:t>기능</a:t>
            </a: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HY수평선B"/>
                <a:ea typeface="HY수평선B"/>
              </a:rPr>
              <a:t> </a:t>
            </a:r>
            <a:r>
              <a:rPr b="0" lang="en-US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○ </a:t>
            </a:r>
            <a:r>
              <a:rPr b="0" lang="zh-CN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헬기를 이용 병력과 장비 수송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 ○ </a:t>
            </a:r>
            <a:r>
              <a:rPr b="0" lang="zh-CN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항공기기 및 부속품 검사</a:t>
            </a:r>
            <a:r>
              <a:rPr b="0" lang="en-US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zh-CN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교환 및 수리</a:t>
            </a:r>
            <a:r>
              <a:rPr b="0" lang="en-US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     </a:t>
            </a:r>
            <a:r>
              <a:rPr b="0" lang="zh-CN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관제업무 수행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79400" y="6058080"/>
            <a:ext cx="13928760" cy="29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700" spc="-1" strike="noStrike">
                <a:solidFill>
                  <a:srgbClr val="ffffff"/>
                </a:solidFill>
                <a:latin typeface="HY수평선B"/>
                <a:ea typeface="HY수평선B"/>
              </a:rPr>
              <a:t>□ </a:t>
            </a:r>
            <a:r>
              <a:rPr b="0" lang="ko-KR" sz="3700" spc="-1" strike="noStrike">
                <a:solidFill>
                  <a:srgbClr val="ffffff"/>
                </a:solidFill>
                <a:latin typeface="HY수평선B"/>
                <a:ea typeface="HY수평선B"/>
              </a:rPr>
              <a:t>관련학과</a:t>
            </a: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500" spc="-1" strike="noStrike">
                <a:solidFill>
                  <a:srgbClr val="ffffff"/>
                </a:solidFill>
                <a:latin typeface="HY수평선B"/>
                <a:ea typeface="HY수평선B"/>
              </a:rPr>
              <a:t>    </a:t>
            </a:r>
            <a:r>
              <a:rPr b="0" lang="ko-KR" sz="3000" spc="-1" strike="noStrike">
                <a:solidFill>
                  <a:srgbClr val="ffffff"/>
                </a:solidFill>
                <a:latin typeface="HY수평선B"/>
                <a:ea typeface="HY수평선B"/>
              </a:rPr>
              <a:t>○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항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•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자동차기계정비계열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컴퓨터자동화시스템계열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영어통역계열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       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정보통신설비계열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컴퓨터응용기계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금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•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금속계열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        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해전공계열 관련 자격증 소지자</a:t>
            </a:r>
            <a:r>
              <a:rPr b="0" lang="ko-KR" sz="3200" spc="-1" strike="noStrike">
                <a:solidFill>
                  <a:srgbClr val="ffffff"/>
                </a:solidFill>
                <a:latin typeface="HY수평선B"/>
                <a:ea typeface="HY수평선B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11363400" y="2757600"/>
            <a:ext cx="2881080" cy="229212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12T23:46:17Z</dcterms:created>
  <dc:creator>작전과</dc:creator>
  <dc:description/>
  <dc:language>en-US</dc:language>
  <cp:lastModifiedBy>Preferred Customer</cp:lastModifiedBy>
  <cp:lastPrinted>2001-11-19T16:14:58Z</cp:lastPrinted>
  <dcterms:modified xsi:type="dcterms:W3CDTF">2008-03-11T23:42:50Z</dcterms:modified>
  <cp:revision>2910</cp:revision>
  <dc:subject/>
  <dc:title>D – III 조치사항</dc:title>
</cp:coreProperties>
</file>