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5238413" cy="9525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874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460440" y="767880"/>
            <a:ext cx="591480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move the slide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0" y="9392760"/>
            <a:ext cx="295128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42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C1A-12D6-4F90-BE84-92DBBA88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DCA-969B-444B-86F5-0D4EA82C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EB-60CF-4257-BFEA-E3835D86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A11-C4A7-4E0C-8E53-945CE66A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9F9CE-C508-448B-B1A1-3B661C22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61AEA-3498-4B3B-8FCF-20A128DB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A0B8-2FF0-4B1E-8F2E-2E2815B2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0CC6-EE31-491B-927A-D9F3E0E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83B1-09C3-4980-AA8F-04B7FF56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CBE4D-9FFA-438D-8B21-336226A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74C2B-041D-4E94-B16F-72863AC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B29-FF84-4507-B11C-92F6F03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8F6EE-F14A-4504-98B0-490074E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92C4-CBC0-4228-87B8-687274D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3053-B778-4F4E-8669-1FB7CE0E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E50E3-8629-4560-ABE7-B5B082E6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6E06-4AEF-4EA2-818B-B9E8615C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2AF-6781-4048-A0F3-3F47096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CE8-9AF3-4852-BC25-83EE582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9D5-DEE1-4231-BC9E-330FD8F5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B86-7778-4458-A786-BDD9309B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0B3-5D49-41E7-B257-A80F48E1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F2-010D-40B2-8724-5F22606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C5B-1C9C-4CC9-BD84-516B48E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239520" cy="9524160"/>
            <a:chOff x="0" y="0"/>
            <a:chExt cx="15239520" cy="9524160"/>
          </a:xfrm>
        </p:grpSpPr>
        <p:sp>
          <p:nvSpPr>
            <p:cNvPr id="1" name=""/>
            <p:cNvSpPr/>
            <p:nvPr/>
          </p:nvSpPr>
          <p:spPr>
            <a:xfrm>
              <a:off x="0" y="6773040"/>
              <a:ext cx="15239520" cy="2751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5239520" cy="67730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414080" y="8697960"/>
            <a:ext cx="4825800" cy="84780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361360"/>
            <a:ext cx="13079880" cy="1189800"/>
            <a:chOff x="0" y="8361360"/>
            <a:chExt cx="13079880" cy="1189800"/>
          </a:xfrm>
        </p:grpSpPr>
        <p:sp>
          <p:nvSpPr>
            <p:cNvPr id="5" name=""/>
            <p:cNvSpPr/>
            <p:nvPr/>
          </p:nvSpPr>
          <p:spPr>
            <a:xfrm>
              <a:off x="3936960" y="8361360"/>
              <a:ext cx="8571600" cy="11811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577200" y="8361360"/>
              <a:ext cx="6502680" cy="1189800"/>
              <a:chOff x="6577200" y="8361360"/>
              <a:chExt cx="650268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10445040" y="8376840"/>
                <a:ext cx="2634840" cy="11743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82280" y="8361360"/>
                <a:ext cx="491760" cy="8704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5760" y="8583480"/>
                <a:ext cx="1000080" cy="5972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597600" y="8524080"/>
                <a:ext cx="410040" cy="162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77200" y="8508600"/>
                <a:ext cx="110880" cy="178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361360"/>
              <a:ext cx="10519200" cy="1179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14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 fontScale="97000"/>
          </a:bodyPr>
          <a:p>
            <a:pPr marL="514080" indent="-514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1" marL="1114920" indent="-42804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2" marL="171504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3" marL="2401920" indent="-34308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4" marL="308880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5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6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ED1D8A97-A16A-44AE-93F4-DECF498FACA3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1160" y="28440"/>
            <a:ext cx="15239520" cy="9524880"/>
            <a:chOff x="-11160" y="28440"/>
            <a:chExt cx="15239520" cy="9524880"/>
          </a:xfrm>
        </p:grpSpPr>
        <p:sp>
          <p:nvSpPr>
            <p:cNvPr id="62" name=""/>
            <p:cNvSpPr/>
            <p:nvPr/>
          </p:nvSpPr>
          <p:spPr>
            <a:xfrm>
              <a:off x="-11160" y="6801840"/>
              <a:ext cx="15239520" cy="2751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1160" y="28440"/>
              <a:ext cx="15239520" cy="67734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0402920" y="8707320"/>
            <a:ext cx="4825800" cy="846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240" y="8380440"/>
            <a:ext cx="13075200" cy="1182240"/>
            <a:chOff x="-3240" y="8380440"/>
            <a:chExt cx="13075200" cy="1182240"/>
          </a:xfrm>
        </p:grpSpPr>
        <p:sp>
          <p:nvSpPr>
            <p:cNvPr id="66" name=""/>
            <p:cNvSpPr/>
            <p:nvPr/>
          </p:nvSpPr>
          <p:spPr>
            <a:xfrm>
              <a:off x="3933720" y="8380440"/>
              <a:ext cx="8572320" cy="1182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574680" y="8380440"/>
              <a:ext cx="6497280" cy="1181880"/>
              <a:chOff x="6574680" y="8380440"/>
              <a:chExt cx="6497280" cy="1181880"/>
            </a:xfrm>
          </p:grpSpPr>
          <p:sp>
            <p:nvSpPr>
              <p:cNvPr id="68" name=""/>
              <p:cNvSpPr/>
              <p:nvPr/>
            </p:nvSpPr>
            <p:spPr>
              <a:xfrm>
                <a:off x="10442520" y="8395920"/>
                <a:ext cx="2629440" cy="11664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760" y="8380440"/>
                <a:ext cx="491760" cy="87120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13240" y="8602920"/>
                <a:ext cx="1000080" cy="5976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595440" y="8543520"/>
                <a:ext cx="410040" cy="16308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4680" y="8527680"/>
                <a:ext cx="110880" cy="178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3240" y="8380440"/>
              <a:ext cx="10519920" cy="1180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75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011320"/>
            <a:ext cx="13716000" cy="24112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84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84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3E4A1CEA-8F5E-4CC3-912C-6B1E2F488211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19400" y="2890800"/>
            <a:ext cx="10801440" cy="10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HY동녘B"/>
                <a:ea typeface="HY동녘B"/>
              </a:rPr>
              <a:t>병과별 전공계열 및 자격증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120" y="7148520"/>
            <a:ext cx="52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HY동녘B"/>
                <a:ea typeface="HY동녘B"/>
              </a:rPr>
              <a:t>육  군  본  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972800" y="2209680"/>
            <a:ext cx="3735360" cy="421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방패는 철통같은 대공방어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유도탄 및 대공탄은 편제 방공무기</a:t>
            </a: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 안테나는 저고도 탐지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원은 작은 권역 및 화력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집중 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44400" y="2286000"/>
            <a:ext cx="2728800" cy="220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방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46360"/>
            <a:ext cx="151639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전투력을 보존하고 행동의 자유를 보장하기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해 적의 공중 공격 및 공중 관측을 무력화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저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이키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공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탐지레이더 등과 같이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고도의 첨단 무기와 장비를 이용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항공기나 미사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등을 파괴 및 무력화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2600" y="5821200"/>
            <a:ext cx="14720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통신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전자무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체계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컴퓨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 등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8840" y="2674800"/>
            <a:ext cx="351324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고대병기인 활과 화살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및 죽화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580840" y="289080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25720"/>
            <a:ext cx="151639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장비 관리 및 정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특수 무기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제공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술 근무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무기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을 수송하는 차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휘통제용 무전기 등을 적시에 보급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리부속 지원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2600" y="5821200"/>
            <a:ext cx="14720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교육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봇공학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시스템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메카트로닉스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소재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기체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어계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 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972800" y="2209680"/>
            <a:ext cx="35132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열쇠는 보급관리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볏잎은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달과 깔때기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, 3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506320" y="2362320"/>
            <a:ext cx="2590560" cy="2151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참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2600" y="2046240"/>
            <a:ext cx="1516356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품 청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력 유지를 위하여 먹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에 필요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및 축성자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 치료에 필요한 약품 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장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에 필요한 유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에 필요한 물자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하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 및 폐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2600" y="5923080"/>
            <a:ext cx="147207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공식품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이론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통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급식경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원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예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미생물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236320" y="2241720"/>
            <a:ext cx="3513240" cy="388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육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차량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해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노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공중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날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철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레일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수송기능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71280" y="2602080"/>
            <a:ext cx="2502000" cy="2219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수      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71600"/>
            <a:ext cx="15163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 수송 지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지원 부대에 대한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부대에 인원ㆍ물자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여행장병 안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작전 도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제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6381720"/>
            <a:ext cx="147207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공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관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류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전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관리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항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72800" y="2870280"/>
            <a:ext cx="3513240" cy="3585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nzene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리와 원자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220480" y="3046320"/>
            <a:ext cx="2963880" cy="2724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35040" y="2314440"/>
            <a:ext cx="972504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대 테러작전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교육 및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훈련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연구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장비 및 물자 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민방위 기구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협조체제 유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400" y="6283440"/>
            <a:ext cx="1414476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업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자력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학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생물ㆍ화공ㆍ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천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화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화     학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84000" y="2602080"/>
            <a:ext cx="33368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두루마리는 행정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깃털은 붓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은 군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12480" y="2852640"/>
            <a:ext cx="2259000" cy="212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부      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040" y="2314440"/>
            <a:ext cx="10585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군의 인사ㆍ행정 담당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사관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무원 인사 관리ㆍ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ㆍ벌 업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 종 서무 행정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훈업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우체국 운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행사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400" y="5915160"/>
            <a:ext cx="1447344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사무자동화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정보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화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사무자동화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사무자동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방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개발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15760" y="2459160"/>
            <a:ext cx="3703680" cy="318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화폐인 도전과 주산알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개로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예산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회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감사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320560" y="2635200"/>
            <a:ext cx="2450880" cy="221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경      리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의 재정과 회계 기능을 담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ㆍ회계ㆍ경리 지원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단위 부대의 회계 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 편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집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결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여자금 불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방 관리 회계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시설 공사 및 납품자재에 대한 계약체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400" y="6562800"/>
            <a:ext cx="144734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금융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재무시스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정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무역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715760" y="2340000"/>
            <a:ext cx="377028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육모 방망이는 교도 및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징계를 상징하며 혁대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명령에 의한 사법권 행사 등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310840" y="2438280"/>
            <a:ext cx="2502000" cy="22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헌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ffff"/>
                </a:solidFill>
                <a:latin typeface="HY수평선B"/>
                <a:ea typeface="HY수평선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서 유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낙오자 통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초소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강확립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사법 경찰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순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탈자 체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범죄예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사활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검문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 경비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" y="6562800"/>
            <a:ext cx="144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찰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제법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규수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률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전경호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안행정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220480" y="2362320"/>
            <a:ext cx="3789360" cy="38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종은 자유를 뜻하며 봉화는 민주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이념을 밝히며 붓은 홍보 및 정신교육활동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검은 정의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96840" y="2513160"/>
            <a:ext cx="266364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 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2025720"/>
            <a:ext cx="108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 전력 강화로 전투력 배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교육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 활동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치관 확립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국 정신 고취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교육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보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도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진중창작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간행물 보급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※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TI&amp;E) : Troop Information and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400" y="5915160"/>
            <a:ext cx="141861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방송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한국철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회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심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어국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북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영상창작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방송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역사교육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91760" y="2117880"/>
            <a:ext cx="3508560" cy="39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지팡이에 두 마리의 뱀이 감겨있고 그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상단에 쌍날개가 펴있는 모양으로 고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희랍신의 사자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Hermes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가 가지고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다니던 지팡이를 표시하여 의술을 상징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23760" y="2257560"/>
            <a:ext cx="2646360" cy="252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의무관련 병과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1882800"/>
            <a:ext cx="1086624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의 건강 증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병예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치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후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ㆍ퇴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 및 야전 의무부대의 조직과 편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등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보건사업 등 제반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쟁지역에 대한 의료지원단 파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타 관련 병과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간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400" y="6202440"/>
            <a:ext cx="144464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생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산업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리치료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상병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영양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약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생체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상담치료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행정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업치료 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24480" y="554040"/>
            <a:ext cx="6397560" cy="12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과 의  종 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2546280"/>
            <a:ext cx="13322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zh-CN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기본병과</a:t>
            </a: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(16)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전투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8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보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포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공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항공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보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방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술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화학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수송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기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행정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부관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경리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헌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680" y="6861240"/>
            <a:ext cx="14617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특수병과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3) :</a:t>
            </a: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(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간호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정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),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법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종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           ※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특수화특기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(3) :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교수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연구개발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전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90680" y="3654360"/>
            <a:ext cx="2521080" cy="283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기  독 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군     종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39760" y="2082960"/>
            <a:ext cx="128174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장병의 종교의식 및 신앙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격 지도로 군인정신 함양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9760" y="7348680"/>
            <a:ext cx="1346508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학과 졸업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63760" y="3922560"/>
            <a:ext cx="241308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396120" y="3610080"/>
            <a:ext cx="2520720" cy="291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천 주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39040" y="3825720"/>
            <a:ext cx="2297160" cy="2256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644120" y="3683160"/>
            <a:ext cx="2521080" cy="285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불    교</a:t>
            </a:r>
            <a:r>
              <a:rPr b="0" lang="en-US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`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715760" y="3754440"/>
            <a:ext cx="237636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44120" y="2630520"/>
            <a:ext cx="3992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대무사의 방패와 검으로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본 전투 병과를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2359080"/>
            <a:ext cx="1008216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보로 전투하도록 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되고 소대장으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지휘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680" y="5649840"/>
            <a:ext cx="115221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구비자질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전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강인한 체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리더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찰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247480" y="2917800"/>
            <a:ext cx="2709720" cy="244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680" y="7232760"/>
            <a:ext cx="121698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학과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`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보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52880" y="361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포 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91760" y="2184480"/>
            <a:ext cx="311472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이조시대의 포와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장군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將軍箭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68120" y="2479680"/>
            <a:ext cx="205596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9040" y="1906560"/>
            <a:ext cx="1008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켓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 등으로 적의 전투력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파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압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력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기동을 지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기동 방행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심 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화력을 연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병 협동 작전에 통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하고   화력 전투를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6970680"/>
            <a:ext cx="118094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문사회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72800" y="2530440"/>
            <a:ext cx="35132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보병 휘장에 말발굽을 첨가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갑의 시초인 기병을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509200" y="2773440"/>
            <a:ext cx="2448000" cy="206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기        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5400" y="1906560"/>
            <a:ext cx="100821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차와 장갑차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포를 이용한 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충격 행동으로 적 격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갑의 보호하에 싸우는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부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5400" y="6418440"/>
            <a:ext cx="111618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경 미착용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15720" y="2241720"/>
            <a:ext cx="3776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한국의 전형적인 고대성곽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으로써 전투공병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507760" y="2386080"/>
            <a:ext cx="2952720" cy="245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공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1906560"/>
            <a:ext cx="1055376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로 기동 부대 근접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부대 기동성 보장을 위해 장애물 설치 </a:t>
            </a:r>
            <a:r>
              <a:rPr b="0" lang="en-US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거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진지 구축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수 지원 등 전투와 관련된 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업무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지원 및 지뢰지대 설치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매설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폭파 등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040" y="6391440"/>
            <a:ext cx="14328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축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질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측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공학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양토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 등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72800" y="1982880"/>
            <a:ext cx="38480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고대 통신수단인 봉화와 비둘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날개 및 현대통신의 상징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마이크로웨이브와 전파 표시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734920" y="2209680"/>
            <a:ext cx="2131920" cy="21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보 통 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1378080"/>
            <a:ext cx="1209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와 부대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인과 개인간 각종 첩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항을  유ㆍ무선 통신장비를 활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달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가설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 통신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중계소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안자재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보급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근무 지원 제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진반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정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 장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 운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트라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터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망 운영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S/W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영 등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2120" y="6562800"/>
            <a:ext cx="14328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멀티미디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선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소프트웨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정보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노정보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응용 등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과 해전공계열 관련 자격증 소지자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746360"/>
            <a:ext cx="151639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 부대에 적에 관한 정보 및 첩보를 수집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※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 획득 활동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지역 분석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외 정보 수집 등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된 정보 분석 후 전투 부대에 제공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간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HU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적 자원을 대상으로 수집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호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SIG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감청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파 수집ㆍ탐색ㆍ처리ㆍ분석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I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레이더 합성 사진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 사진 등 영상 자료에 의해 획득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적으로 적의 전투 의지를 약화시키는 임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1760" y="1746360"/>
            <a:ext cx="3797280" cy="369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박쥐는 영원불멸의 정보활동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횃불은 영원한 발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펜촉은 지식탐구를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2280" y="1905120"/>
            <a:ext cx="26812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7507440"/>
            <a:ext cx="151639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학과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종교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음악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술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정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등 특수학과 제외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보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972800" y="2654280"/>
            <a:ext cx="3735360" cy="347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날개는 하늘은 나는 매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창공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기수 의미 방패칼은 전투병과와 협동작전을 수행하는 병과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항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2549520"/>
            <a:ext cx="9433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헬기를 이용 병력과 장비 수송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기 및 부속품 검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환 및 수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제업무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400" y="6058080"/>
            <a:ext cx="1392876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기계정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자동화시스템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어통역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설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응용기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363400" y="2757600"/>
            <a:ext cx="2881080" cy="229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23:46:17Z</dcterms:created>
  <dc:creator>작전과</dc:creator>
  <dc:description/>
  <dc:language>en-US</dc:language>
  <cp:lastModifiedBy>Preferred Customer</cp:lastModifiedBy>
  <cp:lastPrinted>2001-11-19T16:14:58Z</cp:lastPrinted>
  <dcterms:modified xsi:type="dcterms:W3CDTF">2008-03-11T23:42:50Z</dcterms:modified>
  <cp:revision>2910</cp:revision>
  <dc:subject/>
  <dc:title>D – III 조치사항</dc:title>
</cp:coreProperties>
</file>