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15238413" cy="9525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793200" cy="992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3882960" y="-360"/>
            <a:ext cx="28749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1" lang="ko-K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460440" y="767880"/>
            <a:ext cx="5914800" cy="369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r>
              <a:rPr b="0" lang="en-US" sz="6800" spc="-1" strike="noStrike">
                <a:solidFill>
                  <a:srgbClr val="e3e3ff"/>
                </a:solidFill>
                <a:latin typeface="굴림"/>
              </a:rPr>
              <a:t>Click to move the slide</a:t>
            </a: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0" y="9392760"/>
            <a:ext cx="2951280" cy="538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1" lang="ko-K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42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42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44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46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48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50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52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54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56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58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28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30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32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34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36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38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40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3ED3-FED5-4E5E-87BF-693ED8220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1371600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762120" y="5483520"/>
            <a:ext cx="1371600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10F7-036D-4B0A-AB9D-012EE3F3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790400" y="222228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62120" y="548352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7790400" y="548352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4049-B213-44FF-8D17-A46132F8B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441648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99640" y="2222280"/>
            <a:ext cx="441648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037520" y="2222280"/>
            <a:ext cx="441648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762120" y="5483520"/>
            <a:ext cx="441648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5399640" y="5483520"/>
            <a:ext cx="441648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10037520" y="5483520"/>
            <a:ext cx="441648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5CC4-AF09-49DA-8E2A-2B10B7B92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2DD05-3C09-4E84-989E-B461F55E7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62120" y="2222280"/>
            <a:ext cx="13716000" cy="62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16D2A-B617-42D9-A6D7-55F245AC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13716000" cy="624348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B9007E-6E70-4E16-BF4A-28E9DA83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6693120" cy="624348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7790400" y="2222280"/>
            <a:ext cx="6693120" cy="624348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D08CF5-0C74-4E92-A420-1BB7A943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BCA3B8-11CD-4797-BADF-7A52D31F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62120" y="317520"/>
            <a:ext cx="13716000" cy="73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AA2A4-7766-4588-BFEE-7B301219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7790400" y="2222280"/>
            <a:ext cx="6693120" cy="624348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62120" y="548352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1EA79-0588-461F-BE3B-C29024E1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762120" y="2222280"/>
            <a:ext cx="13716000" cy="62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F542-1E91-413D-A95F-FA9B98DC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6693120" cy="624348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7790400" y="222228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790400" y="548352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F8F7A4-245D-49F8-9437-C4223ABB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790400" y="222228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2120" y="5483520"/>
            <a:ext cx="1371600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0F532-1C54-4561-AF24-DEDDA983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1371600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62120" y="5483520"/>
            <a:ext cx="1371600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5679F-124B-4258-AC69-BD8FD283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790400" y="222228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62120" y="548352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7790400" y="548352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7AF36-04AE-4FC0-B56C-B803CEF45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441648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99640" y="2222280"/>
            <a:ext cx="441648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037520" y="2222280"/>
            <a:ext cx="441648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62120" y="5483520"/>
            <a:ext cx="441648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5399640" y="5483520"/>
            <a:ext cx="441648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10037520" y="5483520"/>
            <a:ext cx="441648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0BCBB-CAA6-4A07-ADA9-0E0669F38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13716000" cy="624348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5F9F-9EEA-4C0F-9005-2F8C1315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6693120" cy="624348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90400" y="2222280"/>
            <a:ext cx="6693120" cy="624348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491B-ADF4-4672-B92F-A4290CF2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7AFF-BDA7-4761-9607-99D85BE8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762120" y="317520"/>
            <a:ext cx="13716000" cy="73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02DC-C857-4AA0-B752-DF8BF4E3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790400" y="2222280"/>
            <a:ext cx="6693120" cy="624348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62120" y="548352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BF83-8D43-4C81-BF08-E18ABC4C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6693120" cy="624348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7790400" y="222228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790400" y="548352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B969-8448-4327-A415-A5642D07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7790400" y="222228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62120" y="5483520"/>
            <a:ext cx="1371600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61F3-DC35-4EAF-A6B3-24BE5687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5239520" cy="9524160"/>
            <a:chOff x="0" y="0"/>
            <a:chExt cx="15239520" cy="9524160"/>
          </a:xfrm>
        </p:grpSpPr>
        <p:sp>
          <p:nvSpPr>
            <p:cNvPr id="1" name=""/>
            <p:cNvSpPr/>
            <p:nvPr/>
          </p:nvSpPr>
          <p:spPr>
            <a:xfrm>
              <a:off x="0" y="6773040"/>
              <a:ext cx="15239520" cy="27511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5239520" cy="677304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10414080" y="8697960"/>
            <a:ext cx="4825800" cy="84780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8361360"/>
            <a:ext cx="13079880" cy="1189800"/>
            <a:chOff x="0" y="8361360"/>
            <a:chExt cx="13079880" cy="1189800"/>
          </a:xfrm>
        </p:grpSpPr>
        <p:sp>
          <p:nvSpPr>
            <p:cNvPr id="5" name=""/>
            <p:cNvSpPr/>
            <p:nvPr/>
          </p:nvSpPr>
          <p:spPr>
            <a:xfrm>
              <a:off x="3936960" y="8361360"/>
              <a:ext cx="8571600" cy="118116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6577200" y="8361360"/>
              <a:ext cx="6502680" cy="1189800"/>
              <a:chOff x="6577200" y="8361360"/>
              <a:chExt cx="6502680" cy="1189800"/>
            </a:xfrm>
          </p:grpSpPr>
          <p:sp>
            <p:nvSpPr>
              <p:cNvPr id="7" name=""/>
              <p:cNvSpPr/>
              <p:nvPr/>
            </p:nvSpPr>
            <p:spPr>
              <a:xfrm>
                <a:off x="10445040" y="8376840"/>
                <a:ext cx="2634840" cy="117432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082280" y="8361360"/>
                <a:ext cx="491760" cy="87048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5760" y="8583480"/>
                <a:ext cx="1000080" cy="59724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9597600" y="8524080"/>
                <a:ext cx="410040" cy="16272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577200" y="8508600"/>
                <a:ext cx="110880" cy="17820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8361360"/>
              <a:ext cx="10519200" cy="117936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1044720" y="8362800"/>
            <a:ext cx="9474840" cy="1179000"/>
            <a:chOff x="1044720" y="8362800"/>
            <a:chExt cx="9474840" cy="1179000"/>
          </a:xfrm>
        </p:grpSpPr>
        <p:sp>
          <p:nvSpPr>
            <p:cNvPr id="14" name=""/>
            <p:cNvSpPr/>
            <p:nvPr/>
          </p:nvSpPr>
          <p:spPr>
            <a:xfrm>
              <a:off x="3164040" y="8362800"/>
              <a:ext cx="965880" cy="64152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140440" y="8442000"/>
              <a:ext cx="5379120" cy="10998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41640" y="8428680"/>
              <a:ext cx="187560" cy="13428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261520" y="8470800"/>
              <a:ext cx="425880" cy="36144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867320" y="8497080"/>
              <a:ext cx="155880" cy="13428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44720" y="8402040"/>
              <a:ext cx="648000" cy="4564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r>
              <a:rPr b="0" lang="en-US" sz="6800" spc="-1" strike="noStrike">
                <a:solidFill>
                  <a:srgbClr val="e3e3ff"/>
                </a:solidFill>
                <a:latin typeface="굴림"/>
              </a:rPr>
              <a:t>Click to edit the title text format</a:t>
            </a: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762120" y="2222280"/>
            <a:ext cx="13716000" cy="624348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 fontScale="97000"/>
          </a:bodyPr>
          <a:p>
            <a:pPr marL="514080" indent="-514080">
              <a:spcBef>
                <a:spcPts val="1250"/>
              </a:spcBef>
              <a:buClr>
                <a:srgbClr val="e3e3ff"/>
              </a:buClr>
              <a:buFont typeface="굴림"/>
              <a:buChar char="•"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  <a:p>
            <a:pPr lvl="1" marL="1114920" indent="-428040">
              <a:spcBef>
                <a:spcPts val="1250"/>
              </a:spcBef>
              <a:buClr>
                <a:srgbClr val="ffffff"/>
              </a:buClr>
              <a:buFont typeface="굴림"/>
              <a:buChar char="–"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  <a:p>
            <a:pPr lvl="2" marL="1715040" indent="-343080">
              <a:spcBef>
                <a:spcPts val="1250"/>
              </a:spcBef>
              <a:buClr>
                <a:srgbClr val="e3e3ff"/>
              </a:buClr>
              <a:buFont typeface="굴림"/>
              <a:buChar char="•"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  <a:p>
            <a:pPr lvl="3" marL="2401920" indent="-343080">
              <a:spcBef>
                <a:spcPts val="1250"/>
              </a:spcBef>
              <a:buClr>
                <a:srgbClr val="ffffff"/>
              </a:buClr>
              <a:buFont typeface="굴림"/>
              <a:buChar char="–"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  <a:p>
            <a:pPr lvl="4" marL="3088800" indent="-343080">
              <a:spcBef>
                <a:spcPts val="1250"/>
              </a:spcBef>
              <a:buClr>
                <a:srgbClr val="e3e3ff"/>
              </a:buClr>
              <a:buFont typeface="굴림"/>
              <a:buChar char="•"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  <a:p>
            <a:pPr lvl="5" marL="3088800" indent="-343080">
              <a:spcBef>
                <a:spcPts val="1250"/>
              </a:spcBef>
              <a:buClr>
                <a:srgbClr val="ffffff"/>
              </a:buClr>
              <a:buFont typeface="굴림"/>
              <a:buChar char="•"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  <a:p>
            <a:pPr lvl="6" marL="3088800" indent="-343080">
              <a:spcBef>
                <a:spcPts val="1250"/>
              </a:spcBef>
              <a:buClr>
                <a:srgbClr val="ffffff"/>
              </a:buClr>
              <a:buFont typeface="굴림"/>
              <a:buChar char="•"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761760" y="8678880"/>
            <a:ext cx="3555720" cy="63504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  <a:defRPr b="0" lang="en-US" sz="19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굴림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5206680" y="8678880"/>
            <a:ext cx="4825800" cy="63504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  <a:defRPr b="0" lang="en-US" sz="19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굴림"/>
              </a:rPr>
              <a:t>&lt;footer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10922040" y="8678880"/>
            <a:ext cx="3556080" cy="63504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  <a:defRPr b="0" lang="en-US" sz="19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fld id="{9E91E630-E22F-47A0-817F-4285D2DB2A2E}" type="slidenum">
              <a:rPr b="0" lang="en-US" sz="19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11160" y="28440"/>
            <a:ext cx="15239520" cy="9524880"/>
            <a:chOff x="-11160" y="28440"/>
            <a:chExt cx="15239520" cy="9524880"/>
          </a:xfrm>
        </p:grpSpPr>
        <p:sp>
          <p:nvSpPr>
            <p:cNvPr id="62" name=""/>
            <p:cNvSpPr/>
            <p:nvPr/>
          </p:nvSpPr>
          <p:spPr>
            <a:xfrm>
              <a:off x="-11160" y="6801840"/>
              <a:ext cx="15239520" cy="27514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11160" y="28440"/>
              <a:ext cx="15239520" cy="677340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10402920" y="8707320"/>
            <a:ext cx="4825800" cy="84636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3240" y="8380440"/>
            <a:ext cx="13075200" cy="1182240"/>
            <a:chOff x="-3240" y="8380440"/>
            <a:chExt cx="13075200" cy="1182240"/>
          </a:xfrm>
        </p:grpSpPr>
        <p:sp>
          <p:nvSpPr>
            <p:cNvPr id="66" name=""/>
            <p:cNvSpPr/>
            <p:nvPr/>
          </p:nvSpPr>
          <p:spPr>
            <a:xfrm>
              <a:off x="3933720" y="8380440"/>
              <a:ext cx="8572320" cy="118224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6574680" y="8380440"/>
              <a:ext cx="6497280" cy="1181880"/>
              <a:chOff x="6574680" y="8380440"/>
              <a:chExt cx="6497280" cy="1181880"/>
            </a:xfrm>
          </p:grpSpPr>
          <p:sp>
            <p:nvSpPr>
              <p:cNvPr id="68" name=""/>
              <p:cNvSpPr/>
              <p:nvPr/>
            </p:nvSpPr>
            <p:spPr>
              <a:xfrm>
                <a:off x="10442520" y="8395920"/>
                <a:ext cx="2629440" cy="116640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79760" y="8380440"/>
                <a:ext cx="491760" cy="87120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013240" y="8602920"/>
                <a:ext cx="1000080" cy="5976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9595440" y="8543520"/>
                <a:ext cx="410040" cy="16308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574680" y="8527680"/>
                <a:ext cx="110880" cy="17856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3240" y="8380440"/>
              <a:ext cx="10519920" cy="11804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044720" y="8362800"/>
            <a:ext cx="9474840" cy="1179000"/>
            <a:chOff x="1044720" y="8362800"/>
            <a:chExt cx="9474840" cy="1179000"/>
          </a:xfrm>
        </p:grpSpPr>
        <p:sp>
          <p:nvSpPr>
            <p:cNvPr id="75" name=""/>
            <p:cNvSpPr/>
            <p:nvPr/>
          </p:nvSpPr>
          <p:spPr>
            <a:xfrm>
              <a:off x="3164040" y="8362800"/>
              <a:ext cx="965880" cy="64152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140440" y="8442000"/>
              <a:ext cx="5379120" cy="10998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41640" y="8428680"/>
              <a:ext cx="187560" cy="13428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61520" y="8470800"/>
              <a:ext cx="425880" cy="36144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867320" y="8497080"/>
              <a:ext cx="155880" cy="13428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044720" y="8402040"/>
              <a:ext cx="648000" cy="4564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2011320"/>
            <a:ext cx="13716000" cy="241128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r>
              <a:rPr b="0" lang="en-US" sz="8400" spc="-1" strike="noStrike">
                <a:solidFill>
                  <a:srgbClr val="e3e3ff"/>
                </a:solidFill>
                <a:latin typeface="굴림"/>
              </a:rPr>
              <a:t>Click to edit the title text format</a:t>
            </a:r>
            <a:endParaRPr b="0" lang="en-US" sz="84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761760" y="8678880"/>
            <a:ext cx="3555720" cy="63504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  <a:defRPr b="0" lang="en-US" sz="19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굴림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10922040" y="8678880"/>
            <a:ext cx="3556080" cy="63504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  <a:defRPr b="0" lang="en-US" sz="19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fld id="{655D3AC0-67C6-4127-9A63-2F639D43F08E}" type="slidenum">
              <a:rPr b="0" lang="en-US" sz="19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5206680" y="8678880"/>
            <a:ext cx="4825800" cy="63504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  <a:defRPr b="0" lang="en-US" sz="19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굴림"/>
              </a:rPr>
              <a:t>&lt;footer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219400" y="2890800"/>
            <a:ext cx="10801440" cy="108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500" spc="-1" strike="noStrike">
                <a:solidFill>
                  <a:srgbClr val="000000"/>
                </a:solidFill>
                <a:latin typeface="HY동녘B"/>
                <a:ea typeface="HY동녘B"/>
              </a:rPr>
              <a:t>병과별 전공계열 및 자격증</a:t>
            </a:r>
            <a:endParaRPr b="0" lang="en-US" sz="6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56120" y="7148520"/>
            <a:ext cx="52563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HY동녘B"/>
                <a:ea typeface="HY동녘B"/>
              </a:rPr>
              <a:t>육  군  본  부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0972800" y="2209680"/>
            <a:ext cx="3735360" cy="421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방패는 철통같은 대공방어</a:t>
            </a: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,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3399"/>
                </a:solidFill>
                <a:latin typeface="Times New Roman"/>
              </a:rPr>
              <a:t>유도탄 및 대공탄은 편제 방공무기</a:t>
            </a:r>
            <a:r>
              <a:rPr b="1" lang="ko-KR" sz="1800" spc="-1" strike="noStrike">
                <a:solidFill>
                  <a:srgbClr val="003399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레이더 안테나는 저고도 탐지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레이더</a:t>
            </a: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원은 작은 권역 및 화력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집중 의미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1444400" y="2286000"/>
            <a:ext cx="2728800" cy="22096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286240" y="57780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방      공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746360"/>
            <a:ext cx="15163920" cy="37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아군의 전투력을 보존하고 행동의 자유를 보장하기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위해 적의 공중 공격 및 공중 관측을 무력화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저지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나이키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호크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유도탄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대공포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탐지레이더 등과 같이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고도의 첨단 무기와 장비를 이용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적의 항공기나 미사일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등을 파괴 및 무력화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-12600" y="5821200"/>
            <a:ext cx="1472076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자통신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공학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유도전자무기공학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기공학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기전자공학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산체계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산학 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자계산기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공학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자컴퓨터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통신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컴퓨터공학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과학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교육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정보통신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처리 등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※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(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공통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: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이ㆍ공학계열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148840" y="2674800"/>
            <a:ext cx="3513240" cy="3290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99"/>
                </a:solidFill>
                <a:latin typeface="Times New Roman"/>
              </a:rPr>
              <a:t>고대병기인 활과 화살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99"/>
                </a:solidFill>
                <a:latin typeface="Times New Roman"/>
              </a:rPr>
              <a:t>및 죽화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1580840" y="2890800"/>
            <a:ext cx="2592360" cy="2135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430960" y="58572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병      기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025720"/>
            <a:ext cx="15163920" cy="37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  <a:ea typeface="굴림"/>
              </a:rPr>
              <a:t>○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화포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동 장비 관리 및 정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  <a:ea typeface="굴림"/>
              </a:rPr>
              <a:t>○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탄약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특수 무기 관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  <a:ea typeface="굴림"/>
              </a:rPr>
              <a:t>○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야전 정비 지원 제공 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정비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보급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술 근무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각종 무기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탄약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대포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탄약을 수송하는 차량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</a:t>
            </a:r>
            <a:r>
              <a:rPr b="0" lang="zh-CN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지휘통제용 무전기 등을 적시에 보급</a:t>
            </a:r>
            <a:r>
              <a:rPr b="0" lang="en-US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정비</a:t>
            </a:r>
            <a:r>
              <a:rPr b="0" lang="en-US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수리부속 지원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-12600" y="5821200"/>
            <a:ext cx="1472076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금속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계공학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계교육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설계공학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로봇공학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시스템공학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메카트로닉스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신소재공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무기체계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병기공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자동차공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자공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정보기계공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제어계측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계공학 등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0972800" y="2209680"/>
            <a:ext cx="3513240" cy="3530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열쇠는 보급관리</a:t>
            </a: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볏잎은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종 보급품</a:t>
            </a: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달과 깔때기는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1, 3</a:t>
            </a: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종 보급품을 상징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1506320" y="2362320"/>
            <a:ext cx="2590560" cy="2151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430960" y="58572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병      참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-12600" y="2046240"/>
            <a:ext cx="15163560" cy="36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보급품 청구 저장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분배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처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투력 유지를 위하여 먹는 것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입는 것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투에 필요한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물자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건설 및 축성자재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환자 치료에 필요한 약품 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의료장비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수송에 필요한 유류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사무에 필요한 물자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획득하여 저장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보급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정비 및 폐처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-12600" y="5923080"/>
            <a:ext cx="1472076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가공식품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경영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경제이론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제도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경제통상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행정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식품 가공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과학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생명공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생명공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영양급식경영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자원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원예과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조리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식품미생물가공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화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공학 등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1236320" y="2241720"/>
            <a:ext cx="3513240" cy="3880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육상</a:t>
            </a: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차량</a:t>
            </a: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), </a:t>
            </a: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해상</a:t>
            </a: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노</a:t>
            </a: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),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공중</a:t>
            </a: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날개</a:t>
            </a: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), </a:t>
            </a: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철도</a:t>
            </a: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레일</a:t>
            </a: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)</a:t>
            </a: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의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수송기능을 상징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1771280" y="2602080"/>
            <a:ext cx="2502000" cy="22190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430960" y="58572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수      송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2271600"/>
            <a:ext cx="151635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인원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장비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물자 수송 지원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철도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항만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육로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항공기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투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투 지원 부대에 대한 수송 지원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야전 정비 지원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투 부대에 인원ㆍ물자 수송 지원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여행장병 안내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수송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군작전 도로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철도관리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통제 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7360" y="6381720"/>
            <a:ext cx="14720760" cy="24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교통공학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행정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계공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관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물류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유통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자동차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기공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자전기공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항공관리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교통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운항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조선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컴퓨터공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경영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리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과학 등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972800" y="2870280"/>
            <a:ext cx="3513240" cy="35856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Benzene </a:t>
            </a: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고리와 원자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1220480" y="3046320"/>
            <a:ext cx="2963880" cy="27241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35040" y="2314440"/>
            <a:ext cx="9725040" cy="33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화생방 대 테러작전 지원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화생방 교육 및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훈련 지원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연구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화생방 장비 및 물자 관리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민방위 기구와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협조체제 유지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3400" y="6283440"/>
            <a:ext cx="14144760" cy="25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공업화학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생물학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미생물학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생화학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원자력공학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핵공학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화공학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환경학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화학공정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화학공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환경생물ㆍ화공ㆍ화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천문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핵화학 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※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자격증 소지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30960" y="58572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화     학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484000" y="2602080"/>
            <a:ext cx="3336840" cy="32209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두루마리는 행정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깃털은 붓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검은 군을 상징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2012480" y="2852640"/>
            <a:ext cx="2259000" cy="2125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5430960" y="58572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부      관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5040" y="2314440"/>
            <a:ext cx="1058544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육군의 인사ㆍ행정 담당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지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병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부사관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군무원 인사 관리ㆍ처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상ㆍ벌 업무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각 종 서무 행정 지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상훈업무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군사우체국 운영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각종 행사 지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63400" y="5915160"/>
            <a:ext cx="14473440" cy="30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개발행정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도시행정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무역사무자동화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사무정보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정보화학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산사무자동화학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산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자계산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정보사무자동화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지방행정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지역개발행정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행정과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실무 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※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0715760" y="2459160"/>
            <a:ext cx="3703680" cy="31806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고대의 화폐인 도전과 주산알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3</a:t>
            </a: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개로서</a:t>
            </a: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예산</a:t>
            </a: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회계</a:t>
            </a: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감사를 상징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1320560" y="2635200"/>
            <a:ext cx="2450880" cy="22114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430960" y="58572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경      리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5040" y="2170080"/>
            <a:ext cx="1058544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부대의 재정과 회계 기능을 담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예산ㆍ회계ㆍ경리 지원 업무 수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단위 부대의 회계 처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예산 편성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집행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결산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급여자금 불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국방 관리 회계 업무 수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군사시설 공사 및 납품자재에 대한 계약체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3400" y="6562800"/>
            <a:ext cx="1447344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경제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경영학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회계학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무역학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금융학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경제금융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회계재무시스템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컴퓨터학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경영정보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회계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공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경제무역학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자계산기학 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※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0715760" y="2340000"/>
            <a:ext cx="3770280" cy="3530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고대의 육모 방망이는 교도 및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징계를 상징하며 혁대는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명령에 의한 사법권 행사 등 상징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1310840" y="2438280"/>
            <a:ext cx="2502000" cy="22654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5430960" y="58572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헌      병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5040" y="2170080"/>
            <a:ext cx="1058544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ffff"/>
                </a:solidFill>
                <a:latin typeface="HY수평선B"/>
                <a:ea typeface="HY수평선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군기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군법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질서 유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낙오자 통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호송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경호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교통 초소 관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군기강확립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군 사법 경찰업무 수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순찰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군탈자 체포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범죄예방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수사활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검문소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운용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경호 경비 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63400" y="6562800"/>
            <a:ext cx="14473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경찰행정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경호행정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공법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교정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국제법무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법규수사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법률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법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사법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행정과학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실무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행정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안전경호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공안행정학 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※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220480" y="2362320"/>
            <a:ext cx="3789360" cy="38199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종은 자유를 뜻하며 봉화는 민주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이념을 밝히며 붓은 홍보 및 정신교육활동을</a:t>
            </a: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검은 정의를 상징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1796840" y="2513160"/>
            <a:ext cx="2663640" cy="25365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430960" y="58572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정      훈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0680" y="2025720"/>
            <a:ext cx="108662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장병 정신 전력 강화로 전투력 배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zh-CN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정훈 교육 </a:t>
            </a:r>
            <a:r>
              <a:rPr b="0" lang="en-US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zh-CN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문화 활동 </a:t>
            </a:r>
            <a:r>
              <a:rPr b="0" lang="en-US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: </a:t>
            </a:r>
            <a:r>
              <a:rPr b="0" lang="zh-CN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가치관 확립 </a:t>
            </a:r>
            <a:r>
              <a:rPr b="0" lang="en-US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zh-CN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호국 정신 고취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장병 정신교육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공보활동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보도활동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문화활동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진중창작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각종 간행물 보급 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※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정훈 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(TI&amp;E) : Troop Information and Edu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63400" y="5915160"/>
            <a:ext cx="14186160" cy="30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신문방송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국민윤리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심리학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한국철학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사학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사회학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교육심리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국민윤리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교육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경제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신문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국어국문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언론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북한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영상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문화영상창작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방송언론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역사교육학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※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1291760" y="2117880"/>
            <a:ext cx="3508560" cy="3933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3399"/>
                </a:solidFill>
                <a:latin typeface="Times New Roman"/>
              </a:rPr>
              <a:t>지팡이에 두 마리의 뱀이 감겨있고 그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3399"/>
                </a:solidFill>
                <a:latin typeface="Times New Roman"/>
              </a:rPr>
              <a:t>상단에 쌍날개가 펴있는 모양으로 고대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ko-KR" sz="1500" spc="-1" strike="noStrike">
                <a:solidFill>
                  <a:srgbClr val="003399"/>
                </a:solidFill>
                <a:latin typeface="Times New Roman"/>
              </a:rPr>
              <a:t>희랍신의 사자 </a:t>
            </a:r>
            <a:r>
              <a:rPr b="1" lang="ko-KR" sz="1500" spc="-1" strike="noStrike">
                <a:solidFill>
                  <a:srgbClr val="003399"/>
                </a:solidFill>
                <a:latin typeface="Times New Roman"/>
              </a:rPr>
              <a:t>Hermes</a:t>
            </a:r>
            <a:r>
              <a:rPr b="1" lang="ko-KR" sz="1500" spc="-1" strike="noStrike">
                <a:solidFill>
                  <a:srgbClr val="003399"/>
                </a:solidFill>
                <a:latin typeface="Times New Roman"/>
              </a:rPr>
              <a:t>가 가지고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3399"/>
                </a:solidFill>
                <a:latin typeface="Times New Roman"/>
              </a:rPr>
              <a:t>다니던 지팡이를 표시하여 의술을 상징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1723760" y="2257560"/>
            <a:ext cx="2646360" cy="25239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430960" y="58572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의무관련 병과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0680" y="1882800"/>
            <a:ext cx="10866240" cy="40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장병의 건강 증진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질병예방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환자치료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환자후송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입ㆍ퇴원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재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병원 및 야전 의무부대의 조직과 편성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교육훈련등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군 보건사업 등 제반 업무 수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분쟁지역에 대한 의료지원단 파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※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타 관련 병과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군의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치의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수의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간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400" y="6202440"/>
            <a:ext cx="14446440" cy="28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약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보건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위생공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보건행정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병원행정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산업보건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제약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물리치료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상병리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식품영양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재활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의용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자공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의약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의료생체공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자공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심리상담치료학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병원경영학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영양학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의공학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의료행정학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재활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작업치료 등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 ※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24480" y="554040"/>
            <a:ext cx="6397560" cy="125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HY견고딕"/>
                <a:ea typeface="HY견고딕"/>
              </a:rPr>
              <a:t>병 과 의  종 류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0680" y="2546280"/>
            <a:ext cx="13322160" cy="40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HY동녘B"/>
                <a:ea typeface="HY동녘B"/>
              </a:rPr>
              <a:t>□ </a:t>
            </a:r>
            <a:r>
              <a:rPr b="0" lang="zh-CN" sz="4500" spc="-1" strike="noStrike">
                <a:solidFill>
                  <a:srgbClr val="ffffff"/>
                </a:solidFill>
                <a:latin typeface="HY동녘B"/>
                <a:ea typeface="HY동녘B"/>
              </a:rPr>
              <a:t>기본병과</a:t>
            </a:r>
            <a:r>
              <a:rPr b="0" lang="en-US" sz="4500" spc="-1" strike="noStrike">
                <a:solidFill>
                  <a:srgbClr val="ffffff"/>
                </a:solidFill>
                <a:latin typeface="HY동녘B"/>
                <a:ea typeface="HY동녘B"/>
              </a:rPr>
              <a:t>(16)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○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전투 병과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(8) :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보병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포병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기갑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공병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통신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항공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                           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정보통신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방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    ○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기술 병과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(4) :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화학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수송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병기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병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    ○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행정 병과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(4) :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부관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경리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헌병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정훈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0680" y="6861240"/>
            <a:ext cx="14617440" cy="16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500" spc="-1" strike="noStrike">
                <a:solidFill>
                  <a:srgbClr val="ffffff"/>
                </a:solidFill>
                <a:latin typeface="HY동녘B"/>
                <a:ea typeface="HY동녘B"/>
              </a:rPr>
              <a:t>□ </a:t>
            </a:r>
            <a:r>
              <a:rPr b="0" lang="ko-KR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특수병과</a:t>
            </a:r>
            <a:r>
              <a:rPr b="0" lang="ko-KR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(3) :</a:t>
            </a:r>
            <a:r>
              <a:rPr b="0" lang="ko-KR" sz="4500" spc="-1" strike="noStrike">
                <a:solidFill>
                  <a:srgbClr val="ffffff"/>
                </a:solidFill>
                <a:latin typeface="HY동녘B"/>
                <a:ea typeface="HY동녘B"/>
              </a:rPr>
              <a:t> 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의무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(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군의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치의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수의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간호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의정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),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법무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군종</a:t>
            </a:r>
            <a:r>
              <a:rPr b="0" lang="ko-KR" sz="4000" spc="-1" strike="noStrike">
                <a:solidFill>
                  <a:srgbClr val="ffff00"/>
                </a:solidFill>
                <a:latin typeface="HY동녘B"/>
                <a:ea typeface="HY동녘B"/>
              </a:rPr>
              <a:t>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00"/>
                </a:solidFill>
                <a:latin typeface="HY동녘B"/>
                <a:ea typeface="HY동녘B"/>
              </a:rPr>
              <a:t>                  ※ </a:t>
            </a:r>
            <a:r>
              <a:rPr b="0" lang="ko-KR" sz="4000" spc="-1" strike="noStrike">
                <a:solidFill>
                  <a:srgbClr val="ffff00"/>
                </a:solidFill>
                <a:latin typeface="HY동녘B"/>
                <a:ea typeface="HY동녘B"/>
              </a:rPr>
              <a:t>특수화특기</a:t>
            </a:r>
            <a:r>
              <a:rPr b="0" lang="ko-KR" sz="4000" spc="-1" strike="noStrike">
                <a:solidFill>
                  <a:srgbClr val="ffff00"/>
                </a:solidFill>
                <a:latin typeface="HY동녘B"/>
                <a:ea typeface="HY동녘B"/>
              </a:rPr>
              <a:t>(3) : </a:t>
            </a:r>
            <a:r>
              <a:rPr b="0" lang="ko-KR" sz="4000" spc="-1" strike="noStrike">
                <a:solidFill>
                  <a:srgbClr val="ffff00"/>
                </a:solidFill>
                <a:latin typeface="HY동녘B"/>
                <a:ea typeface="HY동녘B"/>
              </a:rPr>
              <a:t>교수</a:t>
            </a:r>
            <a:r>
              <a:rPr b="0" lang="ko-KR" sz="4000" spc="-1" strike="noStrike">
                <a:solidFill>
                  <a:srgbClr val="ffff00"/>
                </a:solidFill>
                <a:latin typeface="HY동녘B"/>
                <a:ea typeface="HY동녘B"/>
              </a:rPr>
              <a:t>, </a:t>
            </a:r>
            <a:r>
              <a:rPr b="0" lang="ko-KR" sz="4000" spc="-1" strike="noStrike">
                <a:solidFill>
                  <a:srgbClr val="ffff00"/>
                </a:solidFill>
                <a:latin typeface="HY동녘B"/>
                <a:ea typeface="HY동녘B"/>
              </a:rPr>
              <a:t>연구개발</a:t>
            </a:r>
            <a:r>
              <a:rPr b="0" lang="ko-KR" sz="4000" spc="-1" strike="noStrike">
                <a:solidFill>
                  <a:srgbClr val="ffff00"/>
                </a:solidFill>
                <a:latin typeface="HY동녘B"/>
                <a:ea typeface="HY동녘B"/>
              </a:rPr>
              <a:t>, </a:t>
            </a:r>
            <a:r>
              <a:rPr b="0" lang="ko-KR" sz="4000" spc="-1" strike="noStrike">
                <a:solidFill>
                  <a:srgbClr val="ffff00"/>
                </a:solidFill>
                <a:latin typeface="HY동녘B"/>
                <a:ea typeface="HY동녘B"/>
              </a:rPr>
              <a:t>전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290680" y="3654360"/>
            <a:ext cx="2521080" cy="283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3399"/>
                </a:solidFill>
                <a:latin typeface="HY수평선B"/>
                <a:ea typeface="HY수평선B"/>
              </a:rPr>
              <a:t>기  독  교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30960" y="58572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군     종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39760" y="2082960"/>
            <a:ext cx="12817440" cy="13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zh-CN" sz="38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</a:t>
            </a:r>
            <a:r>
              <a:rPr b="0" lang="en-US" sz="38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zh-CN" sz="38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군 장병의 종교의식 및 신앙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인격 지도로 군인정신 함양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39760" y="7348680"/>
            <a:ext cx="1346508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zh-CN" sz="38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신학과 졸업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363760" y="3922560"/>
            <a:ext cx="2413080" cy="20876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6396120" y="3610080"/>
            <a:ext cx="2520720" cy="29170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3399"/>
                </a:solidFill>
                <a:latin typeface="HY수평선B"/>
                <a:ea typeface="HY수평선B"/>
              </a:rPr>
              <a:t>천 주 교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539040" y="3825720"/>
            <a:ext cx="2297160" cy="22561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0644120" y="3683160"/>
            <a:ext cx="2521080" cy="285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3399"/>
                </a:solidFill>
                <a:latin typeface="HY수평선B"/>
                <a:ea typeface="HY수평선B"/>
              </a:rPr>
              <a:t>불    교</a:t>
            </a:r>
            <a:r>
              <a:rPr b="0" lang="en-US" sz="1900" spc="-1" strike="noStrike">
                <a:solidFill>
                  <a:srgbClr val="003399"/>
                </a:solidFill>
                <a:latin typeface="HY수평선B"/>
                <a:ea typeface="HY수평선B"/>
              </a:rPr>
              <a:t>`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10715760" y="3754440"/>
            <a:ext cx="2376360" cy="2255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644120" y="2630520"/>
            <a:ext cx="3992760" cy="364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고대무사의 방패와 검으로서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기본 전투 병과를 표시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4680" y="2359080"/>
            <a:ext cx="10082160" cy="24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 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도보로 전투하도록 훈련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장비되고 소대장으로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교육훈련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부대관리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투지휘임무수행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4680" y="5649840"/>
            <a:ext cx="1152216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구비자질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: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도전성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강인한 체력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리더쉽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통찰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1247480" y="2917800"/>
            <a:ext cx="2709720" cy="2449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74680" y="7232760"/>
            <a:ext cx="1216980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: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모든학과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`(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)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30960" y="58572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보      병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952880" y="361800"/>
            <a:ext cx="4421160" cy="87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포       병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291760" y="2184480"/>
            <a:ext cx="3114720" cy="3290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이조시대의 포와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장군전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將軍箭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868120" y="2479680"/>
            <a:ext cx="2055960" cy="19954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19040" y="1906560"/>
            <a:ext cx="100821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4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</a:t>
            </a:r>
            <a:r>
              <a:rPr b="0" lang="ko-KR" sz="40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40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대포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로켓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유도탄 등으로 적의 전투력을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파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제압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무력화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아군의 기동을 지원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적의 기동 방행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화력의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핵심 기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모든 화력을 연합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제병 협동 작전에 통합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하고   화력 전투를 수행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9040" y="6970680"/>
            <a:ext cx="1180944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40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·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공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·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인문사회계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(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)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0972800" y="2530440"/>
            <a:ext cx="3513240" cy="32209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보병 휘장에 말발굽을 첨가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기갑의 시초인 기병을 표시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509200" y="2773440"/>
            <a:ext cx="2448000" cy="20606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286240" y="577800"/>
            <a:ext cx="4421160" cy="87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기        갑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5400" y="1906560"/>
            <a:ext cx="10082160" cy="40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4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</a:t>
            </a:r>
            <a:r>
              <a:rPr b="0" lang="ko-KR" sz="40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40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차와 장갑차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포를 이용한 화력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동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충격 행동으로 적 격멸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화력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동성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장갑의 보호하에 싸우는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동부대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5400" y="6418440"/>
            <a:ext cx="11161800" cy="21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40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·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공학계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(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)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 ※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안경 미착용자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115720" y="2241720"/>
            <a:ext cx="3776760" cy="364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한국의 전형적인 고대성곽과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검으로써 전투공병을 상징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507760" y="2386080"/>
            <a:ext cx="2952720" cy="2458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286240" y="577800"/>
            <a:ext cx="4421160" cy="87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공      병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9040" y="1906560"/>
            <a:ext cx="10553760" cy="42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</a:t>
            </a:r>
            <a:r>
              <a:rPr b="0" lang="en-US" sz="3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축성 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건설로 기동 부대 근접 지원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zh-CN" sz="33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동 부대 기동성 보장을 위해 장애물 설치 </a:t>
            </a:r>
            <a:r>
              <a:rPr b="0" lang="en-US" sz="33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zh-CN" sz="33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제거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진지 구축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급수 지원 등 전투와 관련된 축성 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건설 업무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건설지원 및 지뢰지대 설치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매설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폭파 등의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수행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9040" y="6391440"/>
            <a:ext cx="1432872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○ 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건설공학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건축공학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설비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설계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토목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계공학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지리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지질학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측지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토목공학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설계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환경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양토목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기공학 등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※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공통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: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이ㆍ공학계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(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)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0972800" y="1982880"/>
            <a:ext cx="3848040" cy="3530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굴림"/>
              </a:rPr>
              <a:t>고대 통신수단인 봉화와 비둘기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굴림"/>
              </a:rPr>
              <a:t>날개 및 현대통신의 상징인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굴림"/>
              </a:rPr>
              <a:t>마이크로웨이브와 전파 표시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1734920" y="2209680"/>
            <a:ext cx="2131920" cy="2114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286240" y="57780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정 보 통 신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0680" y="1378080"/>
            <a:ext cx="1209816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부대와 부대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개인과 개인간 각종 첩보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지시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사항을  유ㆍ무선 통신장비를 활용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달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통신선로 가설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지역 통신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중계소 운용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통신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보안자재 지원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통신 보급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근무 지원 제공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산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사진반 운용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통신선로 정비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자 장비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리 운용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인트라넷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인터넷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산망 운영관리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S/W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개발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운영 등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2120" y="6562800"/>
            <a:ext cx="14328720" cy="28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멀티미디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무선통신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소프트웨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기전자정보통신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산정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자계산기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컴퓨터공학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과학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교육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통신공학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항공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자정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나노정보공학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산응용 등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(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공통 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: 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이ㆍ공학계열과 해전공계열 관련 자격증 소지자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)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1746360"/>
            <a:ext cx="15163920" cy="55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작전 부대에 적에 관한 정보 및 첩보를 수집 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제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※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정보 획득 활동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상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작전지역 분석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적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아군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외 정보 수집 등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●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획득된 정보 분석 후 전투 부대에 제공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지원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●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인간 정보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(HUMINT) :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인적 자원을 대상으로 수집된 정보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●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신호 정보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(SIGINT) :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통신 감청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자파 수집ㆍ탐색ㆍ처리ㆍ분석한 정보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●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영상 정보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(IMINT) :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레이더 합성 사진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항공 사진 등 영상 자료에 의해 획득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심리적으로 적의 전투 의지를 약화시키는 임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291760" y="1746360"/>
            <a:ext cx="3797280" cy="3695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박쥐는 영원불멸의 정보활동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횃불은 영원한 발전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펜촉은 지식탐구를 상징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852280" y="1905120"/>
            <a:ext cx="2681280" cy="22096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7507440"/>
            <a:ext cx="15163920" cy="13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모든 학과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종교학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음악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미술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의학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가정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식품 등 특수학과 제외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) :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86240" y="57780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정     보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0972800" y="2654280"/>
            <a:ext cx="3735360" cy="3470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3399"/>
                </a:solidFill>
                <a:latin typeface="Times New Roman"/>
              </a:rPr>
              <a:t>날개는 하늘은 나는 매</a:t>
            </a:r>
            <a:r>
              <a:rPr b="0" lang="ko-KR" sz="19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ko-KR" sz="1900" spc="-1" strike="noStrike">
                <a:solidFill>
                  <a:srgbClr val="003399"/>
                </a:solidFill>
                <a:latin typeface="Times New Roman"/>
              </a:rPr>
              <a:t>창공의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3399"/>
                </a:solidFill>
                <a:latin typeface="Times New Roman"/>
              </a:rPr>
              <a:t>기수 의미 방패칼은 전투병과와 협동작전을 수행하는 병과의미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86240" y="57780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항      공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9400" y="2549520"/>
            <a:ext cx="943308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4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zh-CN" sz="37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 </a:t>
            </a:r>
            <a:r>
              <a:rPr b="0" lang="en-US" sz="37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zh-CN" sz="37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 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헬기를 이용 병력과 장비 수송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항공기기 및 부속품 검사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교환 및 수리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제업무 수행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79400" y="6058080"/>
            <a:ext cx="13928760" cy="29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7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7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항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•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자동차기계정비계열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컴퓨터자동화시스템계열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영어통역계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정보통신설비계열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컴퓨터응용기계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금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•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금속계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1363400" y="2757600"/>
            <a:ext cx="2881080" cy="22921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2T23:46:17Z</dcterms:created>
  <dc:creator>작전과</dc:creator>
  <dc:description/>
  <dc:language>en-US</dc:language>
  <cp:lastModifiedBy>Preferred Customer</cp:lastModifiedBy>
  <cp:lastPrinted>2001-11-19T16:14:58Z</cp:lastPrinted>
  <dcterms:modified xsi:type="dcterms:W3CDTF">2008-03-11T23:42:50Z</dcterms:modified>
  <cp:revision>2910</cp:revision>
  <dc:subject/>
  <dc:title>D – III 조치사항</dc:title>
</cp:coreProperties>
</file>